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’ve finished the first module already, so you should have some idea of how things work. Just to re-iterate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D6C5B-703F-4927-A285-BDCE255C7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E2233-ADFD-4987-A4CC-EA906093C65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736CE-E703-4814-AEC4-2178AE3395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60F6-1807-4D17-91DD-3366AA28D3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61581-8E55-417A-90C0-39FAF03CEB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E5D7E-40B7-493C-843D-F5AE84A7AF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913D6-812E-483B-8571-53F05DC091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CF06-69A8-49D9-B230-C949897CF9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09312-F15B-4E52-8BD6-5D2A64FABC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0B2E-AF1D-4406-852F-6AD8195868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DA7BF-A03F-4DC2-963A-4FD831F3F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6C9E-456A-4340-80DC-C2DB84492D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1EC-6320-4620-BC0F-1F6106CB76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FCAC-C1FF-430E-8C33-CFC1A7F992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CD7D-4F62-42C8-9186-DA57943472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2FD2-13A4-4048-A4AD-DE31587EE4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DAAE-D52D-4E09-BEA6-B938D48948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AE25-275E-406D-80D5-2A45D8FED7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7D5-007A-4448-A524-83E6A755B0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E59-4828-4175-93D3-125403E46E6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7C12-65F8-403F-AB9B-4D04D5B60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61A-C802-4ED3-A21F-28D5EC3C53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ED3-C2BF-4FF4-8608-D9635DBB07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AA3-02DE-40FF-97E2-2DF89E9131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4D0F3-812C-43EA-8307-20CA5108FD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977DB-DE7B-4E9E-A2D0-D70E3314C5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FA41A-3B31-4B55-A41D-E53661927A4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65882-A415-4650-9BD3-A50D74CD41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43D2C-824D-4002-A411-C4A6730482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83303-1648-449C-A13D-C910907473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61D4A-A72A-429B-82F2-69324A38A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7DE582-1052-4BC8-872D-F2074FFA65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6EB6F-4C59-436B-9B9D-FF3C762400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F8A9C-7874-4A29-9925-E78C984F5F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707E0-1BBA-4D94-8314-4B8226118E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D6F68-E39A-4C3B-B56E-3AEC491E27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AD4A-F2F0-43D3-8AED-30EEEEFF32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9381-4549-4F1E-A3DC-5854FD2E84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73E-5695-4A70-96B9-738CCFBA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D4CB-2690-4C59-8336-DDCD0F9023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B1C0-50A4-440C-A1C8-C81D929B1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3D6D-7949-4ECC-8395-E6F595098C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54EF-2B18-45D8-B58E-8E9FE9071E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AEB8-33D6-4F69-BBAF-D1C3E17235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0BA0-87BF-414C-9782-F30DBDB48C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1B75-BD3E-4C9A-8015-FFC8DB46CE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F835-81FC-4402-A9C3-8BBF64FA6A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698A-81E6-4550-9FC8-2C32F6C5F1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F37F-ED8E-4CF6-828D-15D4C76B1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EB33-A4DB-41C3-9109-8E8F41E580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C4C5-676F-4822-BF8D-BB180A5E46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DCE4-84D7-4D3C-A180-58BFD1B924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36F5-5D45-43DC-A314-F14BD23B7A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98EA-8C41-4B4D-8E2C-D9214271A8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F9BA-149A-44AC-9B79-FED1F126A5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B698-ED5D-449E-B859-F8AEAFEB7B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C704-3315-4AC1-A478-26BD240A41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6CA0-CE52-4A7A-869A-8CA1B0E278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889C-0E54-41A1-BBFE-0462A2A9E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A2BB-AFA3-46DB-8A81-666395B121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D4B-2D49-4A58-916B-2B7D834A7C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E2E-A15C-49AF-A827-7F45D2D045B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1EF-A012-4F21-8A51-23BCE06F31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F8E-9A08-429D-8E6B-C6D5BCA283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182-36A9-4355-998F-BE6382843B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829-CD1A-4A16-8150-DD1DDA9B99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6AE-D021-4BD9-9600-A1854C5EA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93A-89E1-40F6-823E-2CB2C55E5E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BEB-A9E4-4CBD-807B-6A7DBC1853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612-9413-4227-BB75-FCE1C5C04E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BEB-0E08-477C-9D09-EBBAA6109E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5DA-483E-4091-AD93-834E2DBBD2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53ACC-1A07-437E-BD03-1758766ED0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B0E8E-EB3C-401C-BFF8-200FD2C15D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945A3-67B8-45A5-B99D-D45172BF93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6C1B7-BC77-4B28-9872-F476B24F30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867A0-F9CC-4101-A417-36C2B1A70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16C55-7BB4-4D7E-9B7D-A9CA885124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FF3A-8DCE-49DA-9615-71FF25746C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92BE8-141C-4922-82AD-E09E0582BA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45C5-E2F6-475C-B2CE-563594AAAF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E82C4-2A75-45EF-AD88-193B6325A7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D15CC-630A-42AC-9678-14774DE11F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F7801-B8F5-415C-A83D-730C62E33E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5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623-1B0B-41BB-A37F-650350D9168B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6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B6F-4778-49B6-A668-40818CD98EBF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7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92B-B834-4FE0-BFD3-5A88A1D4880B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396252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50940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0712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04840" indent="-330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0256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804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19400" indent="-394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74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888480" y="660240"/>
            <a:ext cx="11201400" cy="842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4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804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19400" indent="-394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74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1269720" y="231120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1269720" y="35809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7424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21780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6132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1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4F8-4132-479F-9465-ACF6EA27C3C4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099-55CB-4779-ABA9-74912568BB54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4DE-5EFA-4CDE-B7F8-C7248B893E18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4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E3B-D084-4DF0-B8E6-86410C3947DC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7424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21780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6132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lenj@physics.usyd.edu.au?subject=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10559520" y="8889840"/>
            <a:ext cx="2271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9B1-A060-45F9-A1B3-2046B81A4CE2}" type="slidenum"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77760" y="2603160"/>
            <a:ext cx="110491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5796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echanic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55880" y="5041440"/>
            <a:ext cx="910584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ream 1: Dr Helen Johnst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m 563. Ph: 9351-215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.johnston@physics.usyd.edu.a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ream 2: Dr Kevin Varvel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m 355. Ph: 9351-2539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4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k.varvell@physics.usyd.edu.a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"/>
          <p:cNvSpPr/>
          <p:nvPr/>
        </p:nvSpPr>
        <p:spPr>
          <a:xfrm>
            <a:off x="977760" y="717480"/>
            <a:ext cx="110491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  <a:ea typeface="Tahoma"/>
              </a:rPr>
              <a:t>PHYS1002 Fundamentals Module 2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What is Mechanics?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inematic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escrib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bjects 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chanics explain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bjects mo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concep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052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052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052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9055080"/>
            <a:ext cx="2921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 Intr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E7B5-F4B6-4B76-A57C-38A201F8DF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JF chapters 4 &amp;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orce?  (Crudely speaking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orce is a push or a pull that 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 the velocity of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use a distortion in the size or shape of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920" y="9055080"/>
            <a:ext cx="2921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0AC-DA05-40A0-B66C-A17D5A104E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Vector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71680" y="1917360"/>
            <a:ext cx="1173456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ce is a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vecto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it has direction &amp; magnitu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.I. Unit of force: newton, N (or kg m s</a:t>
            </a:r>
            <a:r>
              <a:rPr b="0" lang="en-US" sz="4000" spc="-1" strike="noStrike" baseline="32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be resolved into components at right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or more forces acting on the same object are added by the rules of vector addition (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sulta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orc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4920" y="9055080"/>
            <a:ext cx="528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2 &amp; see "Vector Algebra Notes"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11D18-E4D9-4677-A5BE-5C95B20777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732-DF0C-4FDA-A420-DF16D6BCF436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Adding Vector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304920" y="9055080"/>
            <a:ext cx="5283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2 &amp; see "Vector Algebra Notes"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622440" y="2438280"/>
            <a:ext cx="4079880" cy="487692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5816520" y="2438280"/>
            <a:ext cx="69645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 in Mechanic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ces are eithe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shes / Pu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sion in 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virtually all common contact forces are actually electromagne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ng-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vity (Weigh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4920" y="9055080"/>
            <a:ext cx="2921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7988400" y="2335320"/>
            <a:ext cx="427500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3A189-9D86-42D0-AFD9-4CA35D68FD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undamental Forces</a:t>
            </a:r>
            <a:br>
              <a:rPr sz="6000"/>
            </a:b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(not examinable)</a:t>
            </a:r>
            <a:endParaRPr b="0" lang="en-US" sz="4200" spc="-1" strike="noStrike">
              <a:solidFill>
                <a:srgbClr val="ff33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12520" y="212076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ent theory says that all known forces can be shown to be due to three fundamental forces in natu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317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Gravitation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— between m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317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lectrowe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electromagnetic+weak nuclear) — between charg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317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nuclear for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— between particles in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9B57-CA1D-44FC-99C7-78D9E700A6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6176880" y="6959520"/>
            <a:ext cx="6826320" cy="294660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: Tension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7800" y="1803240"/>
            <a:ext cx="122554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string of negligible mass and stiffness ("ideal string") is pulled tight, both ends of the string pull back with a force called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en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sion always pulls inwards along the direction of the st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ces at both ends of the string are always the same magnitude.  The tension is the same all the way along the st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3FC4-ABC2-49F0-BDD4-FE53DF8F8D20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0C4EC-8E5F-463A-943A-96FBB28FD99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311560" y="5994360"/>
            <a:ext cx="9740880" cy="40640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: Friction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11360" y="1917360"/>
            <a:ext cx="115696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ction is a force exerted by a surface. It is always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aralle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the surface, and always opposes the direction of motion of slippage of the surface making cont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ill look at friction in more detail in Lecture 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A34-E3B7-4B51-8352-D4928A998A3F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E90B1-F9C0-4418-97F2-8054901EDFB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: Normal forc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one pushes against a planar surface, the planar surface pushes back with a force perpendicular (“normal”) to that surf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mal force always adjusts itself exactly to cancel motion through the surface (unless surface breaks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8547120" y="5635800"/>
            <a:ext cx="3822840" cy="390816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316080" y="7139160"/>
            <a:ext cx="7607160" cy="236988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69F17-7E07-4875-861D-F07BFA23B8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mechanics01.ppt_media/blkholeintro-1.mov" descr=""/>
          <p:cNvPicPr/>
          <p:nvPr/>
        </p:nvPicPr>
        <p:blipFill>
          <a:blip r:embed="rId1"/>
          <a:stretch/>
        </p:blipFill>
        <p:spPr>
          <a:xfrm>
            <a:off x="177840" y="-5076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7574040" y="2108160"/>
            <a:ext cx="5405400" cy="76453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571680" y="5969160"/>
            <a:ext cx="65404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My research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black holes in binary star system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supermassive black holes in the centres of galaxi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s: Weight and Mas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0840" y="1676160"/>
            <a:ext cx="1240812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 forc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∴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the S.I. unit of weight is newtons (N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ight is the force exerted on a body by gra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ight is a ve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54080" y="5270400"/>
            <a:ext cx="1093464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is the “quantity of matter” in a body, “how much stuff”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.I. unit of mass is kilograms (kg)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is a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la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"/>
          <p:cNvSpPr/>
          <p:nvPr/>
        </p:nvSpPr>
        <p:spPr>
          <a:xfrm>
            <a:off x="304920" y="9055080"/>
            <a:ext cx="350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, see also §5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6CDA1-1ECB-41BE-BFA4-C50AF8BB8EA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first and second la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4.3 and 4.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PHYS 1002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l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hours lab (25%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hour tutorial (2%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assignments (7%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ILDs (3%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exam (63%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Where to go for help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friend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arning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sics Student Support office, Room 2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tu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lectu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ty tutor: 1–2 pm, Tues-Fri, Physics LT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hs Learning Centre (Level 4 Carsla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extbook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ge Physics” by Knight, Jones and Field (KJ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stering Physic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ill be assigning reading from the textbook during the cou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slides and recordings are available on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Past exam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exam consist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short-answer questions (5 marks eac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long-answer questions (10 marks eac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ormula sheet is provided in the ex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 papers from the past few years are available through WebCT, together with worked solu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Answering physics problem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some words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’t substitute numbers in until 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sure you have units on your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odule conten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42720" y="2768760"/>
            <a:ext cx="1193796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ight, Jones &amp; Field (KJF): College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8840" indent="-317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s 4 &amp; 5: Force and Newton’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8840" indent="-317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6: Circular 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8840" indent="-317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s 7 &amp; 8: Torque and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8840" indent="-317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9: 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8840" indent="-317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10: Energy an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782C-693D-4F9F-A634-DF2E0316D8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