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FCBAE-592C-4665-9ABA-E8CD082C8D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48582-571E-4CB4-895D-136CCF0C3F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EA3AC-F8AE-4063-8CDE-1A0222CCB4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4D93C-8C39-421A-981A-359079838D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977F1-E26D-4CA4-A917-7792DA15D2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F8754-5987-4BFF-A1D4-4DE226222C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25123-4CE0-45C7-9638-8D216E2ECC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5060F-BD2E-4A84-9233-89510D79D3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279C8-A829-4F74-8783-CE56239D9E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2694-00D6-4D03-BF52-F5FA6A0D5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255C-CFDB-4CAA-962B-BDF8A5DB7E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8E2F-F87B-4557-9CEE-ECB60E9B58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F5CF-A248-4A6A-A353-9CC08F4E29A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8838-1921-43B3-9523-4553AEC020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BD9A-A939-4A5D-B322-36499E1C81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939B-BB24-4A59-BBB5-2D3434C246C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A4A5-DE05-418B-ADA2-CC3104ADD1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4E53-A929-4DBD-B34D-151F977CBE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D4C9-2738-4DDA-A931-BAF44A21C1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DE48-D609-405C-8078-FD4DC61CF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9109-9044-4D28-A86D-6F5F929A6F3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DBBDB-A4BE-4AE6-BF17-CDC64CCAA2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2C7A4-CA76-472E-B457-F739C15AE5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F4483-30E2-40BF-842A-8D66411D62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5D275-CD68-432E-ABEB-4D901602EF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88F98-51C8-4000-881B-0C45329930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22A91-7A7D-43B4-B13F-5B77D857E7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48884-C388-43F8-95A6-1EF42896A3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8517E-0B5F-4F68-A0AC-B9C7C518FD8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7BB04-DE77-4EBF-AC41-AEC2108F3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F16F-560A-47A2-8D8E-EA3A63C844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CDC6B-4BAB-4E9C-99E7-800AE6F6ABB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413A6-BC5F-4AFF-B61C-50982001CB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D1E76-96E3-46F1-ABFF-73B0B3812B6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323A-E5FC-4CAD-9392-FE2312C006D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6FD9-9D3B-428D-846A-31155E8F56C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A95B-089F-44BA-BCAA-447C8C85B3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6749-62CF-4608-9B2B-D5D5D391CB1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6D4F-9D36-488B-8983-3DF0E6D89C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A6BE-AD54-423D-905B-E7C91E5CD84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4584-8FE4-418E-8A50-8B51845E65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7BC2-1313-478D-AAE5-086202A37DF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FADE-296A-472C-B21C-25437C60799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17A0-9CFB-4A78-B6AE-3F0F02DFDFE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9DB9-2033-4043-A7C7-30AEC2F3E27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5F40-0879-40C7-83E5-FD66A9405C6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0720-433C-4DD9-BBC9-08DE4E3D2B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C8BD-1E63-4990-9A4B-11941263A93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C0D1-26B0-48C1-91F9-303B016809A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CC2C-7FD1-4182-BA00-01139E97817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16CA-F100-4B9B-86EA-0DEE61B9A1B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C45-FB50-4EE3-8368-4A62226690F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B25A1-BCAF-40EA-8DF4-DEF7867E1E4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FEF31-685D-47DD-8D69-43248BFF447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CED2B-760C-4073-8797-DC1E87F48FA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8F4E4-ADC9-4458-AD8C-FD0CF7E9867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11D51-2C57-4B23-B253-E3C650B4985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086CD-D717-4124-BBC4-9827F184772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D74AD-A61B-453D-B8D3-6BC9A5CD41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FDC1-3CFE-459E-B30B-ED1179A9F57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FC173-9410-45A0-B7D5-F167ACAB708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C0B5B-C5D9-4651-B47E-1733CA287E1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5C234-5205-4337-B84E-A355533C637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47078-EF12-4E8D-9A5B-D5DD898ACCD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09E81-D678-4597-A473-462086032FD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FDFE-DCA7-4F71-9047-FAEB0479D13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951D-2E2C-4336-9791-1342331B19A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C76B-7A51-44E3-9D49-51D2E82FD2C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CC38-CF5B-4543-B563-CC3F683128A2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1FC5-2650-4F47-9BC1-989A3D89E1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B00B-86B3-4338-8BAB-65844B5DA18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78F2-976F-4B92-BB7C-A822213EBB0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3972-1418-448D-B3F9-B25A1EA550C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93FC-4940-466E-9244-88835B9188A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ACEF-5EA3-436C-BCB6-BD4B4849432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4999-CF51-45E1-A990-FDA892FDE78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6A14-340C-43C1-8503-CE4229C6CAB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CFB8-BE7D-4FCF-99FD-091AB366776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23763-BAD3-49D3-8DE3-4E194320794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15E72-36F5-473E-A692-41522213ED8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D15BA-8977-4182-BEED-4E959EB8E0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7886-C1A4-480F-A055-F6995AF8593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4BC9C-78A4-4C1C-A0E9-8D1EE8C0FF5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BF760-39D6-4416-A9C1-37EC1060B20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46032-90B4-4502-9AA2-FFF1C91DB81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C72F9-BADD-4991-838D-4930E4381F0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BDDF23-E3E5-4DBC-A136-A38E08A69A5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95C52E-C328-4D59-B1B1-157299C00F4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5ACE1-440B-4652-904F-02087534DE5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9F268-EFD5-4842-8735-618FE326843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FB5F2-CF52-499F-A920-70A120FF0A8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10339-D54B-4FCC-83F0-E592AD7F29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ED97-7B04-4DE7-9EA0-CB48170D695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E688C-9F08-4B6C-8BDD-0364C55C713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977E6-0029-484F-816B-8E53FF7FB07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D5BAD-348E-4BF9-9826-9025D4CCD93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C4E4B-7A6C-4F6E-9CBA-EA28D54A89A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EE7CD-8501-4333-AAA0-6F4A8D77AC68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6CF8A-FB0E-4CC6-833D-A5587FB25F8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4D0EC-13F7-40A7-BC7B-13BFCAEEE7F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E0904-E3B0-4262-A570-16DEA13EA69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A0446-6600-472B-BB9E-343EE110456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33955-9E79-46A7-9BE2-3EBC1460EC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16DC-8B63-4270-B195-A66C3ADE8A6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16F26-03FC-429D-B5F4-9BD49265A5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55A-5617-4813-B5C1-42A5222B1C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F7F-9C45-4B54-8369-D35009A132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993-01E0-4D1C-82E4-5E2436F7F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1E3-1189-4839-BF02-6DC108A442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C42-BA65-4FFB-8266-2034889DD9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BBD-AF8D-41C0-B85F-21580FC14E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35-68D4-40A5-9EA5-8CFBE812E1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248-8E53-4475-A4A4-9574129E8C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630-6971-4930-9EAE-63E44BF998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590-3B50-4CD1-AE47-D9CF74A754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A8F-566A-442C-90BC-32DFAA1184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555-42DC-4564-AEA8-FFFCCCA9F2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C6F3-D291-4805-B630-4B7F7CAF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9A6D0-FE58-4073-8BB4-9B9B656500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15965-FCD0-4CC8-AAD2-4DCB9D841F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21FC4-1E98-459C-B718-F8E9A1718D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F920-40BD-4C32-B0A1-87DD860E76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EE73-5E82-423A-B370-3CA1684685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F71D-3377-4DEC-9718-936295D7F4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128D-465E-47DB-AF50-2E5229BE93A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10605-A41D-49E8-83DE-A5CBFCDCF0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D4BD8-D956-4149-B909-44C8150722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4E95-5F82-4228-B5F8-352E9B9E0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BA25-CEE0-49E9-9573-514C185E67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A8DA9-F7C5-44AA-9268-43C7BF1B39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6783-7E7F-48D8-9015-C826D4C5DE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909C-67E5-4E5A-B51F-9B3D0A2C80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A8EF-FC40-4972-AED7-9DF7D79827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EDFA-0A7D-472A-9AFC-CF00FD1A1B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C6F07-8CF5-4F19-B403-DB6B702BA8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CB0DC-4116-48F0-AB56-ED09324162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676F1-60CE-4D7B-A5E9-953860A51C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F370F-2156-46BB-8807-04E6345DB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5980-689B-405C-B797-240BFA90EA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371C-9298-4868-AC39-5DF68633A9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A1C1-773A-4870-8246-C7E40F531D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067B-81ED-4798-A16D-1E5C937FF5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E71-967E-459C-B477-17A95660BA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171-850C-47CE-84C3-40D9857BA1F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1AD5-9147-470A-8173-AFCF033221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141-C19D-4095-9C47-5A395CD20E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484-DA19-4D43-974B-57081258B1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C1DB-FF86-42F3-9AF5-0CF7C82B6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548-B4E7-444D-A78D-B7E1D67479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00FA-EE97-428F-AE3A-73E6C8FE6F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4118-46FE-4108-AA7D-5D43B88087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076-B3CE-4B97-A2A1-119BAB1E3C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C883-BE86-4669-90D0-1BD2052505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F889C-3ABF-4B50-A88D-472CA5F0BC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8784A-E410-42AB-B902-75271D14263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C6F98-299C-40FA-988C-F9CD8F14B0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9847F-1EE2-471C-A1C9-5F06B647C8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5760C-45EC-4034-AA7A-2C5752EE1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269720" y="2781360"/>
            <a:ext cx="10464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83FE6-F3AD-4422-B1E7-78FE97EA34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225A8-E601-4C2B-BBD8-76C36D2A29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91B8B-DA7C-41D9-A594-2B8ECA108C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1F248-80AE-4D20-BC65-2C0C4DBA1C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69720" y="7058880"/>
            <a:ext cx="1046484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C52A2-C271-4270-B8A2-89F7102A02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697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31920" y="7058880"/>
            <a:ext cx="5106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0B0C8-CA26-48BA-9351-36C93C0AF1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6972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80816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346600" y="7058880"/>
            <a:ext cx="3369600" cy="185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83D60-ADCD-4BDE-AEA5-A03621D96C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9F4FA-4C13-468F-AA80-28A31E6985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C4AED-9349-4B83-9817-3BDB97F71C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29D98-ABA2-47C6-8470-42816F6FC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231120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35809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2C81-91AA-4E14-B583-11EE5B12BA3E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B10-ED6F-4DC0-B6E1-02C820448954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804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19400" indent="-394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74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396252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50940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0712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04840" indent="-330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0256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00640" indent="-3304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804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19400" indent="-394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7472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030400" indent="-394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888480" y="660240"/>
            <a:ext cx="11201400" cy="842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4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32D-E00B-4F59-BBF2-F9216D8AF651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1269720" y="231120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269720" y="35809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977760" y="2069640"/>
            <a:ext cx="1104912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t">
            <a:normAutofit/>
          </a:bodyPr>
          <a:p>
            <a:pPr marL="380880" indent="-342720">
              <a:spcBef>
                <a:spcPts val="1100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1100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1100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977760" y="-360"/>
            <a:ext cx="1104912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b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Num" idx="11"/>
          </p:nvPr>
        </p:nvSpPr>
        <p:spPr>
          <a:xfrm>
            <a:off x="12294720" y="9080280"/>
            <a:ext cx="453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A75C-7A6D-4ACD-A8BC-A9E528DDD62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77760" y="2069640"/>
            <a:ext cx="1104912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t">
            <a:normAutofit/>
          </a:bodyPr>
          <a:p>
            <a:pPr marL="380880" indent="-342720">
              <a:spcBef>
                <a:spcPts val="1100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1100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1100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977760" y="-360"/>
            <a:ext cx="1104912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b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Num" idx="12"/>
          </p:nvPr>
        </p:nvSpPr>
        <p:spPr>
          <a:xfrm>
            <a:off x="12294720" y="9080280"/>
            <a:ext cx="453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14A6-F992-4292-9F03-EE135F6730C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77760" y="2069640"/>
            <a:ext cx="1104912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t">
            <a:normAutofit/>
          </a:bodyPr>
          <a:p>
            <a:pPr marL="380880" indent="-342720">
              <a:spcBef>
                <a:spcPts val="1100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1100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1100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title"/>
          </p:nvPr>
        </p:nvSpPr>
        <p:spPr>
          <a:xfrm>
            <a:off x="977760" y="-360"/>
            <a:ext cx="1104912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b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13"/>
          </p:nvPr>
        </p:nvSpPr>
        <p:spPr>
          <a:xfrm>
            <a:off x="12294720" y="9080280"/>
            <a:ext cx="453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CDB-102F-4C10-8A25-28A81861089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E60-7FA6-47CA-A421-B7A7750DB31F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77760" y="2069640"/>
            <a:ext cx="11049120" cy="76834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t">
            <a:normAutofit/>
          </a:bodyPr>
          <a:p>
            <a:pPr marL="380880" indent="-342720">
              <a:spcBef>
                <a:spcPts val="1100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1100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1100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title"/>
          </p:nvPr>
        </p:nvSpPr>
        <p:spPr>
          <a:xfrm>
            <a:off x="977760" y="-360"/>
            <a:ext cx="1104912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07280" tIns="50760" bIns="50760" anchor="b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Num" idx="14"/>
          </p:nvPr>
        </p:nvSpPr>
        <p:spPr>
          <a:xfrm>
            <a:off x="12294720" y="9080280"/>
            <a:ext cx="453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22A-A17E-4D08-A94B-7E9375B26AD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99A-3EF8-41D6-85D1-557759D568DC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7424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2178000" indent="-5601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613240" indent="-559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613240" indent="-55980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480" y="660240"/>
            <a:ext cx="11201400" cy="842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4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49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5074-AB21-4060-847F-351F70480925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F07-D24A-46E1-8938-FFCD16D87F39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3F6-48DE-4293-B767-FF5B4A2F397D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CB1-9DF0-41D1-B16F-2515B562EA09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09F1-0372-4110-85ED-8788B02F6FDD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269720" y="35809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Newton’s first and second laws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269720" y="231120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ecture 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>
            <a:off x="3031920" y="7480080"/>
            <a:ext cx="693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4.3 and 4.4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Calculating the net forc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can be many separate forces acting on a body, but only one acceleration. N2L tells us that the acceleration is proportional to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the net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the vector sum of all the forces act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calculate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we draw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ee-body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22560" y="9096840"/>
            <a:ext cx="110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1840" tIns="0" bIns="0" anchor="ctr">
            <a:sp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7C85-3F7A-40E1-90F3-5C1AD547F3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52280" y="1803240"/>
            <a:ext cx="1136664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:  A diagram showing all the forces acting on a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a dot to represent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each force acting on the body as an arrow originating at the d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the net force v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ree-body diagram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80" name=""/>
          <p:cNvSpPr/>
          <p:nvPr/>
        </p:nvSpPr>
        <p:spPr>
          <a:xfrm>
            <a:off x="304920" y="9055080"/>
            <a:ext cx="170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3672E-ADC9-4668-85F1-37E0380569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/>
          </p:nvPr>
        </p:nvSpPr>
        <p:spPr>
          <a:xfrm>
            <a:off x="63360" y="5092560"/>
            <a:ext cx="11366640" cy="416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dentify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dentify contact forces and long-range fo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raw a FB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ces are shown on free-body diagrams (not velocities etc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939960" y="1066680"/>
            <a:ext cx="3463920" cy="325116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2"/>
          <a:stretch/>
        </p:blipFill>
        <p:spPr>
          <a:xfrm>
            <a:off x="5207040" y="1066680"/>
            <a:ext cx="3000240" cy="3251160"/>
          </a:xfrm>
          <a:prstGeom prst="rect">
            <a:avLst/>
          </a:prstGeom>
          <a:ln w="0">
            <a:noFill/>
          </a:ln>
        </p:spPr>
      </p:pic>
      <p:grpSp>
        <p:nvGrpSpPr>
          <p:cNvPr id="1184" name=""/>
          <p:cNvGrpSpPr/>
          <p:nvPr/>
        </p:nvGrpSpPr>
        <p:grpSpPr>
          <a:xfrm>
            <a:off x="9191520" y="538200"/>
            <a:ext cx="3152880" cy="4046400"/>
            <a:chOff x="9191520" y="538200"/>
            <a:chExt cx="3152880" cy="4046400"/>
          </a:xfrm>
        </p:grpSpPr>
        <p:sp>
          <p:nvSpPr>
            <p:cNvPr id="1185" name=""/>
            <p:cNvSpPr/>
            <p:nvPr/>
          </p:nvSpPr>
          <p:spPr>
            <a:xfrm flipV="1">
              <a:off x="9472680" y="2678040"/>
              <a:ext cx="1103040" cy="48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059840" y="1230480"/>
              <a:ext cx="544680" cy="140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740880" y="538200"/>
              <a:ext cx="584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4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04520" y="2649600"/>
              <a:ext cx="0" cy="1461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247040" y="3886200"/>
              <a:ext cx="711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4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604520" y="1974600"/>
              <a:ext cx="1404720" cy="646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1952360" y="1609920"/>
              <a:ext cx="392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</a:t>
              </a:r>
              <a:endParaRPr b="0" lang="en-US" sz="4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191520" y="2786040"/>
              <a:ext cx="268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endParaRPr b="0" lang="en-US" sz="4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490040" y="253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653B8-E190-4F51-93FD-5EB68E5CB0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xamples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each example on the sheet, draw a free-body diagr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a dot to represent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each force acting on the body as an arrow originating at the d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aw the net force v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5DEDA-4820-4D63-A84B-65D90F7CDF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wton’s Second Law (2)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2318840" cy="735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also write ∑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to remind us to use net for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ly the forces ON a particular body ("the system") are combined to find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leration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same direction as net forc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can separate the components of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to give the equation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, a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en-US" sz="3400" spc="-1" strike="noStrike" baseline="-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ich are now (signed) scalar equation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0 body is in “equilibrium”.  Sum of force vectors forms a closed loop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F4A1-D720-4966-ACD3-FF89711212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" descr=""/>
          <p:cNvPicPr/>
          <p:nvPr/>
        </p:nvPicPr>
        <p:blipFill>
          <a:blip r:embed="rId1"/>
          <a:stretch/>
        </p:blipFill>
        <p:spPr>
          <a:xfrm>
            <a:off x="814320" y="4229280"/>
            <a:ext cx="4967280" cy="43527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-127440" y="1790280"/>
            <a:ext cx="12674520" cy="221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ension in (and direction of) the rope attached to the elephant. Everyone is stationary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Use 3 sig fi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39520" y="7985520"/>
            <a:ext cx="642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6520" tIns="0" bIns="0" anchor="ctr">
            <a:spAutoFit/>
          </a:bodyPr>
          <a:p>
            <a:pPr marL="542880" indent="-48744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ctr" pos="628668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θ = </a:t>
            </a:r>
            <a:r>
              <a:rPr b="1" i="1" lang="en-US" sz="4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6.9° south of wes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59CFF-1A38-4D89-BAE4-13D7955240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2008 exam Q10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812880" y="1473120"/>
            <a:ext cx="11264760" cy="809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254A5-65F1-49A7-A5B7-93655134747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xample 2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457520" y="2019240"/>
            <a:ext cx="767052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box is held in position by a cable along a smooth slope, as sh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θ=60°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50 kg, find the tension in the cable and normal force exerted by the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939960" y="2959200"/>
            <a:ext cx="4075200" cy="6464160"/>
            <a:chOff x="939960" y="2959200"/>
            <a:chExt cx="4075200" cy="6464160"/>
          </a:xfrm>
        </p:grpSpPr>
        <p:sp>
          <p:nvSpPr>
            <p:cNvPr id="1209" name=""/>
            <p:cNvSpPr/>
            <p:nvPr/>
          </p:nvSpPr>
          <p:spPr>
            <a:xfrm>
              <a:off x="1499760" y="4470480"/>
              <a:ext cx="3134880" cy="49528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9800000">
              <a:off x="3639240" y="6916320"/>
              <a:ext cx="1035720" cy="163836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9960" y="3899160"/>
              <a:ext cx="2148120" cy="31366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39960" y="2959200"/>
              <a:ext cx="699840" cy="6464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3429000" y="8813880"/>
            <a:ext cx="482760" cy="622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"/>
          <p:cNvSpPr/>
          <p:nvPr/>
        </p:nvSpPr>
        <p:spPr>
          <a:xfrm>
            <a:off x="3766680" y="8953560"/>
            <a:ext cx="22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Lucida Grande"/>
              </a:rPr>
              <a:t>θ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D1819-E190-4AC7-8C93-2B8CCD3C3E9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Weight, again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12520" y="1968120"/>
            <a:ext cx="1136628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2880" indent="0">
              <a:lnSpc>
                <a:spcPct val="90000"/>
              </a:lnSpc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ight is the force exerted on a body by grav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vity acts vertically so consider only vertical compon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4000" spc="-1" strike="noStrike" baseline="-21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4000" spc="-1" strike="noStrike" baseline="-21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i="1" lang="en-US" sz="4000" spc="-1" strike="noStrike" baseline="-21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free fall, accelera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9.8 m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4000" spc="-1" strike="noStrike" baseline="-21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 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erson with a mass of 70 kg has a 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0" algn="ctr">
              <a:lnSpc>
                <a:spcPct val="90000"/>
              </a:lnSpc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70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9.8 m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690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0" algn="ctr">
              <a:lnSpc>
                <a:spcPct val="90000"/>
              </a:lnSpc>
              <a:buNone/>
              <a:tabLst>
                <a:tab algn="l" pos="0"/>
                <a:tab algn="ctr" pos="5740560"/>
                <a:tab algn="r" pos="11430000"/>
                <a:tab algn="l" pos="1174752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(downwards! Always give vector's direction) 2 sig figs!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DB70D-8845-4226-B1C8-1B4F42DA97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woman has a mass of 55.0 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er weight on ear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her mass and her weight on the moon, 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1.62 ms</a:t>
            </a:r>
            <a:r>
              <a:rPr b="0" lang="en-US" sz="4000" spc="-1" strike="noStrike" baseline="32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9131400" y="4572000"/>
            <a:ext cx="2603520" cy="416088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99354-731F-46C0-803E-1B2F6FBB3A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Recall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ces are eithe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shes / Pu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sion in 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virtually all common contact forces are actually electromagne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ng-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12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vity (Weigh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4920" y="9055080"/>
            <a:ext cx="2921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7988400" y="2335320"/>
            <a:ext cx="427500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2740-3F6F-4CB8-AEA8-E98E507980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269720" y="278136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tive Lecture Demonstration (IL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first and second la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wtons First Law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no net external force is applied to an object, its velocity will remain constant ("inert"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body cannot change its state of motion without outside infl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41320" y="1320840"/>
            <a:ext cx="4518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  <a:ea typeface="Tahoma"/>
              </a:rPr>
              <a:t>or Law of Inertia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>
            <a:off x="304920" y="9055080"/>
            <a:ext cx="170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1DC4-F12F-46E9-AD29-7467F108BB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6473880" cy="975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6337440" y="929592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FE44-A791-447A-80B6-9397772BBF13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24F-FE9A-4209-B292-F0D6704F46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888480" y="660240"/>
            <a:ext cx="11201400" cy="842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4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317520">
              <a:lnSpc>
                <a:spcPct val="100000"/>
              </a:lnSpc>
              <a:spcBef>
                <a:spcPts val="49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th magnitud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direction are consta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317520">
              <a:lnSpc>
                <a:spcPct val="100000"/>
              </a:lnSpc>
              <a:spcBef>
                <a:spcPts val="49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“at rest”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= 0, will remain at 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3320" indent="-317520">
              <a:lnSpc>
                <a:spcPct val="100000"/>
              </a:lnSpc>
              <a:spcBef>
                <a:spcPts val="49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es if resultant force = 0 ("net" means resulta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D298-96C0-40AD-BB72-E3269391C5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3800" y="2107800"/>
            <a:ext cx="834372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ockey puck on a string, being rotated rapidly on a horizontal sheet of 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.e. we can ignore vertical forces &amp; fric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 go of st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way does it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8039160" y="2387520"/>
            <a:ext cx="4640040" cy="601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9309-9BF1-4E2C-8BCA-7E38ABF394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wtons First Law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61760" y="2476440"/>
            <a:ext cx="1136628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no net external force is applied to an object, its velocity will remain constant ("inert"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body cannot change its state of motion without outside infl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441320" y="1320840"/>
            <a:ext cx="4518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  <a:ea typeface="Tahoma"/>
              </a:rPr>
              <a:t>or Law of Inertia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304920" y="9055080"/>
            <a:ext cx="170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8" name=""/>
          <p:cNvSpPr/>
          <p:nvPr/>
        </p:nvSpPr>
        <p:spPr>
          <a:xfrm>
            <a:off x="3426480" y="7839000"/>
            <a:ext cx="60372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f there is a net force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F9487-971A-45B4-B66F-DD42CFC279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Force and Acceleration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36628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show experimentally that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 ∝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or constant 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show experimentally that |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| ∝ 1/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or constant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s we h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 ∝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in other word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41DC-E5C2-4559-8CB6-5082D5485E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003320" y="-360"/>
            <a:ext cx="1104912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Newton’s Second Law</a:t>
            </a:r>
            <a:endParaRPr b="0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61760" y="2019240"/>
            <a:ext cx="1162044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7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i="1" lang="en-US" sz="7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0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the resultant or “net” force on a body (N), m is its mass (kg), and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cceleration (ms</a:t>
            </a:r>
            <a:r>
              <a:rPr b="0" lang="en-US" sz="4000" spc="-1" strike="noStrike" baseline="32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quenc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sum of all forces on a body does not add to zero, then acceleration occurs;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 body is accelerating, there must be a force on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4920" y="9055080"/>
            <a:ext cx="1434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840" tIns="0" bIns="0" anchor="t">
            <a:noAutofit/>
          </a:bodyPr>
          <a:p>
            <a:pPr marL="50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ahoma"/>
                <a:ea typeface="Tahoma"/>
              </a:rPr>
              <a:t>KJF §4.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E79-6851-4F56-8347-C3342FE5D2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