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990360" y="550944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ubTitle"/>
          </p:nvPr>
        </p:nvSpPr>
        <p:spPr>
          <a:xfrm>
            <a:off x="990360" y="2171520"/>
            <a:ext cx="817884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518112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990360" y="550944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518112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375588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52140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99036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/>
          </p:nvPr>
        </p:nvSpPr>
        <p:spPr>
          <a:xfrm>
            <a:off x="375588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7"/>
          <p:cNvSpPr>
            <a:spLocks noGrp="1"/>
          </p:cNvSpPr>
          <p:nvPr>
            <p:ph/>
          </p:nvPr>
        </p:nvSpPr>
        <p:spPr>
          <a:xfrm>
            <a:off x="652140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18112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ubTitle"/>
          </p:nvPr>
        </p:nvSpPr>
        <p:spPr>
          <a:xfrm>
            <a:off x="990360" y="3924000"/>
            <a:ext cx="8178840" cy="30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ubTitle"/>
          </p:nvPr>
        </p:nvSpPr>
        <p:spPr>
          <a:xfrm>
            <a:off x="990360" y="2171520"/>
            <a:ext cx="817884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18112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990360" y="550944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518112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75588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52140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99036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75588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52140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75588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652140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99036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/>
          </p:nvPr>
        </p:nvSpPr>
        <p:spPr>
          <a:xfrm>
            <a:off x="375588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7"/>
          <p:cNvSpPr>
            <a:spLocks noGrp="1"/>
          </p:cNvSpPr>
          <p:nvPr>
            <p:ph/>
          </p:nvPr>
        </p:nvSpPr>
        <p:spPr>
          <a:xfrm>
            <a:off x="652140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990360" y="3924000"/>
            <a:ext cx="8178840" cy="30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990360" y="2171520"/>
            <a:ext cx="817884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518112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990360" y="550944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518112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375588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52140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99036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375588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52140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990360" y="3924000"/>
            <a:ext cx="8178840" cy="30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990360" y="2171520"/>
            <a:ext cx="817884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990360" y="3924000"/>
            <a:ext cx="8178840" cy="30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518112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990360" y="550944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518112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375588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52140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99036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375588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652140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subTitle"/>
          </p:nvPr>
        </p:nvSpPr>
        <p:spPr>
          <a:xfrm>
            <a:off x="990360" y="3924000"/>
            <a:ext cx="8178840" cy="30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ubTitle"/>
          </p:nvPr>
        </p:nvSpPr>
        <p:spPr>
          <a:xfrm>
            <a:off x="990360" y="2171520"/>
            <a:ext cx="817884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18112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990360" y="550944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518112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75588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52140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99036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6"/>
          <p:cNvSpPr>
            <a:spLocks noGrp="1"/>
          </p:cNvSpPr>
          <p:nvPr>
            <p:ph/>
          </p:nvPr>
        </p:nvSpPr>
        <p:spPr>
          <a:xfrm>
            <a:off x="375588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7"/>
          <p:cNvSpPr>
            <a:spLocks noGrp="1"/>
          </p:cNvSpPr>
          <p:nvPr>
            <p:ph/>
          </p:nvPr>
        </p:nvSpPr>
        <p:spPr>
          <a:xfrm>
            <a:off x="652140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subTitle"/>
          </p:nvPr>
        </p:nvSpPr>
        <p:spPr>
          <a:xfrm>
            <a:off x="990360" y="3924000"/>
            <a:ext cx="8178840" cy="30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ubTitle"/>
          </p:nvPr>
        </p:nvSpPr>
        <p:spPr>
          <a:xfrm>
            <a:off x="990360" y="2171520"/>
            <a:ext cx="817884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518112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990360" y="550944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18112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375588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652140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99036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6"/>
          <p:cNvSpPr>
            <a:spLocks noGrp="1"/>
          </p:cNvSpPr>
          <p:nvPr>
            <p:ph/>
          </p:nvPr>
        </p:nvSpPr>
        <p:spPr>
          <a:xfrm>
            <a:off x="375588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7"/>
          <p:cNvSpPr>
            <a:spLocks noGrp="1"/>
          </p:cNvSpPr>
          <p:nvPr>
            <p:ph/>
          </p:nvPr>
        </p:nvSpPr>
        <p:spPr>
          <a:xfrm>
            <a:off x="652140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990360" y="3924000"/>
            <a:ext cx="8178840" cy="30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990360" y="2171520"/>
            <a:ext cx="817884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518112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990360" y="550944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518112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990360" y="2171520"/>
            <a:ext cx="817884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75588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652140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99036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75588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652140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24EEAD-AF50-4CD8-BD84-A02B19A61A55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 type="subTitle"/>
          </p:nvPr>
        </p:nvSpPr>
        <p:spPr>
          <a:xfrm>
            <a:off x="990360" y="3924000"/>
            <a:ext cx="8178840" cy="30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F49B69-B5FA-4354-8E90-6BD6C92521DA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A79E07-C6B4-4D50-BA89-F838CA0962E7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DEB1EF-BE5A-45DE-9959-CEC0A44DEBCF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F5CE8B-B2E2-4247-BAAD-879B04C1B948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subTitle"/>
          </p:nvPr>
        </p:nvSpPr>
        <p:spPr>
          <a:xfrm>
            <a:off x="990360" y="2171520"/>
            <a:ext cx="817884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ABC5B9-B5A3-40C5-AFF6-AD6660A3B9D9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A14781-5755-47D1-A489-AC4023110754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518112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777D1D-BBB1-4BAC-9F5A-B6051D0A7FC8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C69DDB-5427-4E35-8147-31696F8001D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990360" y="550944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D28F14-ED23-4ADE-8F49-A3E37E5C7DC3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5"/>
          <p:cNvSpPr>
            <a:spLocks noGrp="1"/>
          </p:cNvSpPr>
          <p:nvPr>
            <p:ph/>
          </p:nvPr>
        </p:nvSpPr>
        <p:spPr>
          <a:xfrm>
            <a:off x="518112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FE7F8-7098-4B5F-9D10-826872CAD234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375588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652140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PlaceHolder 5"/>
          <p:cNvSpPr>
            <a:spLocks noGrp="1"/>
          </p:cNvSpPr>
          <p:nvPr>
            <p:ph/>
          </p:nvPr>
        </p:nvSpPr>
        <p:spPr>
          <a:xfrm>
            <a:off x="99036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6"/>
          <p:cNvSpPr>
            <a:spLocks noGrp="1"/>
          </p:cNvSpPr>
          <p:nvPr>
            <p:ph/>
          </p:nvPr>
        </p:nvSpPr>
        <p:spPr>
          <a:xfrm>
            <a:off x="375588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7"/>
          <p:cNvSpPr>
            <a:spLocks noGrp="1"/>
          </p:cNvSpPr>
          <p:nvPr>
            <p:ph/>
          </p:nvPr>
        </p:nvSpPr>
        <p:spPr>
          <a:xfrm>
            <a:off x="652140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CF42A7-7B92-4E80-A97E-A628ECB3B568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BE895A-AD4B-4559-B35B-AE131BC10F18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subTitle"/>
          </p:nvPr>
        </p:nvSpPr>
        <p:spPr>
          <a:xfrm>
            <a:off x="990360" y="3924000"/>
            <a:ext cx="8178840" cy="30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6E87BC-EB32-4A97-9A0A-FBD164757A70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B0CAE2-43D5-424E-B117-D693F0B24854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BFB63B-ADDE-444B-A636-93097F50D98C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E2AE99-85A5-4CF9-8BCD-0F672FD35C34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ubTitle"/>
          </p:nvPr>
        </p:nvSpPr>
        <p:spPr>
          <a:xfrm>
            <a:off x="990360" y="2171520"/>
            <a:ext cx="817884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4C30E7-6BE0-4F31-B839-D11999936A67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48D159-F795-4A4A-B110-B8C427EFA40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990360" y="3924000"/>
            <a:ext cx="8178840" cy="30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18112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518112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562BF8-0A09-45B5-8AA8-E65C84AB75A5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9C6C36-1D06-41C1-8E2D-4B7717219998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990360" y="550944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F27E83-42C2-41CE-9400-295891CF6FE8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PlaceHolder 5"/>
          <p:cNvSpPr>
            <a:spLocks noGrp="1"/>
          </p:cNvSpPr>
          <p:nvPr>
            <p:ph/>
          </p:nvPr>
        </p:nvSpPr>
        <p:spPr>
          <a:xfrm>
            <a:off x="518112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C35844-01DF-4C5B-92C0-E74A82562FB4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375588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652140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99036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PlaceHolder 6"/>
          <p:cNvSpPr>
            <a:spLocks noGrp="1"/>
          </p:cNvSpPr>
          <p:nvPr>
            <p:ph/>
          </p:nvPr>
        </p:nvSpPr>
        <p:spPr>
          <a:xfrm>
            <a:off x="375588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PlaceHolder 7"/>
          <p:cNvSpPr>
            <a:spLocks noGrp="1"/>
          </p:cNvSpPr>
          <p:nvPr>
            <p:ph/>
          </p:nvPr>
        </p:nvSpPr>
        <p:spPr>
          <a:xfrm>
            <a:off x="652140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5A7061-6B3B-4842-B25D-65CF64729DE8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91620-357B-4747-B0FD-8097CE623655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 type="subTitle"/>
          </p:nvPr>
        </p:nvSpPr>
        <p:spPr>
          <a:xfrm>
            <a:off x="990360" y="3924000"/>
            <a:ext cx="8178840" cy="30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01084-1A27-48CF-B44D-546ECFEA244E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A6FEB-6570-49C7-B8A3-24BDEBF2AFD2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E291A-E7C6-4C59-9785-2CB86FA2B2F8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695CB-542A-4138-B296-3281E6FEDE6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ubTitle"/>
          </p:nvPr>
        </p:nvSpPr>
        <p:spPr>
          <a:xfrm>
            <a:off x="990360" y="2171520"/>
            <a:ext cx="817884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231CC-DD1E-472C-B671-7B268C8DA45A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0A1AC-0ACE-4824-9314-9B880C8B67EE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518112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D7F6E-A7B4-4008-BCDF-118D67F98CD4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12ECF-E31D-4284-90AC-38ABFA72D202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990360" y="550944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68769-9C8D-45AE-B7A3-C56D0E6A8DB2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PlaceHolder 5"/>
          <p:cNvSpPr>
            <a:spLocks noGrp="1"/>
          </p:cNvSpPr>
          <p:nvPr>
            <p:ph/>
          </p:nvPr>
        </p:nvSpPr>
        <p:spPr>
          <a:xfrm>
            <a:off x="518112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4B61B-9927-4BB6-9894-72A6B77515FE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375588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652140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PlaceHolder 5"/>
          <p:cNvSpPr>
            <a:spLocks noGrp="1"/>
          </p:cNvSpPr>
          <p:nvPr>
            <p:ph/>
          </p:nvPr>
        </p:nvSpPr>
        <p:spPr>
          <a:xfrm>
            <a:off x="99036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PlaceHolder 6"/>
          <p:cNvSpPr>
            <a:spLocks noGrp="1"/>
          </p:cNvSpPr>
          <p:nvPr>
            <p:ph/>
          </p:nvPr>
        </p:nvSpPr>
        <p:spPr>
          <a:xfrm>
            <a:off x="375588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PlaceHolder 7"/>
          <p:cNvSpPr>
            <a:spLocks noGrp="1"/>
          </p:cNvSpPr>
          <p:nvPr>
            <p:ph/>
          </p:nvPr>
        </p:nvSpPr>
        <p:spPr>
          <a:xfrm>
            <a:off x="652140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F9B3E-D699-4EAA-B8C9-A289614730AE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2196C4-D7F3-438B-B4EF-A0E981A7DC88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990360" y="3924000"/>
            <a:ext cx="8178840" cy="30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B7D39B-7AB6-4FD6-A045-55DB1FBA9F77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B421D7-E8BA-4FDC-A032-C0CEF0C184E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990360" y="550944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AEC435-21BE-4672-9466-7D01F4C8D201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3DF1CE-AE0E-4D40-B5EC-BF0A2A8ADC64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990360" y="2171520"/>
            <a:ext cx="817884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6CD692-CF85-4559-A60D-DA25E61588F5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B4F996-6822-4BAE-AC5E-C263A60A39C0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518112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0309DD-E2FE-439F-BDF1-0B7F1ABCD9C8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5DB1B5-98CC-40C9-9C41-4C4AA11B88C6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990360" y="550944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70CAD2-3B25-41F2-9B78-A45E4EAB4C5F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518112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578CE6-57B4-4A41-8321-7953C57C2850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75588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52140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99036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75588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652140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B22352-715B-48A9-84A1-76102CED1237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8925BF-0A39-41BC-AED8-EF2141FE375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518112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 type="subTitle"/>
          </p:nvPr>
        </p:nvSpPr>
        <p:spPr>
          <a:xfrm>
            <a:off x="990360" y="3924000"/>
            <a:ext cx="8178840" cy="30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FE11A4-35E5-4490-810B-697D12BBDB15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2300A2-3596-4A42-AF03-2FC1A53B285E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4CB151-FF7C-4E23-B6D1-8E2CDD39CAA9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C1C34B-C05A-44ED-8C85-A138AB8509A3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subTitle"/>
          </p:nvPr>
        </p:nvSpPr>
        <p:spPr>
          <a:xfrm>
            <a:off x="990360" y="2171520"/>
            <a:ext cx="817884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AEB305-820B-482F-8D80-0452AD41A397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D43696-ACA6-4A25-9C2B-5972C3771934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518112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3DDA5A-2BFB-4B57-A86A-74C7302E67B2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E20156-406F-4595-A026-689EFBE23CCB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990360" y="550944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C0B416-DA1B-43D5-A051-DA68FE675341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PlaceHolder 5"/>
          <p:cNvSpPr>
            <a:spLocks noGrp="1"/>
          </p:cNvSpPr>
          <p:nvPr>
            <p:ph/>
          </p:nvPr>
        </p:nvSpPr>
        <p:spPr>
          <a:xfrm>
            <a:off x="518112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DFF03E-8C6C-4DCF-A863-791503DB42B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75588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52140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99036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75588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52140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375588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652140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/>
          </p:nvPr>
        </p:nvSpPr>
        <p:spPr>
          <a:xfrm>
            <a:off x="99036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PlaceHolder 6"/>
          <p:cNvSpPr>
            <a:spLocks noGrp="1"/>
          </p:cNvSpPr>
          <p:nvPr>
            <p:ph/>
          </p:nvPr>
        </p:nvSpPr>
        <p:spPr>
          <a:xfrm>
            <a:off x="375588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PlaceHolder 7"/>
          <p:cNvSpPr>
            <a:spLocks noGrp="1"/>
          </p:cNvSpPr>
          <p:nvPr>
            <p:ph/>
          </p:nvPr>
        </p:nvSpPr>
        <p:spPr>
          <a:xfrm>
            <a:off x="652140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1FC2CE-C7A0-4443-8D33-E450907F4C94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 type="subTitle"/>
          </p:nvPr>
        </p:nvSpPr>
        <p:spPr>
          <a:xfrm>
            <a:off x="990360" y="3924000"/>
            <a:ext cx="8178840" cy="30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subTitle"/>
          </p:nvPr>
        </p:nvSpPr>
        <p:spPr>
          <a:xfrm>
            <a:off x="990360" y="2171520"/>
            <a:ext cx="817884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518112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990360" y="550944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PlaceHolder 5"/>
          <p:cNvSpPr>
            <a:spLocks noGrp="1"/>
          </p:cNvSpPr>
          <p:nvPr>
            <p:ph/>
          </p:nvPr>
        </p:nvSpPr>
        <p:spPr>
          <a:xfrm>
            <a:off x="518112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375588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652140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5"/>
          <p:cNvSpPr>
            <a:spLocks noGrp="1"/>
          </p:cNvSpPr>
          <p:nvPr>
            <p:ph/>
          </p:nvPr>
        </p:nvSpPr>
        <p:spPr>
          <a:xfrm>
            <a:off x="99036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PlaceHolder 6"/>
          <p:cNvSpPr>
            <a:spLocks noGrp="1"/>
          </p:cNvSpPr>
          <p:nvPr>
            <p:ph/>
          </p:nvPr>
        </p:nvSpPr>
        <p:spPr>
          <a:xfrm>
            <a:off x="375588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PlaceHolder 7"/>
          <p:cNvSpPr>
            <a:spLocks noGrp="1"/>
          </p:cNvSpPr>
          <p:nvPr>
            <p:ph/>
          </p:nvPr>
        </p:nvSpPr>
        <p:spPr>
          <a:xfrm>
            <a:off x="652140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990360" y="3924000"/>
            <a:ext cx="8178840" cy="30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990360" y="2171520"/>
            <a:ext cx="817884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18112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990360" y="550944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518112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75588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52140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99036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75588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52140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990360" y="3924000"/>
            <a:ext cx="8178840" cy="30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990360" y="2171520"/>
            <a:ext cx="817884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18112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990360" y="550944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518112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75588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52140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99036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75588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52140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990360" y="3924000"/>
            <a:ext cx="8178840" cy="30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990360" y="2171520"/>
            <a:ext cx="817884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518112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990360" y="550944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518112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990360" y="2171520"/>
            <a:ext cx="817884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375588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52140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99036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6"/>
          <p:cNvSpPr>
            <a:spLocks noGrp="1"/>
          </p:cNvSpPr>
          <p:nvPr>
            <p:ph/>
          </p:nvPr>
        </p:nvSpPr>
        <p:spPr>
          <a:xfrm>
            <a:off x="375588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7"/>
          <p:cNvSpPr>
            <a:spLocks noGrp="1"/>
          </p:cNvSpPr>
          <p:nvPr>
            <p:ph/>
          </p:nvPr>
        </p:nvSpPr>
        <p:spPr>
          <a:xfrm>
            <a:off x="652140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990360" y="3924000"/>
            <a:ext cx="8178840" cy="30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990360" y="2171520"/>
            <a:ext cx="817884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518112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990360" y="550944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518112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75588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52140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99036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75588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652140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90360" y="3924000"/>
            <a:ext cx="8178840" cy="30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90360" y="2171520"/>
            <a:ext cx="817884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8112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518112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90360" y="550944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18112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75588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52140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9036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75588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52140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990360" y="3924000"/>
            <a:ext cx="8178840" cy="30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990360" y="2171520"/>
            <a:ext cx="817884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518112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990360" y="550944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518112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75588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52140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99036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75588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52140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990360" y="3924000"/>
            <a:ext cx="8178840" cy="30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990360" y="1803240"/>
            <a:ext cx="8178840" cy="889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26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algn="ctr"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algn="ctr"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algn="ctr"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algn="ctr"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algn="ctr"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algn="ctr"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990360" y="2793960"/>
            <a:ext cx="8178840" cy="2578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body"/>
          </p:nvPr>
        </p:nvSpPr>
        <p:spPr>
          <a:xfrm>
            <a:off x="495000" y="3746160"/>
            <a:ext cx="4584600" cy="2577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title"/>
          </p:nvPr>
        </p:nvSpPr>
        <p:spPr>
          <a:xfrm>
            <a:off x="495000" y="1104840"/>
            <a:ext cx="4584600" cy="2578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990360" y="202680"/>
            <a:ext cx="8178840" cy="107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33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990720" y="2158920"/>
            <a:ext cx="393696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4000"/>
          </a:bodyPr>
          <a:p>
            <a:pPr marL="562320" indent="-365040">
              <a:spcBef>
                <a:spcPts val="29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891360" indent="-365040">
              <a:spcBef>
                <a:spcPts val="29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1220400" indent="-365400">
              <a:spcBef>
                <a:spcPts val="29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3" marL="1549080" indent="-365040">
              <a:spcBef>
                <a:spcPts val="29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4" marL="1878120" indent="-365040">
              <a:spcBef>
                <a:spcPts val="29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5" marL="1878120" indent="-365040">
              <a:spcBef>
                <a:spcPts val="29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6" marL="1878120" indent="-365040">
              <a:spcBef>
                <a:spcPts val="29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070680" y="2158920"/>
            <a:ext cx="309888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65000"/>
          </a:bodyPr>
          <a:p>
            <a:pPr marL="493920" indent="-320760">
              <a:spcBef>
                <a:spcPts val="29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83000" indent="-320760">
              <a:spcBef>
                <a:spcPts val="29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1072080" indent="-320760">
              <a:spcBef>
                <a:spcPts val="29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3" marL="1360800" indent="-320760">
              <a:spcBef>
                <a:spcPts val="29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4" marL="1649880" indent="-320760">
              <a:spcBef>
                <a:spcPts val="29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5" marL="1649880" indent="-320760">
              <a:spcBef>
                <a:spcPts val="29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6" marL="1649880" indent="-320760">
              <a:spcBef>
                <a:spcPts val="29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90720" y="2158920"/>
            <a:ext cx="393696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4000"/>
          </a:bodyPr>
          <a:p>
            <a:pPr marL="562320" indent="-365040">
              <a:spcBef>
                <a:spcPts val="29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891360" indent="-365040">
              <a:spcBef>
                <a:spcPts val="29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1220400" indent="-365400">
              <a:spcBef>
                <a:spcPts val="29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3" marL="1549080" indent="-365040">
              <a:spcBef>
                <a:spcPts val="29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4" marL="1878120" indent="-365040">
              <a:spcBef>
                <a:spcPts val="29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5" marL="1878120" indent="-365040">
              <a:spcBef>
                <a:spcPts val="29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6" marL="1878120" indent="-365040">
              <a:spcBef>
                <a:spcPts val="29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990360" y="202680"/>
            <a:ext cx="8178840" cy="107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596520" y="1574280"/>
            <a:ext cx="8877240" cy="5473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71680" indent="0">
              <a:spcBef>
                <a:spcPts val="18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571680">
              <a:spcBef>
                <a:spcPts val="1899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571680" indent="-571680">
              <a:spcBef>
                <a:spcPts val="1899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571680" indent="-571680">
              <a:spcBef>
                <a:spcPts val="1899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571680" indent="-571680">
              <a:spcBef>
                <a:spcPts val="1899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571680" indent="-571680">
              <a:spcBef>
                <a:spcPts val="1899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571680" indent="-571680">
              <a:spcBef>
                <a:spcPts val="1899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 type="sldNum" idx="1"/>
          </p:nvPr>
        </p:nvSpPr>
        <p:spPr>
          <a:xfrm>
            <a:off x="4927320" y="7225920"/>
            <a:ext cx="2919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Gill Sans"/>
                <a:ea typeface="Gill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68D02-A4C2-4279-9F97-D5D789A6021F}" type="slidenum">
              <a:rPr b="0" lang="en-US" sz="14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body"/>
          </p:nvPr>
        </p:nvSpPr>
        <p:spPr>
          <a:xfrm>
            <a:off x="761760" y="1612440"/>
            <a:ext cx="8636040" cy="6007320"/>
          </a:xfrm>
          <a:prstGeom prst="rect">
            <a:avLst/>
          </a:prstGeom>
          <a:noFill/>
          <a:ln w="0">
            <a:noFill/>
          </a:ln>
        </p:spPr>
        <p:txBody>
          <a:bodyPr lIns="50760" rIns="95040" tIns="50760" bIns="50760" anchor="t">
            <a:normAutofit/>
          </a:bodyPr>
          <a:p>
            <a:pPr marL="380880" indent="-342720">
              <a:spcBef>
                <a:spcPts val="799"/>
              </a:spcBef>
              <a:buClr>
                <a:srgbClr val="000000"/>
              </a:buClr>
              <a:buSzPct val="75000"/>
              <a:buFont typeface="Lucida Grande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5480">
              <a:spcBef>
                <a:spcPts val="799"/>
              </a:spcBef>
              <a:buClr>
                <a:srgbClr val="000000"/>
              </a:buClr>
              <a:buFont typeface="Helvetic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2" marL="1130400" indent="-22860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3" marL="1587600" indent="-227160">
              <a:spcBef>
                <a:spcPts val="799"/>
              </a:spcBef>
              <a:buClr>
                <a:srgbClr val="000000"/>
              </a:buClr>
              <a:buSzPct val="64000"/>
              <a:buFont typeface="Lucida Grande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 type="title"/>
          </p:nvPr>
        </p:nvSpPr>
        <p:spPr>
          <a:xfrm>
            <a:off x="761760" y="-360"/>
            <a:ext cx="8636040" cy="1523880"/>
          </a:xfrm>
          <a:prstGeom prst="rect">
            <a:avLst/>
          </a:prstGeom>
          <a:noFill/>
          <a:ln w="0">
            <a:noFill/>
          </a:ln>
        </p:spPr>
        <p:txBody>
          <a:bodyPr lIns="50760" rIns="95040" tIns="50760" bIns="50760" anchor="b">
            <a:noAutofit/>
          </a:bodyPr>
          <a:p>
            <a:pPr marL="428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Lucida Grande"/>
              </a:rPr>
              <a:t>Click to edit the title text format</a:t>
            </a:r>
            <a:endParaRPr b="1" lang="en-US" sz="4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 type="sldNum" idx="2"/>
          </p:nvPr>
        </p:nvSpPr>
        <p:spPr>
          <a:xfrm>
            <a:off x="9585360" y="7073640"/>
            <a:ext cx="39672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54651-7FC3-43C9-9FCF-EC93C778C213}" type="slidenum"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body"/>
          </p:nvPr>
        </p:nvSpPr>
        <p:spPr>
          <a:xfrm>
            <a:off x="761760" y="1612440"/>
            <a:ext cx="8636040" cy="6007320"/>
          </a:xfrm>
          <a:prstGeom prst="rect">
            <a:avLst/>
          </a:prstGeom>
          <a:noFill/>
          <a:ln w="0">
            <a:noFill/>
          </a:ln>
        </p:spPr>
        <p:txBody>
          <a:bodyPr lIns="50760" rIns="95040" tIns="50760" bIns="50760" anchor="t">
            <a:normAutofit/>
          </a:bodyPr>
          <a:p>
            <a:pPr marL="380880" indent="-342720">
              <a:spcBef>
                <a:spcPts val="799"/>
              </a:spcBef>
              <a:buClr>
                <a:srgbClr val="000000"/>
              </a:buClr>
              <a:buSzPct val="75000"/>
              <a:buFont typeface="Lucida Grande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5480">
              <a:spcBef>
                <a:spcPts val="799"/>
              </a:spcBef>
              <a:buClr>
                <a:srgbClr val="000000"/>
              </a:buClr>
              <a:buFont typeface="Helvetic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2" marL="1130400" indent="-22860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3" marL="1587600" indent="-227160">
              <a:spcBef>
                <a:spcPts val="799"/>
              </a:spcBef>
              <a:buClr>
                <a:srgbClr val="000000"/>
              </a:buClr>
              <a:buSzPct val="64000"/>
              <a:buFont typeface="Lucida Grande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 type="title"/>
          </p:nvPr>
        </p:nvSpPr>
        <p:spPr>
          <a:xfrm>
            <a:off x="761760" y="-360"/>
            <a:ext cx="8636040" cy="1523880"/>
          </a:xfrm>
          <a:prstGeom prst="rect">
            <a:avLst/>
          </a:prstGeom>
          <a:noFill/>
          <a:ln w="0">
            <a:noFill/>
          </a:ln>
        </p:spPr>
        <p:txBody>
          <a:bodyPr lIns="50760" rIns="95040" tIns="50760" bIns="50760" anchor="b">
            <a:noAutofit/>
          </a:bodyPr>
          <a:p>
            <a:pPr marL="428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Lucida Grande"/>
              </a:rPr>
              <a:t>Click to edit the title text format</a:t>
            </a:r>
            <a:endParaRPr b="1" lang="en-US" sz="4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 type="sldNum" idx="3"/>
          </p:nvPr>
        </p:nvSpPr>
        <p:spPr>
          <a:xfrm>
            <a:off x="9585360" y="7073640"/>
            <a:ext cx="39672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40F1A-FC25-4C57-A376-05AFF2249F6B}" type="slidenum"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body"/>
          </p:nvPr>
        </p:nvSpPr>
        <p:spPr>
          <a:xfrm>
            <a:off x="761760" y="1612440"/>
            <a:ext cx="8636040" cy="6007320"/>
          </a:xfrm>
          <a:prstGeom prst="rect">
            <a:avLst/>
          </a:prstGeom>
          <a:noFill/>
          <a:ln w="0">
            <a:noFill/>
          </a:ln>
        </p:spPr>
        <p:txBody>
          <a:bodyPr lIns="50760" rIns="95040" tIns="50760" bIns="50760" anchor="t">
            <a:normAutofit/>
          </a:bodyPr>
          <a:p>
            <a:pPr marL="380880" indent="-342720">
              <a:spcBef>
                <a:spcPts val="799"/>
              </a:spcBef>
              <a:buClr>
                <a:srgbClr val="000000"/>
              </a:buClr>
              <a:buSzPct val="75000"/>
              <a:buFont typeface="Lucida Grande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5480">
              <a:spcBef>
                <a:spcPts val="799"/>
              </a:spcBef>
              <a:buClr>
                <a:srgbClr val="000000"/>
              </a:buClr>
              <a:buFont typeface="Helvetic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2" marL="1130400" indent="-22860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3" marL="1587600" indent="-227160">
              <a:spcBef>
                <a:spcPts val="799"/>
              </a:spcBef>
              <a:buClr>
                <a:srgbClr val="000000"/>
              </a:buClr>
              <a:buSzPct val="64000"/>
              <a:buFont typeface="Lucida Grande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title"/>
          </p:nvPr>
        </p:nvSpPr>
        <p:spPr>
          <a:xfrm>
            <a:off x="761760" y="-360"/>
            <a:ext cx="8636040" cy="1523880"/>
          </a:xfrm>
          <a:prstGeom prst="rect">
            <a:avLst/>
          </a:prstGeom>
          <a:noFill/>
          <a:ln w="0">
            <a:noFill/>
          </a:ln>
        </p:spPr>
        <p:txBody>
          <a:bodyPr lIns="50760" rIns="95040" tIns="50760" bIns="50760" anchor="b">
            <a:noAutofit/>
          </a:bodyPr>
          <a:p>
            <a:pPr marL="428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Lucida Grande"/>
              </a:rPr>
              <a:t>Click to edit the title text format</a:t>
            </a:r>
            <a:endParaRPr b="1" lang="en-US" sz="4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sldNum" idx="4"/>
          </p:nvPr>
        </p:nvSpPr>
        <p:spPr>
          <a:xfrm>
            <a:off x="9585360" y="7073640"/>
            <a:ext cx="39672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8A57E-6E46-4734-BD15-887539945C63}" type="slidenum"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body"/>
          </p:nvPr>
        </p:nvSpPr>
        <p:spPr>
          <a:xfrm>
            <a:off x="990360" y="3924000"/>
            <a:ext cx="817884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1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algn="ctr"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algn="ctr"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3" algn="ctr"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4" algn="ctr"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5" algn="ctr"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6" algn="ctr"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3300"/>
                </a:solidFill>
                <a:latin typeface="Tahoma"/>
              </a:rPr>
              <a:t>Click to edit the title text format</a:t>
            </a: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body"/>
          </p:nvPr>
        </p:nvSpPr>
        <p:spPr>
          <a:xfrm>
            <a:off x="761760" y="1612440"/>
            <a:ext cx="8636040" cy="6007320"/>
          </a:xfrm>
          <a:prstGeom prst="rect">
            <a:avLst/>
          </a:prstGeom>
          <a:noFill/>
          <a:ln w="0">
            <a:noFill/>
          </a:ln>
        </p:spPr>
        <p:txBody>
          <a:bodyPr lIns="50760" rIns="95040" tIns="50760" bIns="50760" anchor="t">
            <a:normAutofit/>
          </a:bodyPr>
          <a:p>
            <a:pPr marL="380880" indent="-342720">
              <a:spcBef>
                <a:spcPts val="799"/>
              </a:spcBef>
              <a:buClr>
                <a:srgbClr val="000000"/>
              </a:buClr>
              <a:buSzPct val="75000"/>
              <a:buFont typeface="Lucida Grande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5480">
              <a:spcBef>
                <a:spcPts val="799"/>
              </a:spcBef>
              <a:buClr>
                <a:srgbClr val="000000"/>
              </a:buClr>
              <a:buFont typeface="Helvetic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2" marL="1130400" indent="-22860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3" marL="1587600" indent="-227160">
              <a:spcBef>
                <a:spcPts val="799"/>
              </a:spcBef>
              <a:buClr>
                <a:srgbClr val="000000"/>
              </a:buClr>
              <a:buSzPct val="64000"/>
              <a:buFont typeface="Lucida Grande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title"/>
          </p:nvPr>
        </p:nvSpPr>
        <p:spPr>
          <a:xfrm>
            <a:off x="761760" y="-360"/>
            <a:ext cx="8636040" cy="1523880"/>
          </a:xfrm>
          <a:prstGeom prst="rect">
            <a:avLst/>
          </a:prstGeom>
          <a:noFill/>
          <a:ln w="0">
            <a:noFill/>
          </a:ln>
        </p:spPr>
        <p:txBody>
          <a:bodyPr lIns="50760" rIns="95040" tIns="50760" bIns="50760" anchor="b">
            <a:noAutofit/>
          </a:bodyPr>
          <a:p>
            <a:pPr marL="428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Lucida Grande"/>
              </a:rPr>
              <a:t>Click to edit the title text format</a:t>
            </a:r>
            <a:endParaRPr b="1" lang="en-US" sz="4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sldNum" idx="5"/>
          </p:nvPr>
        </p:nvSpPr>
        <p:spPr>
          <a:xfrm>
            <a:off x="9585360" y="7073640"/>
            <a:ext cx="39672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85DF9-6076-415A-A668-C5C69D7BE284}" type="slidenum"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990360" y="202680"/>
            <a:ext cx="8178840" cy="107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 type="body"/>
          </p:nvPr>
        </p:nvSpPr>
        <p:spPr>
          <a:xfrm>
            <a:off x="596520" y="1574280"/>
            <a:ext cx="8877240" cy="5473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71680" indent="0">
              <a:spcBef>
                <a:spcPts val="18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571680">
              <a:spcBef>
                <a:spcPts val="1899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571680" indent="-571680">
              <a:spcBef>
                <a:spcPts val="1899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571680" indent="-571680">
              <a:spcBef>
                <a:spcPts val="1899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571680" indent="-571680">
              <a:spcBef>
                <a:spcPts val="1899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571680" indent="-571680">
              <a:spcBef>
                <a:spcPts val="1899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571680" indent="-571680">
              <a:spcBef>
                <a:spcPts val="1899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990360" y="3924000"/>
            <a:ext cx="8178840" cy="888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6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algn="ctr"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algn="ctr"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algn="ctr"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algn="ctr"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algn="ctr"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algn="ctr"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990360" y="3924000"/>
            <a:ext cx="817884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5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algn="ctr"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algn="ctr"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algn="ctr"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algn="ctr"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algn="ctr"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algn="ctr"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33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698040" y="520560"/>
            <a:ext cx="8750520" cy="657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71680" indent="0">
              <a:spcBef>
                <a:spcPts val="38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571680">
              <a:spcBef>
                <a:spcPts val="380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571680" indent="-571680">
              <a:spcBef>
                <a:spcPts val="380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571680" indent="-571680">
              <a:spcBef>
                <a:spcPts val="380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571680" indent="-571680">
              <a:spcBef>
                <a:spcPts val="380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571680" indent="-571680">
              <a:spcBef>
                <a:spcPts val="380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571680" indent="-571680">
              <a:spcBef>
                <a:spcPts val="380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90360" y="5753160"/>
            <a:ext cx="8178840" cy="1333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90360" y="5753160"/>
            <a:ext cx="8178840" cy="1333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body"/>
          </p:nvPr>
        </p:nvSpPr>
        <p:spPr>
          <a:xfrm>
            <a:off x="495000" y="3746160"/>
            <a:ext cx="4584600" cy="2577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title"/>
          </p:nvPr>
        </p:nvSpPr>
        <p:spPr>
          <a:xfrm>
            <a:off x="495000" y="1104840"/>
            <a:ext cx="4584600" cy="2578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990360" y="2793960"/>
            <a:ext cx="8178840" cy="2578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Tahoma"/>
              </a:rPr>
              <a:t>Newton’s first and second laws ILD</a:t>
            </a:r>
            <a:endParaRPr b="0" lang="en-US" sz="6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990360" y="1803240"/>
            <a:ext cx="8178840" cy="889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cture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8" name=""/>
          <p:cNvSpPr/>
          <p:nvPr/>
        </p:nvSpPr>
        <p:spPr>
          <a:xfrm>
            <a:off x="1728360" y="5750640"/>
            <a:ext cx="66970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18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ease take one blue and one white shee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3300"/>
                </a:solidFill>
                <a:latin typeface="Tahoma"/>
              </a:rPr>
              <a:t>Next lecture</a:t>
            </a: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riction and Newton’s third la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ad: KJF §4.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