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D2BF-0D3F-4AC0-A52C-D1B341A68E4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DE2C-C3A5-49E4-8B28-3E6EBA4927C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11C6-79A7-4B3E-A505-C4F773ACB14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AAF1-F5F5-4317-94DD-65BFCDA3C34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6631-508F-41EE-82A1-81BBE8AFD8D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1AE0-4011-4ED3-8E51-94B201D61FD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0F6-35A3-42AE-8D74-A4DD27702E4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E33-428A-48B3-A97E-4185B2607D8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10E-1853-4B85-A3F2-77FA84EC339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1AC-50A0-4D47-BDB0-326A9053A5C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3AB-AF8F-4E2B-B457-DDC5BE788E7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92C-585A-43CC-A5BB-FCF3F6DD86A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3A6-03B7-44B0-ADEC-5BDFF4C1E76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E4A-04DC-481A-AFB2-96C3685C3C2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4A4-F0BC-46F3-BF17-66B8B7E407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6821-5B1A-4735-A586-58D61D159EB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875-1C73-449E-BAC2-9EC64678354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12E-C3B3-4DAA-AD57-D858206CCBC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33D-B33D-407F-B628-02D90D1ECD2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61F3-3A2F-4BA8-9CCF-E9D459E25D8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0A95-6212-4B49-85E4-FE9A3D1C920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00F5-FDBC-4A45-B3A3-669A6B0D1B8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A3F7-C427-4D79-BCBD-40C8653DA95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E8A4-BF77-47C6-B53E-965D9329E7F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8292C-031C-4B7C-8B98-33A50EC27AF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429B6-5875-4D2B-ADA9-DF7DB40BEF5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E90B0-80CD-4728-B4DC-78CF5F57D88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8D862-3BCA-40B2-8206-B96FFCBFE33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860C5-764E-45A5-A1AE-E4096BA24B9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4BC1D-B05B-4DDE-843D-2D396A62735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B9225-AB07-4C83-8891-81EF1272349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944D0-7FFA-41D5-9239-EC33A91F395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1CE67-F550-4524-AAC8-7E365C314B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0DC1-E378-4A75-B764-5D0CFFC3003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457D8-17A2-47F0-8358-DD9EE4E7E33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CE933-EADB-425A-A537-2DD4DBC0D26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93740-C5EC-44F8-9797-F1D4AC93E98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C419C-FF19-4CDE-88D1-04DEE68D8D6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14A0B-5F30-482E-95C5-4AB3BE5EE74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E2FA5-25BE-4074-8645-D57EF779684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7FA7A-1BE6-4816-9E62-745D70A5421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43AA3-4227-41DC-B8AE-7F137E9D54F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7678D-E3CA-4A43-B781-2DFC939A089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6E2B4-2885-493A-940E-D1721D4315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EDC4-09CA-4DD4-82EC-F31F2006D9A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7B105-122B-4D96-B68D-4F2C9BAE2A3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75617-829C-42C7-9AB7-76EB56B1423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4590E-F4E8-4216-A6AD-651B1218F1F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99D6E-5CAD-4062-B919-C987374EEEF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DA57C-0A18-4B9D-86DC-140D502D912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C7EB-82F0-49BA-8A7A-6AD7868B65D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EFAD-512D-488A-A4C4-85F481247F8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5286-E2BF-4AFF-8ADC-9ED0A06245E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DDE2-FEE6-4E35-9BCF-ACC1015C0C8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1E8D-9ECD-4294-A479-66DC067438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5CA5-4367-4A0C-AA8E-55EE5B7B2DD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2E03-2B82-4B1C-9D64-CCD403347A6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3737-F922-483E-A3BD-0766F35C473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8798-AF12-44E8-996D-E30D27FC9EE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1B0A-2566-442E-99B8-E349B34C873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E19C-9AC3-449D-B441-EFE0D4DA625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639D-AB20-4048-9C77-4C44E75DB5E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230C-862D-49F7-A17D-724AAE2A87F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4CC56-B34B-4A39-9632-99A2216F415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A8569-C0DA-49DE-8492-086DC4EA0D8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7055F8-9333-46A4-8DD7-1E01527F6E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905D-48D7-4627-A9F9-5D0B7E3A827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BCA5A-5AC9-4013-AD26-65A14517596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A31B0-61A4-4C1C-8B7F-504A762E3F1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20F96D-5109-42AF-AC10-315D47F222D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D39B74-21D3-4623-A1C0-E06E48649E9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1CE55-5012-4D3B-9B3F-E1A0974577C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00551-BB3B-4262-959A-F48334DCFAC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55A4A-33E3-4031-8677-8FBD3875052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BE6CD-5584-4547-B201-862A14339FE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0AF80-AA08-40DB-9453-F7FC05927B4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16A3-17CE-4A5C-A11C-E4D6BF5C76F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C28B-0872-4FBE-82C5-76A7C36059A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65F6-FBBB-4B48-9FEF-7CC6108A5C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2D53-214B-4BAA-85E9-76B583BE82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1ECF-3A50-4282-AA49-01711A7EDA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08F4-CB51-490D-A2ED-71B6FA2C87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9FB53-B51B-4A18-A937-1BDAEE9615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BD23-307F-4E0E-A60F-FE0A189C17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9392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30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20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3608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Num" idx="3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59AD-D012-4FFC-8452-DE0D0DE62B5D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AE9F-7294-4A7E-AF07-55E19750C729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4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E038-EB5C-4EBF-8E92-720E9C6750C2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sldNum" idx="5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4520-EDA8-48D5-BF06-A629A032E3A6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Num" idx="6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C79D-DC79-44FB-8EDD-1A155054A97D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sldNum" idx="7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1B8C-5537-4C0D-9371-9E57BE0C4F9B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C287-A13E-4F62-9BC1-EAEDBB39D7BA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84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Friction </a:t>
            </a:r>
            <a:br>
              <a:rPr sz="6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d </a:t>
            </a:r>
            <a:br>
              <a:rPr sz="3600"/>
            </a:b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Newton’s 3rd law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cture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"/>
          <p:cNvSpPr/>
          <p:nvPr/>
        </p:nvSpPr>
        <p:spPr>
          <a:xfrm>
            <a:off x="2555280" y="5981400"/>
            <a:ext cx="5043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e-reading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: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KJF §4.8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3479760" y="3722760"/>
            <a:ext cx="3619440" cy="36306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7743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 2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82760" y="1523880"/>
            <a:ext cx="86356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push a 100.0 kg box along the ground with constant horizontal force 600.0 N.  For box on ground μ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.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ccel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84880" y="6527880"/>
            <a:ext cx="3378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2°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6809-FF78-42EF-9D20-BD11733F3E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Newton’s third law</a:t>
            </a:r>
            <a:br>
              <a:rPr sz="4800"/>
            </a:b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JF §4.3, 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Newtons First Law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96520" y="1929960"/>
            <a:ext cx="8877240" cy="511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net external force is applied to an object, its velocity will remain constant ("inert"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dy cannot change its state of motion without outside influ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66800" y="1033560"/>
            <a:ext cx="3534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  <a:ea typeface="Tahoma"/>
              </a:rPr>
              <a:t>or Law of Inerti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6" name=""/>
          <p:cNvSpPr/>
          <p:nvPr/>
        </p:nvSpPr>
        <p:spPr>
          <a:xfrm>
            <a:off x="239760" y="7074000"/>
            <a:ext cx="133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4.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 txBox="1"/>
          <p:nvPr/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25E0-1FE1-4A4E-87D2-89B01842264E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869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Newton’s Second Law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96880" y="1574280"/>
            <a:ext cx="90806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5600" spc="-1" strike="noStrike" baseline="-6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5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5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um of all forces on a body does not add to zero, then acceleration occurs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body is accelerating, there must be a force o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39760" y="7074000"/>
            <a:ext cx="111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4.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Newton’s Third Law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1282680"/>
            <a:ext cx="8877600" cy="2387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action (force) there is an equal and opposite reaction (counter-for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3840" y="4743360"/>
            <a:ext cx="93726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why does anything move at all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hough all forces are paired, the Action (force) and the Reaction (force) are NOT exerted on the same object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6807240" y="2948040"/>
            <a:ext cx="2401920" cy="12430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3217680" y="3202920"/>
            <a:ext cx="24357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lvl="1" algn="ct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lang="en-US" sz="3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lang="en-US" sz="3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6" name=""/>
          <p:cNvSpPr/>
          <p:nvPr/>
        </p:nvSpPr>
        <p:spPr>
          <a:xfrm>
            <a:off x="239760" y="7074000"/>
            <a:ext cx="133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4.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6DE7-2F74-422D-82B3-3822FDC1C62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/>
          </p:nvPr>
        </p:nvSpPr>
        <p:spPr>
          <a:xfrm>
            <a:off x="698040" y="736200"/>
            <a:ext cx="8750520" cy="199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-317520">
              <a:lnSpc>
                <a:spcPct val="100000"/>
              </a:lnSpc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/reaction forces act 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/reaction forces point i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oppos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ions and a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q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2387520" y="3122640"/>
            <a:ext cx="5372280" cy="434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7316-F3AB-44A6-8DB9-2840192C56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634680" y="3683160"/>
            <a:ext cx="8877240" cy="322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our "system": th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s ON the book 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Force from attraction to earth – We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Force from table  –  Norm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ction-reaction pa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Example: Book on table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854360" y="1312920"/>
            <a:ext cx="6438600" cy="2026440"/>
            <a:chOff x="1854360" y="1312920"/>
            <a:chExt cx="6438600" cy="2026440"/>
          </a:xfrm>
        </p:grpSpPr>
        <p:grpSp>
          <p:nvGrpSpPr>
            <p:cNvPr id="1022" name=""/>
            <p:cNvGrpSpPr/>
            <p:nvPr/>
          </p:nvGrpSpPr>
          <p:grpSpPr>
            <a:xfrm>
              <a:off x="1854360" y="1968120"/>
              <a:ext cx="6438600" cy="762840"/>
              <a:chOff x="1854360" y="1968120"/>
              <a:chExt cx="6438600" cy="762840"/>
            </a:xfrm>
          </p:grpSpPr>
          <p:grpSp>
            <p:nvGrpSpPr>
              <p:cNvPr id="1023" name=""/>
              <p:cNvGrpSpPr/>
              <p:nvPr/>
            </p:nvGrpSpPr>
            <p:grpSpPr>
              <a:xfrm>
                <a:off x="3349440" y="1968120"/>
                <a:ext cx="3447720" cy="761760"/>
                <a:chOff x="3349440" y="1968120"/>
                <a:chExt cx="3447720" cy="76176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3349440" y="1968120"/>
                  <a:ext cx="3447720" cy="761760"/>
                </a:xfrm>
                <a:prstGeom prst="rect">
                  <a:avLst/>
                </a:prstGeom>
                <a:solidFill>
                  <a:srgbClr val="51fcff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349440" y="1968120"/>
                  <a:ext cx="34477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1026" name=""/>
              <p:cNvSpPr/>
              <p:nvPr/>
            </p:nvSpPr>
            <p:spPr>
              <a:xfrm>
                <a:off x="1854360" y="2729880"/>
                <a:ext cx="6438600" cy="1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4959000" y="1312920"/>
              <a:ext cx="875160" cy="2026440"/>
              <a:chOff x="4959000" y="1312920"/>
              <a:chExt cx="875160" cy="2026440"/>
            </a:xfrm>
          </p:grpSpPr>
          <p:sp>
            <p:nvSpPr>
              <p:cNvPr id="1028" name=""/>
              <p:cNvSpPr/>
              <p:nvPr/>
            </p:nvSpPr>
            <p:spPr>
              <a:xfrm>
                <a:off x="4959000" y="2234880"/>
                <a:ext cx="228600" cy="228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5073480" y="1358280"/>
                <a:ext cx="1440" cy="99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73480" y="2349360"/>
                <a:ext cx="1440" cy="990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235120" y="1312920"/>
                <a:ext cx="542880" cy="55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F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239440" y="2730240"/>
                <a:ext cx="594720" cy="55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F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1033" name=""/>
          <p:cNvSpPr/>
          <p:nvPr/>
        </p:nvSpPr>
        <p:spPr>
          <a:xfrm>
            <a:off x="749160" y="6438960"/>
            <a:ext cx="8649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t">
            <a:noAutofit/>
          </a:bodyPr>
          <a:p>
            <a:pPr marL="380880" indent="-342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! These are not an action-reaction pair even though they are equal and opposi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41C2-BE3A-4656-8E35-39801A2A636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393480" y="25524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4272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Reaction to (1) is the force of gravitational attraction</a:t>
            </a:r>
            <a:r>
              <a:rPr b="1" lang="en-US" sz="3200" spc="-1" strike="noStrike">
                <a:solidFill>
                  <a:srgbClr val="004080"/>
                </a:solidFill>
                <a:latin typeface="Times New Roman"/>
              </a:rPr>
              <a:t> BY</a:t>
            </a: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 book on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0" y="152280"/>
            <a:ext cx="5257080" cy="1916280"/>
            <a:chOff x="0" y="152280"/>
            <a:chExt cx="5257080" cy="1916280"/>
          </a:xfrm>
        </p:grpSpPr>
        <p:pic>
          <p:nvPicPr>
            <p:cNvPr id="1036" name="" descr=""/>
            <p:cNvPicPr/>
            <p:nvPr/>
          </p:nvPicPr>
          <p:blipFill>
            <a:blip r:embed="rId1"/>
            <a:stretch/>
          </p:blipFill>
          <p:spPr>
            <a:xfrm>
              <a:off x="0" y="152280"/>
              <a:ext cx="125748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/>
            <p:nvPr/>
          </p:nvSpPr>
          <p:spPr>
            <a:xfrm>
              <a:off x="4749480" y="825480"/>
              <a:ext cx="507600" cy="152280"/>
            </a:xfrm>
            <a:prstGeom prst="rect">
              <a:avLst/>
            </a:prstGeom>
            <a:solidFill>
              <a:srgbClr val="51f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08320" y="1130400"/>
              <a:ext cx="1080" cy="938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1714680" y="4597560"/>
            <a:ext cx="6602400" cy="941400"/>
            <a:chOff x="1714680" y="4597560"/>
            <a:chExt cx="6602400" cy="941400"/>
          </a:xfrm>
        </p:grpSpPr>
        <p:grpSp>
          <p:nvGrpSpPr>
            <p:cNvPr id="1040" name=""/>
            <p:cNvGrpSpPr/>
            <p:nvPr/>
          </p:nvGrpSpPr>
          <p:grpSpPr>
            <a:xfrm>
              <a:off x="3496680" y="4749840"/>
              <a:ext cx="3047400" cy="787320"/>
              <a:chOff x="3496680" y="4749840"/>
              <a:chExt cx="3047400" cy="787320"/>
            </a:xfrm>
          </p:grpSpPr>
          <p:sp>
            <p:nvSpPr>
              <p:cNvPr id="1041" name=""/>
              <p:cNvSpPr/>
              <p:nvPr/>
            </p:nvSpPr>
            <p:spPr>
              <a:xfrm>
                <a:off x="3496680" y="4749840"/>
                <a:ext cx="3047400" cy="787320"/>
              </a:xfrm>
              <a:prstGeom prst="rect">
                <a:avLst/>
              </a:prstGeom>
              <a:solidFill>
                <a:srgbClr val="51fc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963320" y="4851360"/>
                <a:ext cx="1137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1714680" y="5537520"/>
              <a:ext cx="660240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5020200" y="4597560"/>
              <a:ext cx="1440" cy="938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546120" y="5842080"/>
            <a:ext cx="8356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80880" indent="-342720">
              <a:lnSpc>
                <a:spcPct val="91000"/>
              </a:lnSpc>
              <a:spcBef>
                <a:spcPts val="836"/>
              </a:spcBef>
              <a:buClr>
                <a:srgbClr val="0000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ction to (2) is the force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ook on tabl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48BC-2F05-4912-A524-3FA7FE0C0BE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2233440" y="1295280"/>
            <a:ext cx="1301400" cy="2897280"/>
            <a:chOff x="2233440" y="1295280"/>
            <a:chExt cx="1301400" cy="2897280"/>
          </a:xfrm>
        </p:grpSpPr>
        <p:sp>
          <p:nvSpPr>
            <p:cNvPr id="1047" name=""/>
            <p:cNvSpPr/>
            <p:nvPr/>
          </p:nvSpPr>
          <p:spPr>
            <a:xfrm>
              <a:off x="2641680" y="1295280"/>
              <a:ext cx="329040" cy="531720"/>
            </a:xfrm>
            <a:prstGeom prst="ellipse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759400" y="1828800"/>
              <a:ext cx="144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2233440" y="3504960"/>
              <a:ext cx="49104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03680" y="3504960"/>
              <a:ext cx="18252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2722680" y="2437920"/>
              <a:ext cx="812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33440" y="4190760"/>
              <a:ext cx="2048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72520" y="4190760"/>
              <a:ext cx="2538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5867280" y="1219320"/>
            <a:ext cx="1284120" cy="2973240"/>
            <a:chOff x="5867280" y="1219320"/>
            <a:chExt cx="1284120" cy="2973240"/>
          </a:xfrm>
        </p:grpSpPr>
        <p:sp>
          <p:nvSpPr>
            <p:cNvPr id="1055" name=""/>
            <p:cNvSpPr/>
            <p:nvPr/>
          </p:nvSpPr>
          <p:spPr>
            <a:xfrm>
              <a:off x="6647760" y="1219320"/>
              <a:ext cx="329040" cy="531720"/>
            </a:xfrm>
            <a:prstGeom prst="ellipse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63680" y="1752840"/>
              <a:ext cx="144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6238800" y="3429000"/>
              <a:ext cx="48924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728760" y="3353040"/>
              <a:ext cx="422640" cy="82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78520" y="4114800"/>
              <a:ext cx="2538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894000" y="4191120"/>
              <a:ext cx="228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867280" y="2438640"/>
              <a:ext cx="94392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1676520" y="4762080"/>
            <a:ext cx="6045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-317520">
              <a:lnSpc>
                <a:spcPct val="100000"/>
              </a:lnSpc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in forces acting ON 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in forces acting ON J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in forces acting ON the r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ction/reaction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: Tug of War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64" name=""/>
          <p:cNvSpPr/>
          <p:nvPr/>
        </p:nvSpPr>
        <p:spPr>
          <a:xfrm>
            <a:off x="1194120" y="3420000"/>
            <a:ext cx="913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O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5" name=""/>
          <p:cNvSpPr/>
          <p:nvPr/>
        </p:nvSpPr>
        <p:spPr>
          <a:xfrm>
            <a:off x="7422840" y="3420000"/>
            <a:ext cx="107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JERR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0" y="0"/>
            <a:ext cx="4933800" cy="2766960"/>
            <a:chOff x="0" y="0"/>
            <a:chExt cx="4933800" cy="2766960"/>
          </a:xfrm>
        </p:grpSpPr>
        <p:pic>
          <p:nvPicPr>
            <p:cNvPr id="10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04800" cy="27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2"/>
            <a:stretch/>
          </p:blipFill>
          <p:spPr>
            <a:xfrm>
              <a:off x="3440160" y="0"/>
              <a:ext cx="1493640" cy="276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9" name=""/>
          <p:cNvSpPr/>
          <p:nvPr/>
        </p:nvSpPr>
        <p:spPr>
          <a:xfrm>
            <a:off x="3505320" y="2438280"/>
            <a:ext cx="239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2303-3487-458D-A119-7A8EEF9F43A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20200" y="1650600"/>
            <a:ext cx="910620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orker drags a crate across a factory floor by pulling on a rope tied to the crate. The worker exerts a force of 450 N on the rope, which is inclined at 38° to the horizontal, and the floor exerts a horizontal friction of 125 N that opposes the motion.  You can assume the crate doesn't leave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acceleration of the crate (mass = 310 k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normal force by the floor on the c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291720" y="5983920"/>
            <a:ext cx="271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0.74 ms</a:t>
            </a:r>
            <a:r>
              <a:rPr b="0" lang="en-US" sz="2800" spc="-1" strike="noStrike" baseline="32000">
                <a:solidFill>
                  <a:srgbClr val="0000ff"/>
                </a:solidFill>
                <a:latin typeface="Times New Roman"/>
                <a:ea typeface="Times New Roman"/>
              </a:rPr>
              <a:t>–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2.7 kN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F979-C3EF-4896-843D-63E0D5AB6F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oefficient of Friction </a:t>
            </a:r>
            <a:r>
              <a:rPr b="0" lang="en-US" sz="4800" spc="-1" strike="noStrike">
                <a:solidFill>
                  <a:srgbClr val="ff3300"/>
                </a:solidFill>
                <a:latin typeface="Symbol"/>
                <a:ea typeface="Symbol"/>
              </a:rPr>
              <a:t>μ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μ is a measure of strength of friction.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calar. No units - dimension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6360" indent="-317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on BOTH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6360" indent="-317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't depend on size of contac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3500" spc="-1" strike="noStrike" baseline="-6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&gt; μ</a:t>
            </a:r>
            <a:r>
              <a:rPr b="0" lang="en-US" sz="3500" spc="-1" strike="noStrike" baseline="-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&gt; μ</a:t>
            </a:r>
            <a:r>
              <a:rPr b="0" lang="en-US" sz="3500" spc="-1" strike="noStrike" baseline="-6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7320" y="5891040"/>
            <a:ext cx="8750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icroscopic theory of friction very complex - cannot yet theoretically predict </a:t>
            </a:r>
            <a:r>
              <a:rPr b="0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μ</a:t>
            </a:r>
            <a:r>
              <a:rPr b="0" i="1" lang="en-US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valu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6" name=""/>
          <p:cNvSpPr/>
          <p:nvPr/>
        </p:nvSpPr>
        <p:spPr>
          <a:xfrm>
            <a:off x="239760" y="7074000"/>
            <a:ext cx="170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  <a:ea typeface="Tahoma"/>
              </a:rPr>
              <a:t>KJF §5.5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6C67-3DA4-48D8-96AC-5FA68A742F2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Another Proble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50 kg skier is pulled up a frictionless ski slope that makes an angle of 8° with the horizontal, by holding onto a ski rope that moves parallel to the slope.  Determine the magnitude of the force of the rope on the skier at an instant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pe is moving with constant speed of 2.0 ms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pe is moving with a speed of 2.0 ms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that speed is increasing at a rate of 0.10 ms</a:t>
            </a:r>
            <a:r>
              <a:rPr b="0" lang="en-US" sz="2800" spc="-1" strike="noStrike" baseline="32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871320" y="6216480"/>
            <a:ext cx="315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20720" indent="-677880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[68N, 73N]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A585-C29C-4A50-B56E-1700A64C8B2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5626080" y="3784680"/>
            <a:ext cx="4267080" cy="287172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And yet more..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4880" y="1765440"/>
            <a:ext cx="86360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74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lem with pulley, weights and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46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agnitude of acceleration of the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46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tension in the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46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17520" y="5613480"/>
            <a:ext cx="590544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0328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te; for an ideal string* the magnitudes of 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along the string direction) are the same at both e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03280" indent="-46044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*inextensible, with negligible mass &amp; stiffn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8300-2A78-4508-9AE7-B400FD0CCF2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Next lecture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D on Newton’s third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perties of frictio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55680" y="3974760"/>
            <a:ext cx="9448560" cy="3492360"/>
          </a:xfrm>
          <a:prstGeom prst="rect">
            <a:avLst/>
          </a:prstGeom>
          <a:noFill/>
          <a:ln w="0">
            <a:noFill/>
          </a:ln>
        </p:spPr>
        <p:txBody>
          <a:bodyPr lIns="50760" rIns="39600" tIns="50760" bIns="50760" anchor="t">
            <a:normAutofit/>
          </a:bodyPr>
          <a:p>
            <a:pPr marL="571680" indent="0">
              <a:lnSpc>
                <a:spcPct val="100000"/>
              </a:lnSpc>
              <a:buNone/>
              <a:tabLst>
                <a:tab algn="l" pos="0"/>
                <a:tab algn="ctr" pos="4521240"/>
                <a:tab algn="r" pos="9182160"/>
                <a:tab algn="l" pos="924552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person pushing a box on a horizontal surface with forc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the box does not move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tatic f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ctr" pos="4521240"/>
                <a:tab algn="r" pos="9182160"/>
                <a:tab algn="l" pos="924552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ctr" pos="4521240"/>
                <a:tab algn="r" pos="9182160"/>
                <a:tab algn="l" pos="92455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the static frictional forc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justs itself to be exactly equal and opposit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ctr" pos="4521240"/>
                <a:tab algn="r" pos="9182160"/>
                <a:tab algn="l" pos="924552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1409760" y="1257480"/>
            <a:ext cx="3174840" cy="272556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2"/>
          <a:stretch/>
        </p:blipFill>
        <p:spPr>
          <a:xfrm>
            <a:off x="5575320" y="1257480"/>
            <a:ext cx="3174840" cy="27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9815-91EB-4D63-B09B-B6616727F6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419040" y="1104480"/>
            <a:ext cx="5346720" cy="596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you increase the pushing force, eventually the object will slip and start to move. Th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ic friction force has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s(max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μ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083280" y="1162080"/>
            <a:ext cx="3809880" cy="146700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6083280" y="2781360"/>
            <a:ext cx="3809880" cy="146664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3"/>
          <a:stretch/>
        </p:blipFill>
        <p:spPr>
          <a:xfrm>
            <a:off x="6083280" y="4470480"/>
            <a:ext cx="3809880" cy="253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B78B6-CEF2-48E3-8CD2-15A9E788CF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/>
          </p:nvPr>
        </p:nvSpPr>
        <p:spPr>
          <a:xfrm>
            <a:off x="698040" y="520560"/>
            <a:ext cx="8750520" cy="351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 box starts to slide, the static friction force is replaced by a kinetic (or sliding) friction force. The direction is opposite to the motion, and the magnitude i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 algn="ctr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μ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638360" y="4622760"/>
            <a:ext cx="7620120" cy="314028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 txBox="1"/>
          <p:nvPr/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2A79-AAD7-475B-A759-8533DC8A116B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35C3-65A3-48E6-A0EE-FE964EB3A4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"/>
          <p:cNvGrpSpPr/>
          <p:nvPr/>
        </p:nvGrpSpPr>
        <p:grpSpPr>
          <a:xfrm>
            <a:off x="8545320" y="1127880"/>
            <a:ext cx="852120" cy="789840"/>
            <a:chOff x="8545320" y="1127880"/>
            <a:chExt cx="852120" cy="789840"/>
          </a:xfrm>
        </p:grpSpPr>
        <p:sp>
          <p:nvSpPr>
            <p:cNvPr id="969" name=""/>
            <p:cNvSpPr/>
            <p:nvPr/>
          </p:nvSpPr>
          <p:spPr>
            <a:xfrm flipH="1">
              <a:off x="8648280" y="1625760"/>
              <a:ext cx="749160" cy="29196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545320" y="112788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317520" y="1231920"/>
            <a:ext cx="9169560" cy="5537160"/>
            <a:chOff x="317520" y="1231920"/>
            <a:chExt cx="9169560" cy="5537160"/>
          </a:xfrm>
        </p:grpSpPr>
        <p:sp>
          <p:nvSpPr>
            <p:cNvPr id="972" name=""/>
            <p:cNvSpPr/>
            <p:nvPr/>
          </p:nvSpPr>
          <p:spPr>
            <a:xfrm>
              <a:off x="317520" y="5702400"/>
              <a:ext cx="9118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if the box slid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dow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hill, even though you were still pushing it?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6349680" y="2438280"/>
              <a:ext cx="749160" cy="29232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47080" y="19404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623440" y="1231920"/>
              <a:ext cx="86364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279360" y="1447560"/>
            <a:ext cx="5727600" cy="261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pushing a box uphill. Which direction does the friction point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free-body 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Direction of kinetic frictio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0" y="0"/>
            <a:ext cx="9562680" cy="5219640"/>
            <a:chOff x="0" y="0"/>
            <a:chExt cx="9562680" cy="5219640"/>
          </a:xfrm>
        </p:grpSpPr>
        <p:pic>
          <p:nvPicPr>
            <p:cNvPr id="97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0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 flipH="1">
              <a:off x="5752440" y="3797280"/>
              <a:ext cx="3809880" cy="142236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03A7-3D67-489E-87D9-889CE5663C4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perties of Frictio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34680" y="5664240"/>
            <a:ext cx="887724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graph is an idealisation. In softer, stickier materials like rubber, the transition from static to kinetic is not so sha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0" y="0"/>
            <a:ext cx="7021440" cy="4026600"/>
            <a:chOff x="0" y="0"/>
            <a:chExt cx="7021440" cy="4026600"/>
          </a:xfrm>
        </p:grpSpPr>
        <p:pic>
          <p:nvPicPr>
            <p:cNvPr id="9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56280" cy="33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6343200" y="3538800"/>
              <a:ext cx="3099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 Italic"/>
                  <a:ea typeface="Times New Roman Italic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711480" y="2129400"/>
              <a:ext cx="3099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 Italic"/>
                  <a:ea typeface="Times New Roman Italic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28720" y="32317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06960" y="402444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542A-C5EF-4158-A4EF-B6242713F0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Rolling friction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0" name=""/>
          <p:cNvSpPr/>
          <p:nvPr/>
        </p:nvSpPr>
        <p:spPr>
          <a:xfrm>
            <a:off x="152280" y="5759280"/>
            <a:ext cx="47116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3720" indent="-380880">
              <a:lnSpc>
                <a:spcPct val="90000"/>
              </a:lnSpc>
              <a:spcBef>
                <a:spcPts val="1301"/>
              </a:spcBef>
              <a:tabLst>
                <a:tab algn="l" pos="0"/>
                <a:tab algn="ctr" pos="48006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8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80"/>
                </a:solidFill>
                <a:latin typeface="Times New Roman"/>
                <a:ea typeface="Times New Roman"/>
              </a:rPr>
              <a:t>Don't confuse static friction in tyres with rolling friction. </a:t>
            </a:r>
            <a:br>
              <a:rPr sz="2400"/>
            </a:br>
            <a:r>
              <a:rPr b="0" i="1" lang="en-US" sz="2400" spc="-1" strike="noStrike">
                <a:solidFill>
                  <a:srgbClr val="ff0080"/>
                </a:solidFill>
                <a:latin typeface="Times New Roman"/>
                <a:ea typeface="Times New Roman"/>
              </a:rPr>
              <a:t>(Static friction keeps tyres gripping the road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6070680" y="4191120"/>
            <a:ext cx="3809880" cy="341928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7800" y="1460520"/>
            <a:ext cx="9575640" cy="417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el is compressed by road as it roll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sults in a horizontal component of force that resists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es very similarly to kinetic friction (but much smaller); Roughly constant, proportional to norm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μ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88F3-192D-4412-993F-2625910F30E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6134040" y="3238560"/>
            <a:ext cx="3289320" cy="3174840"/>
          </a:xfrm>
          <a:prstGeom prst="rect">
            <a:avLst/>
          </a:prstGeom>
          <a:ln w="0">
            <a:noFill/>
          </a:ln>
        </p:spPr>
      </p:pic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82760" y="1523880"/>
            <a:ext cx="863568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efficient of static friction between teflon and scrambled eggs is about 0.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angle from the horizontal that will cause the eggs to slide across the bottom of a teflon-coated p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384880" y="6527880"/>
            <a:ext cx="3378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2°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18E6-DB24-4333-BDFD-A70DC165E75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