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C502-E1E0-41FE-9B23-40078F6B4C6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2EAC-ACFF-43A9-8719-B81CC316ADB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4B7C-3F61-4B90-B8A4-774257D36C3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F275-4A9A-4382-B3A9-CE8F5B7AFD2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A3DC-1A1F-44A5-9A42-D3F4FB3524D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E1D1-78C8-4814-952D-4DFB04B5C73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657-826E-46AD-89F7-104CAF05544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81B-81E3-45A5-8FAA-CE9A296E712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F6A-6D1E-45AD-9D12-BBECEE030D4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C5B-7C41-4D12-BBD8-D25909A6E97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7DA-7F8D-422C-BD58-FA1F388E1D5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1E3-04C0-432C-A4B4-4B692B12375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872-8F93-47C0-9CC5-57308DE4A5E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880-EC67-45C5-B307-A8B74851EBC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73C-B2F1-4132-9306-BC2CD90322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26D9-14D3-4492-B2E2-CEEA3C16E4D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39D-4A13-4276-B3FD-C2D75DE68BF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1EF-48F1-470A-8680-856CADA72B2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253-0339-4CD7-BF44-46977934379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B9DE0-1768-4A24-95E6-2B23B195BCC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63808-F879-406B-BEE5-58E64ABA364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FF0B9-C6A7-49EF-8BFB-A4FC3C49C57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23596-65A6-40E0-A887-67E7BE711EB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C43E6-5358-4659-A502-98FB42F41E8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F99AC-6C14-4794-8BD4-AF2DF7D7DDB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8BA7E-ECFE-498E-AAF2-45BDE9DAA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C72A-6E0E-4D9F-BF26-03BA0353117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ACD87-1C91-4D68-BACE-609C043FF1F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90A59-9E7F-4989-9DB4-4DE9CF25CCD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30BD0-87A1-436F-B179-138BF3DDA12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58506-BCEE-43CE-9F70-54EBEFC0A12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FF675-79FF-4D56-A874-CBD847E73D9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EDA56-F2E3-4B18-8CB6-96A6DFD8AFB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0FF36-AAF2-4892-A37B-488EBD305B7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39BCF-D848-4263-82D1-2134C7424EC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09054-D8EC-4F20-ADDE-8C5254B8DD0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A8602-3686-4C4E-AF1E-9B370F5559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7175-21D2-46E2-90B1-DF21C909053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99CB6-6998-477D-AFDE-E1307C65AD5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F3FEB-818E-4D1E-BCEA-0BF05B1FF25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E2136-C2C9-4931-8A99-87043F039B1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3A64A-E41E-462D-A58A-8FBCE410F60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4C4AD-2CA0-46BD-AD81-5CD51288526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B376C-8FEC-4565-BBA9-AF7876A0E52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FF6CD-0545-469C-BD22-85590F73D66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00D6-C1F8-41D8-A1C3-17C3ADB5221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D76C-C112-4136-9257-F7AE1908EA1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9225-65CE-4DE3-9945-BA01EE6304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B30A-BA4B-4262-B45C-5022B70BBA7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5A81-C44C-447A-80A3-05375F4CDA8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929E-BAC0-4E16-A879-57C9E10D2A9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0010-56BE-4346-90B2-965FFF09BBA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2CAF-A5C5-4864-B244-43339F12504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2145-8FBF-4A54-9FF5-76553F5BE43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288E-B260-41AD-81F6-CFD6A764DAB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2766-A4FD-4C94-A9E3-CD0D40C7660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AE87-164F-4189-89CE-C95D13E4E69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B1B2-4E29-4AB4-9879-94EC8BC47B6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8D3D-1566-44C9-84A3-58F6EEDEDDE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C424-CBFA-4A44-8DC1-31581C77415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C7E9-48E9-4069-A242-36BF665139B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B1B48-6E75-415E-B347-A52CBB24D63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50519F-DA0D-42F2-BE2A-E2AEFF2680F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8E356-599F-462E-BC2F-EC6E8762413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A9ACB-A4E6-4E75-B748-2C56042E775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6F85E-4052-4061-B07F-EE1875B5DB5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73C179-BE97-44F5-A039-6117BF8F529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76F97-E7C1-4F1D-862B-84494D3437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F1DE-34F0-46FE-BDC1-EE13BFEFBE0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2BA62-7734-442A-8B29-06F3D4E6745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2BA8A0-CCD0-4601-9BF4-2D0E8E4CA74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72B25F-AF01-4E9F-AF38-FF8F2D39605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42689-6B28-43F7-B251-AA0C84080A0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CC40C8-EF46-46FB-A01E-93DB45C88E8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327B5-7BA4-495B-AE91-4ED4D40B4F2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04481-C55B-4C37-80A2-0C0176611B3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C0197-FC63-450C-A239-CE2B1367C9E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2AFE5-440E-4EF3-AB8C-CAA7B9E31C8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7C4C2-6340-4C55-BFD8-373395FDEA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9549-BC34-4270-9265-E806A040413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D9C93-DFD1-4207-9C3C-28446BB8307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BC50D-1950-4149-A3C0-DDF424531B9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FD0FE-36B3-4705-8548-A4ECC56CCAE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75F5F-94C4-4267-936A-9A2E645F329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70EC6-B190-4B1B-A0AB-32C6DEBC28D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6B144-2931-4642-B052-89F117ED38C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A3D8C-44EB-40F1-9703-24B1F282C6B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ABBC-7F51-417A-A2C5-EC459E11BEB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7458-14B3-45C9-926A-9876A7D1615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9FFB-303E-422D-AA19-7B588366EF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E13F-D81C-4224-AE59-FCD01AAD6B3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160C7-12E0-4A95-9701-73835CA06A3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C034-97C3-4A1C-BC5B-B05BCD92B7A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9FDD-C7A9-4CD4-B6DB-F5E5A09B214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1F02-90A9-482C-8811-B99FB1A6B99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1B936-8761-4F39-8EB2-E577EE14251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27E33-330F-4750-BE5E-D46C00709CD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F1A3-CD4D-490C-8260-7E09E88736D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FEA64-68BC-476E-9ABE-1C69EAA36BD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496E-5909-40B0-9E3D-6F1108837EF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4B0A01-C049-4716-916A-4B9A5157E3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D4C9-0C8F-4690-9FE9-A07B3550ACE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EAA59-889D-4E74-A770-F6BBD9FCFAA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89533-C827-43C7-9EF8-AF6B9D71965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01011-E46D-436B-AC37-0E33F7196E1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E19CD-1201-4F91-BF6E-30742CEC4BF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551E2-CCC1-496C-B152-D6832DAB061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30A80-EB1A-4F38-A614-84E98B03526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FBCAEC-D4F1-4825-B8E0-B71CF8B8D5F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3FBE1-2CE2-4004-B8C3-44B34DD918C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89601-E6F4-4D9C-AE4B-E072357573F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DDE52-2875-465F-8BA6-0BF283AB2D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E6909-34E9-4D81-B499-E96DEFF070A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5B01A-D4A8-484A-A4D4-E3808C79561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9C64-18EE-4C51-AFBD-146FC2AE0B6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C90E-5919-4D9A-B231-CBA8505E9C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A2AA-543A-4946-9582-87AEE700D2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9F8D-4CA6-404E-9756-C41113A30E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5B7C0-6005-43B6-8EEF-A9197D51BE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9B47-2287-49EA-B13F-8241B15644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90360" y="2171520"/>
            <a:ext cx="81788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90360" y="550944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9036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81120" y="5509440"/>
            <a:ext cx="399096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9036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75588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1400" y="5509440"/>
            <a:ext cx="26334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9392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30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20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36080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649880" indent="-3207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3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9AA4-CAD2-4E01-AA23-694867BB4AF5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ldNum" idx="4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9FEA-49BD-414C-9AD7-A43BE9E4F858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5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EDF1-7FF2-4F07-8B98-F1FFB2B858C3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6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043E-14F5-492A-8AED-B08E7CF38C08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0EBD-CAF3-4C4E-9233-B6C41538F042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sldNum" idx="7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14AC-0A22-469C-AB4B-D53722AAE78B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Num" idx="8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F129-8C0A-4237-ADDA-BFE3EAB93659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sldNum" idx="9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F92C-C2B6-4A62-B870-E40B54D9443E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body"/>
          </p:nvPr>
        </p:nvSpPr>
        <p:spPr>
          <a:xfrm>
            <a:off x="761760" y="161244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t">
            <a:normAutofit/>
          </a:bodyPr>
          <a:p>
            <a:pPr marL="380880" indent="-342720">
              <a:spcBef>
                <a:spcPts val="799"/>
              </a:spcBef>
              <a:buClr>
                <a:srgbClr val="000000"/>
              </a:buClr>
              <a:buSzPct val="75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5480">
              <a:spcBef>
                <a:spcPts val="799"/>
              </a:spcBef>
              <a:buClr>
                <a:srgbClr val="000000"/>
              </a:buClr>
              <a:buFont typeface="Helvetic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227160">
              <a:spcBef>
                <a:spcPts val="799"/>
              </a:spcBef>
              <a:buClr>
                <a:srgbClr val="000000"/>
              </a:buClr>
              <a:buSzPct val="64000"/>
              <a:buFont typeface="Lucida Grande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5040" tIns="50760" bIns="50760" anchor="b">
            <a:noAutofit/>
          </a:bodyPr>
          <a:p>
            <a:pPr marL="42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sldNum" idx="10"/>
          </p:nvPr>
        </p:nvSpPr>
        <p:spPr>
          <a:xfrm>
            <a:off x="9585360" y="7073640"/>
            <a:ext cx="3967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56C9-447B-4913-B5E4-1DB79ED1E3D1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algn="ctr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96520" y="1574280"/>
            <a:ext cx="887724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18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4927320" y="722592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EC81-E5E8-4132-9779-A12F870BDCC9}" type="slidenum"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98040" y="520560"/>
            <a:ext cx="8750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571680" indent="-571680">
              <a:spcBef>
                <a:spcPts val="38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90360" y="2793960"/>
            <a:ext cx="81788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Newton’s third law ILD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90360" y="18032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cture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>
            <a:off x="1728360" y="5750640"/>
            <a:ext cx="669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ake one blue and one white 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203040" y="1866960"/>
            <a:ext cx="5080320" cy="5565600"/>
          </a:xfrm>
          <a:prstGeom prst="rect">
            <a:avLst/>
          </a:prstGeom>
          <a:ln w="0">
            <a:noFill/>
          </a:ln>
        </p:spPr>
      </p:pic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Apparent weight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96520" y="1574640"/>
            <a:ext cx="887724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man standing on a 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7994880" y="3611880"/>
            <a:ext cx="486720" cy="3533400"/>
            <a:chOff x="7994880" y="3611880"/>
            <a:chExt cx="486720" cy="3533400"/>
          </a:xfrm>
        </p:grpSpPr>
        <p:sp>
          <p:nvSpPr>
            <p:cNvPr id="997" name=""/>
            <p:cNvSpPr/>
            <p:nvPr/>
          </p:nvSpPr>
          <p:spPr>
            <a:xfrm>
              <a:off x="8241480" y="4062600"/>
              <a:ext cx="0" cy="129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994880" y="3611880"/>
              <a:ext cx="486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</a:t>
              </a:r>
              <a:r>
                <a:rPr b="0" i="1" lang="en-US" sz="3600" spc="-1" strike="noStrike" baseline="-6000">
                  <a:solidFill>
                    <a:srgbClr val="000000"/>
                  </a:solidFill>
                  <a:latin typeface="Gill Sans"/>
                  <a:ea typeface="Gill Sans"/>
                </a:rPr>
                <a:t>sp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241480" y="5370480"/>
              <a:ext cx="0" cy="129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041320" y="6596280"/>
              <a:ext cx="392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139600" y="5270760"/>
              <a:ext cx="203760" cy="203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3213000" y="2400480"/>
            <a:ext cx="59436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forces acting on the man are the weight force and the force of the spring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8EB8-9FF5-48FF-BB03-0AA137AB23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380880" y="649440"/>
            <a:ext cx="3251160" cy="712764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2031840" y="266400"/>
            <a:ext cx="774720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magine he weighs himself in a lift which is accelerating up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16400" y="1460520"/>
            <a:ext cx="621036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he is accelerating, there must be a net for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ne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r>
              <a:rPr b="0" i="1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r>
              <a:rPr b="0" i="1" lang="en-US" sz="32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8614440" y="3052800"/>
            <a:ext cx="1086480" cy="4219200"/>
            <a:chOff x="8614440" y="3052800"/>
            <a:chExt cx="1086480" cy="4219200"/>
          </a:xfrm>
        </p:grpSpPr>
        <p:sp>
          <p:nvSpPr>
            <p:cNvPr id="1007" name=""/>
            <p:cNvSpPr/>
            <p:nvPr/>
          </p:nvSpPr>
          <p:spPr>
            <a:xfrm>
              <a:off x="9461160" y="3606480"/>
              <a:ext cx="0" cy="1879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214200" y="3052800"/>
              <a:ext cx="486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</a:t>
              </a:r>
              <a:r>
                <a:rPr b="0" i="1" lang="en-US" sz="3600" spc="-1" strike="noStrike" baseline="-6000">
                  <a:solidFill>
                    <a:srgbClr val="000000"/>
                  </a:solidFill>
                  <a:latin typeface="Gill Sans"/>
                  <a:ea typeface="Gill Sans"/>
                </a:rPr>
                <a:t>sp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461160" y="5497200"/>
              <a:ext cx="0" cy="129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260640" y="6723000"/>
              <a:ext cx="392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359280" y="5397480"/>
              <a:ext cx="203040" cy="203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914320" y="4878360"/>
              <a:ext cx="0" cy="6080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614440" y="4259160"/>
              <a:ext cx="59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</a:t>
              </a:r>
              <a:r>
                <a:rPr b="0" i="1" lang="en-US" sz="3600" spc="-1" strike="noStrike" baseline="-6000">
                  <a:solidFill>
                    <a:srgbClr val="000000"/>
                  </a:solidFill>
                  <a:latin typeface="Gill Sans"/>
                  <a:ea typeface="Gill Sans"/>
                </a:rPr>
                <a:t>net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3365640" y="4686480"/>
            <a:ext cx="5067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the scale reads heavier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5" name=""/>
          <p:cNvSpPr/>
          <p:nvPr/>
        </p:nvSpPr>
        <p:spPr>
          <a:xfrm>
            <a:off x="3314880" y="5676840"/>
            <a:ext cx="53974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arent we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given by the magnitude of the normal force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8BBA-E250-4BA4-A82E-26C1FB58EF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5626080" y="3784680"/>
            <a:ext cx="4267080" cy="287172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Problem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64880" y="1765440"/>
            <a:ext cx="8636040" cy="213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74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lem with pulley, weights and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46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agnitude of acceleration of the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46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tension in the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46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17520" y="5613480"/>
            <a:ext cx="590544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0328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te; for an ideal string* the magnitudes of 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along the string direction) are the same at both e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03280" indent="-46044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*inextensible, with negligible mass &amp; stiffn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377E-10F4-4290-B43C-E7B1D4CC19B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90360" y="2171520"/>
            <a:ext cx="81788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ahoma"/>
              </a:rPr>
              <a:t>Next lecture</a:t>
            </a:r>
            <a:endParaRPr b="0" lang="en-US" sz="4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rcular mo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: KJF §6.1, 6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