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27D3-17CF-4FE5-9131-97D955419FF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BB24-607C-49C9-9CDA-F290F6EB2EB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740-40EE-4125-A8A2-56009E5F4F3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7770-EFFB-4CEA-AC67-97166F17F99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BE5-BB2F-4AB0-A0FF-D4084ADB3E9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DAD-172D-4EA7-8BE6-606B1466FA8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A50-13C4-4FAA-922A-A831265593E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CF95-35D8-4005-B715-AB0F0FCE62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1235-3CCD-4B00-88C6-0B7A493F534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A60-0156-469E-8B88-DE1E2F182D3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9663-A062-4192-8C3E-DC7CA5B9225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44C1-41B7-4CA7-BBA1-E1A7C616B2C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2831-D55F-478C-B926-7FB6C2CC836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B21-7E00-4739-8DDF-82FB6E15014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6AC1-BCBE-4319-9D74-FC36B5B84FC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07D6-1BE9-44A3-A752-8528FB54227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E127-E582-49EB-985A-114E32F0F93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5331-535A-487C-B24D-A07AF24A6AB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3706F-55EC-4E94-951D-59AB015FACE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111DE-8345-45B3-8803-B7AEC629C29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895E9-D873-49B7-A056-E08F80CF67E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FF834-23B4-4250-84B7-A7BCFD110A8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5A94D-E53B-49CA-B464-946AAE90884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ADEE3-2D31-4955-8E02-1F5ABAB1B7B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08765-0446-430B-A8F1-98D1C44E3F0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4C0B9-717B-45BA-B242-D8A53470E16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C2DA0-5525-472D-B329-9C2DDAA1CF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1805-14C3-440C-AEBB-4C370DD4E32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37B2A-0348-46D4-B207-94D2AE4DD2E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A02BE-DCF3-481E-B49F-4708013D305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011DD-B621-40AA-89FA-C72B8AA6485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0FEB8-8C76-445F-9504-4E20F509184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30374-ABE8-4B22-81AF-6A29C2257D9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F9139-2E20-432D-A32F-1F37EC7EDE3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0C2ED-0CAF-4D47-BC1A-FC02876312A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19F2D-AB2A-46A5-80EC-2621FAA1FDA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F2A0C-CB25-4CFA-BB68-ACCC9AF4370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CB232-DB4F-46D6-9FC0-A3579242A3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992D-143C-4FAC-8DEF-4FCC32878DA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5E818-2C41-4821-8E03-B17A5230398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0D541-602D-4170-A9CB-D3EFD5D92DD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5C59F-14F6-4302-AA70-622985B858F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DDB00-F138-4D4A-9399-DD68677F7ED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4B7A8-5DF4-4266-9D1C-8A715FCEA74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4DD7-B7FE-405A-839B-08CDF542D50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1A06-9FC8-4B6C-85CA-84700139F9E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2E25-02F5-4E07-AF94-B17BAB73570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CBF7-E277-4E38-80FF-C840DD18AC5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E86E-8DC8-403F-A438-30FD21D32C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C762-7207-49E8-B32E-A932994D1E9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D474-5E15-4053-8ADC-619467E7510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50B4-15FA-4AC7-81B8-F4E5EE414C8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F4E5-E572-4ADF-A847-3CBC61477E4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1D85-9E91-47BE-9850-5D04D7075FD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B0B6-8C11-476E-885C-F372D26BABE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6B58-E8B5-4E5F-8FC4-8CE79BA6014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9926-A4B2-446A-9249-8F6C94B6DFA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1267A-34FD-43AE-8CDE-667E31A73F0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7C11F8-30E5-41E7-AAFD-1E376639592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5F6879-DF89-4ACF-BBDE-5B09391BED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321B-F9C5-4E75-A53F-1AAE0A51A1E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5CA54F-9936-4A28-94E2-FA55A820140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CBE2E1-634B-47C0-8ECE-285064A3DE5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38E287-8EB1-47BC-9BE9-5814D1E6165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D2482B-A18A-4378-8957-5DB8DC4C34D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3AF8F4-CF58-4498-85F2-171BFA545AD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FA47EA-2E8D-4AB9-88F1-57882F87190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9033B6-571C-472C-93D3-23FB62E0481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9246A4-AB04-4166-AF56-0E29C00822B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035E72-DDE9-4584-BBF8-B426FA9EF3D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EBDB2-B15C-4271-9D02-3A60D24AC2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5730-AF3B-40D7-9AA8-4C8D98B52E3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2C38B5-FBDA-420C-8309-8E937D3EA3B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724B4-C64F-4D0A-AF7E-2E821656280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7CCAF-3B13-44CD-97CF-14EFC110185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C6925-FAF0-4D87-B623-85DF5F3E843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375DC-9B6E-4EAC-BD58-1B768BABACC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1BACE2-18B0-4E40-9697-808D1C42319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70EE14-9AA6-4FA6-96DA-158B02DF859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594DF-D245-4050-8228-CDDA66818B0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140AE-B03C-486C-AB61-5CBEFE16903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424B7-EC58-4849-B8CE-09F8D92809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7D7E-1CB8-4FF0-9E80-2370FA35121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16B1C-7450-4522-80B7-387A7330F0D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BDD0C-BC4C-465A-A969-1204EDB71B0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C4E9A-9162-4AE0-BDBE-0854FA3F0D5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EFAC9-2B79-4758-B366-E0D9992991D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2AE92-0991-4B74-8680-81ED215518A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3A20E-2EFA-448A-AC99-3B8FF1296F6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5B2A2-51AB-4733-AA0C-4A41CF23715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090D7-DD1E-4444-957F-E0750A9EB45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C6CDB-7839-47FD-ABFD-8EDDD7B8EA3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9E582-10F5-4CE7-9C66-08CC8C92DB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71C75-05D2-4DED-9305-D886A8A7F55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B70A7-2D94-479B-9D11-ABA78E874C2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16756-741C-46AA-AA63-E60B2D2E20C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6EB3F-0BA9-4A16-BFE3-3FA1908F31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08158-2140-4D22-B8DD-E080ACFA3F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DD77E-C218-4482-84BE-18758DFDB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9B903-2734-4F92-99DA-2E357AEC68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86B28-3DBF-441E-9CFC-5F5F54056B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7AFE0-766B-455B-8997-FF6406D6A8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D056D-1C7A-4A2E-B5E0-6631E4CC02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3E51F-3279-4AA7-9290-794F50488C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453CF-914D-4084-9BCD-1F6F474519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47CF9-A5A3-486D-803C-E6CE2EA6A06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25755-49C7-4C7C-A842-91BC65842B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A24E1-12C4-45E0-ADBC-2D11A45B833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Num" idx="3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3B1F-2914-47DF-9B10-0BA2B1044248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623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20400" indent="-3654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54908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9392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8300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20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36080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623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20400" indent="-3654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54908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sldNum" idx="4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FBBE-1F13-4162-B80C-E2165F235FDC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Num" idx="5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FDFA-E80A-4C8B-AC4D-78A6677232C9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Num" idx="6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6CEB-2E5F-4322-87B6-4704CC917F46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sldNum" idx="7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5EB4-BF04-48F3-83D2-4EFA474C950B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4273-6830-4FF0-B12B-07A6034C9794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sldNum" idx="8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C601-C267-48ED-9D81-6EBFD0667B76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sldNum" idx="9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4C0D-B48C-4DE1-A226-A5BCED0F47EA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98040" y="520560"/>
            <a:ext cx="8750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Num" idx="2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58B3-C9C3-4127-AC05-756312523189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98040" y="520560"/>
            <a:ext cx="8750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Circular Motion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cture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"/>
          <p:cNvSpPr/>
          <p:nvPr/>
        </p:nvSpPr>
        <p:spPr>
          <a:xfrm>
            <a:off x="1724760" y="5486040"/>
            <a:ext cx="693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Pre-reading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: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KJF §6.1 and 6.2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/>
          </p:nvPr>
        </p:nvSpPr>
        <p:spPr>
          <a:xfrm>
            <a:off x="355680" y="419040"/>
            <a:ext cx="58291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ange in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Δ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ints towards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ent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cir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e between velocity vectors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 = v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5943600" y="1003320"/>
            <a:ext cx="3809880" cy="330516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2"/>
          <a:stretch/>
        </p:blipFill>
        <p:spPr>
          <a:xfrm>
            <a:off x="5943600" y="4940280"/>
            <a:ext cx="3809880" cy="255600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3"/>
          <a:stretch/>
        </p:blipFill>
        <p:spPr>
          <a:xfrm>
            <a:off x="1346040" y="5715000"/>
            <a:ext cx="3848400" cy="100332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239760" y="7074000"/>
            <a:ext cx="170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3.8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B5A2-206C-4BEC-A2B3-6367F86635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leration points towards cent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entripetal accel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6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object is accelerating, there must be a force to keep it moving in a cir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entripetal acceleration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7" name=""/>
          <p:cNvSpPr/>
          <p:nvPr/>
        </p:nvSpPr>
        <p:spPr>
          <a:xfrm>
            <a:off x="239760" y="7074000"/>
            <a:ext cx="170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6.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1"/>
          <a:stretch/>
        </p:blipFill>
        <p:spPr>
          <a:xfrm>
            <a:off x="3759120" y="2730600"/>
            <a:ext cx="2641680" cy="90144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3378240" y="4978440"/>
            <a:ext cx="3403440" cy="901800"/>
          </a:xfrm>
          <a:prstGeom prst="rect">
            <a:avLst/>
          </a:prstGeom>
          <a:ln w="0">
            <a:noFill/>
          </a:ln>
        </p:spPr>
      </p:pic>
      <p:sp>
        <p:nvSpPr>
          <p:cNvPr id="940" name=""/>
          <p:cNvSpPr/>
          <p:nvPr/>
        </p:nvSpPr>
        <p:spPr>
          <a:xfrm>
            <a:off x="571680" y="5867280"/>
            <a:ext cx="8940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entripetal for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provided by friction, tension in a string, gravity etc. or combinations. </a:t>
            </a:r>
            <a:r>
              <a:rPr b="0" lang="en-US" sz="3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3AFA-AA7F-4F95-A5F9-9248AB56E1C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/>
          </p:nvPr>
        </p:nvSpPr>
        <p:spPr>
          <a:xfrm>
            <a:off x="698040" y="520560"/>
            <a:ext cx="8750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entripetal for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iven to the resultant force: it i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separate force in the free-body dia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entripetal acceleration has to be provided by some other force (tension, friction, normal force) in order for circular motion to occ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790B4-FD2D-4FBB-A399-6054C082E0E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a free-body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object is moving in a circle, there must be 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t for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inting towards the centre of the cir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gnitude of this net force is given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Solving CM problems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3378240" y="4394160"/>
            <a:ext cx="3403440" cy="90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280A-484A-4B1F-94F2-DC04F67A484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" descr=""/>
          <p:cNvPicPr/>
          <p:nvPr/>
        </p:nvPicPr>
        <p:blipFill>
          <a:blip r:embed="rId1"/>
          <a:stretch/>
        </p:blipFill>
        <p:spPr>
          <a:xfrm>
            <a:off x="147600" y="3797280"/>
            <a:ext cx="3917880" cy="3165480"/>
          </a:xfrm>
          <a:prstGeom prst="rect">
            <a:avLst/>
          </a:prstGeom>
          <a:ln w="0">
            <a:noFill/>
          </a:ln>
        </p:spPr>
      </p:pic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Problem 1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65240" y="1612800"/>
            <a:ext cx="9423360" cy="172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enter the carnival ride called "The Rotor".  The circular room is spinning and you and other riders are stuck to the circular w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216320" y="3797280"/>
            <a:ext cx="577872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55680" indent="-3175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a free-body diagram of the woman in r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55680" indent="-3175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she in equilibrium? Explai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55680" indent="-3175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force is providing the centripetal force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0" y="157464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0BB9-DD03-413F-82A9-7E34905BAD0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Whirling bucke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724280" y="1498320"/>
            <a:ext cx="461016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ucket of water is whirled around in a vertical circle with radius 1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inimum speed that it can be whirled so the water remains in the buck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-872640" y="1324800"/>
            <a:ext cx="4479120" cy="3894480"/>
            <a:chOff x="-872640" y="1324800"/>
            <a:chExt cx="4479120" cy="3894480"/>
          </a:xfrm>
        </p:grpSpPr>
        <p:grpSp>
          <p:nvGrpSpPr>
            <p:cNvPr id="953" name=""/>
            <p:cNvGrpSpPr/>
            <p:nvPr/>
          </p:nvGrpSpPr>
          <p:grpSpPr>
            <a:xfrm>
              <a:off x="-872640" y="1324800"/>
              <a:ext cx="3245760" cy="2146320"/>
              <a:chOff x="-872640" y="1324800"/>
              <a:chExt cx="3245760" cy="2146320"/>
            </a:xfrm>
          </p:grpSpPr>
          <p:sp>
            <p:nvSpPr>
              <p:cNvPr id="954" name=""/>
              <p:cNvSpPr/>
              <p:nvPr/>
            </p:nvSpPr>
            <p:spPr>
              <a:xfrm flipH="1" rot="17999400">
                <a:off x="-210600" y="1419840"/>
                <a:ext cx="1294560" cy="192744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7199400">
                <a:off x="-797760" y="1748880"/>
                <a:ext cx="1618560" cy="110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290240" y="2846160"/>
                <a:ext cx="1082880" cy="62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>
              <a:off x="1117440" y="2126880"/>
              <a:ext cx="2489040" cy="309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58" name=""/>
          <p:cNvSpPr/>
          <p:nvPr/>
        </p:nvSpPr>
        <p:spPr>
          <a:xfrm>
            <a:off x="4521240" y="5943600"/>
            <a:ext cx="5334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[3 ms</a:t>
            </a:r>
            <a:r>
              <a:rPr b="0" lang="en-US" sz="3200" spc="-1" strike="noStrike" baseline="32000">
                <a:solidFill>
                  <a:srgbClr val="0000ff"/>
                </a:solidFill>
                <a:latin typeface="Times New Roman"/>
                <a:ea typeface="Times New Roman"/>
              </a:rPr>
              <a:t>–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or rotation period 2s]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80C7-6389-4228-A5E0-786A7290BB1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Clicker questions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/>
          </p:nvPr>
        </p:nvSpPr>
        <p:spPr>
          <a:xfrm>
            <a:off x="482760" y="367920"/>
            <a:ext cx="5168880" cy="394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beetle is sitting on a rotating turntable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ooking at the turntable side on, so the centre is towards the righ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5829480" y="519120"/>
            <a:ext cx="4012920" cy="3119400"/>
          </a:xfrm>
          <a:prstGeom prst="rect">
            <a:avLst/>
          </a:prstGeom>
          <a:ln w="0">
            <a:noFill/>
          </a:ln>
        </p:spPr>
      </p:pic>
      <p:grpSp>
        <p:nvGrpSpPr>
          <p:cNvPr id="963" name=""/>
          <p:cNvGrpSpPr/>
          <p:nvPr/>
        </p:nvGrpSpPr>
        <p:grpSpPr>
          <a:xfrm>
            <a:off x="1244520" y="6072120"/>
            <a:ext cx="152280" cy="1090440"/>
            <a:chOff x="1244520" y="6072120"/>
            <a:chExt cx="152280" cy="1090440"/>
          </a:xfrm>
        </p:grpSpPr>
        <p:sp>
          <p:nvSpPr>
            <p:cNvPr id="964" name=""/>
            <p:cNvSpPr/>
            <p:nvPr/>
          </p:nvSpPr>
          <p:spPr>
            <a:xfrm>
              <a:off x="1244520" y="65523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307880" y="6072120"/>
              <a:ext cx="0" cy="56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307880" y="6603120"/>
              <a:ext cx="0" cy="55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3060720" y="6072120"/>
            <a:ext cx="614520" cy="1090440"/>
            <a:chOff x="3060720" y="6072120"/>
            <a:chExt cx="614520" cy="1090440"/>
          </a:xfrm>
        </p:grpSpPr>
        <p:sp>
          <p:nvSpPr>
            <p:cNvPr id="968" name=""/>
            <p:cNvSpPr/>
            <p:nvPr/>
          </p:nvSpPr>
          <p:spPr>
            <a:xfrm>
              <a:off x="3060720" y="65523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137040" y="6072120"/>
              <a:ext cx="0" cy="56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137040" y="6603120"/>
              <a:ext cx="0" cy="55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187800" y="6628320"/>
              <a:ext cx="48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0840" y="793800"/>
            <a:ext cx="5297400" cy="3104640"/>
            <a:chOff x="150840" y="793800"/>
            <a:chExt cx="5297400" cy="3104640"/>
          </a:xfrm>
        </p:grpSpPr>
        <p:sp>
          <p:nvSpPr>
            <p:cNvPr id="973" name=""/>
            <p:cNvSpPr/>
            <p:nvPr/>
          </p:nvSpPr>
          <p:spPr>
            <a:xfrm>
              <a:off x="2184480" y="3784320"/>
              <a:ext cx="3263760" cy="114120"/>
            </a:xfrm>
            <a:prstGeom prst="rect">
              <a:avLst/>
            </a:prstGeom>
            <a:solidFill>
              <a:srgbClr val="6666ff">
                <a:alpha val="57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800520" y="2671920"/>
              <a:ext cx="9720" cy="11296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2"/>
            <a:srcRect l="0" t="22812" r="56342" b="22812"/>
            <a:stretch/>
          </p:blipFill>
          <p:spPr>
            <a:xfrm>
              <a:off x="150840" y="793800"/>
              <a:ext cx="750960" cy="30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6" name=""/>
          <p:cNvSpPr/>
          <p:nvPr/>
        </p:nvSpPr>
        <p:spPr>
          <a:xfrm>
            <a:off x="501120" y="6387840"/>
            <a:ext cx="42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7" name=""/>
          <p:cNvSpPr/>
          <p:nvPr/>
        </p:nvSpPr>
        <p:spPr>
          <a:xfrm>
            <a:off x="2393280" y="6387840"/>
            <a:ext cx="44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8" name=""/>
          <p:cNvSpPr/>
          <p:nvPr/>
        </p:nvSpPr>
        <p:spPr>
          <a:xfrm>
            <a:off x="4209480" y="6387840"/>
            <a:ext cx="42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4876920" y="6072120"/>
            <a:ext cx="1071000" cy="1090440"/>
            <a:chOff x="4876920" y="6072120"/>
            <a:chExt cx="1071000" cy="1090440"/>
          </a:xfrm>
        </p:grpSpPr>
        <p:sp>
          <p:nvSpPr>
            <p:cNvPr id="980" name=""/>
            <p:cNvSpPr/>
            <p:nvPr/>
          </p:nvSpPr>
          <p:spPr>
            <a:xfrm>
              <a:off x="5333760" y="6552360"/>
              <a:ext cx="15192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10080" y="6072120"/>
              <a:ext cx="0" cy="56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10080" y="6603120"/>
              <a:ext cx="0" cy="55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60840" y="6628320"/>
              <a:ext cx="48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876920" y="6628320"/>
              <a:ext cx="48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6495480" y="6387840"/>
            <a:ext cx="44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7074000" y="6072120"/>
            <a:ext cx="621720" cy="1090440"/>
            <a:chOff x="7074000" y="6072120"/>
            <a:chExt cx="621720" cy="1090440"/>
          </a:xfrm>
        </p:grpSpPr>
        <p:sp>
          <p:nvSpPr>
            <p:cNvPr id="987" name=""/>
            <p:cNvSpPr/>
            <p:nvPr/>
          </p:nvSpPr>
          <p:spPr>
            <a:xfrm>
              <a:off x="7543440" y="65523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607160" y="6072120"/>
              <a:ext cx="0" cy="56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607160" y="6603120"/>
              <a:ext cx="0" cy="55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074000" y="6628320"/>
              <a:ext cx="48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8115480" y="6381720"/>
            <a:ext cx="1841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) other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2" name=""/>
          <p:cNvSpPr/>
          <p:nvPr/>
        </p:nvSpPr>
        <p:spPr>
          <a:xfrm>
            <a:off x="431640" y="4172040"/>
            <a:ext cx="93474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diagram correctly shows the forces acting on the beetle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" descr=""/>
          <p:cNvPicPr/>
          <p:nvPr/>
        </p:nvPicPr>
        <p:blipFill>
          <a:blip r:embed="rId1"/>
          <a:stretch/>
        </p:blipFill>
        <p:spPr>
          <a:xfrm>
            <a:off x="5867280" y="4000680"/>
            <a:ext cx="4013280" cy="3117600"/>
          </a:xfrm>
          <a:prstGeom prst="rect">
            <a:avLst/>
          </a:prstGeom>
          <a:ln w="0">
            <a:noFill/>
          </a:ln>
        </p:spPr>
      </p:pic>
      <p:sp>
        <p:nvSpPr>
          <p:cNvPr id="994" name="PlaceHolder 1"/>
          <p:cNvSpPr>
            <a:spLocks noGrp="1"/>
          </p:cNvSpPr>
          <p:nvPr>
            <p:ph/>
          </p:nvPr>
        </p:nvSpPr>
        <p:spPr>
          <a:xfrm>
            <a:off x="151920" y="520560"/>
            <a:ext cx="875052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43000"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is a centripetal force acting on the beetle. What provides this forc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angular velocity of the turnt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ngential velo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entripetal accel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rmal for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5753160" y="4064040"/>
            <a:ext cx="4013280" cy="3117960"/>
          </a:xfrm>
          <a:prstGeom prst="rect">
            <a:avLst/>
          </a:prstGeom>
          <a:ln w="0">
            <a:noFill/>
          </a:ln>
        </p:spPr>
      </p:pic>
      <p:sp>
        <p:nvSpPr>
          <p:cNvPr id="996" name="PlaceHolder 1"/>
          <p:cNvSpPr>
            <a:spLocks noGrp="1"/>
          </p:cNvSpPr>
          <p:nvPr>
            <p:ph/>
          </p:nvPr>
        </p:nvSpPr>
        <p:spPr>
          <a:xfrm>
            <a:off x="698040" y="520560"/>
            <a:ext cx="8750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turntable starts to spin faster. Which direction should beetle move so as not to slip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war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utwar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ward in the direction of mo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ckwards away from th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rection of mo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" descr=""/>
          <p:cNvPicPr/>
          <p:nvPr/>
        </p:nvPicPr>
        <p:blipFill>
          <a:blip r:embed="rId1"/>
          <a:stretch/>
        </p:blipFill>
        <p:spPr>
          <a:xfrm>
            <a:off x="203040" y="1866960"/>
            <a:ext cx="5080320" cy="556560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Apparent weigh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96520" y="1574640"/>
            <a:ext cx="887724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 man standing on a 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7994880" y="3611880"/>
            <a:ext cx="486720" cy="3533400"/>
            <a:chOff x="7994880" y="3611880"/>
            <a:chExt cx="486720" cy="3533400"/>
          </a:xfrm>
        </p:grpSpPr>
        <p:sp>
          <p:nvSpPr>
            <p:cNvPr id="884" name=""/>
            <p:cNvSpPr/>
            <p:nvPr/>
          </p:nvSpPr>
          <p:spPr>
            <a:xfrm>
              <a:off x="8241480" y="4062600"/>
              <a:ext cx="0" cy="1297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994880" y="3611880"/>
              <a:ext cx="486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F</a:t>
              </a:r>
              <a:r>
                <a:rPr b="0" i="1" lang="en-US" sz="3600" spc="-1" strike="noStrike" baseline="-6000">
                  <a:solidFill>
                    <a:srgbClr val="000000"/>
                  </a:solidFill>
                  <a:latin typeface="Gill Sans"/>
                  <a:ea typeface="Gill Sans"/>
                </a:rPr>
                <a:t>sp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241480" y="5370480"/>
              <a:ext cx="0" cy="1297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041320" y="6596280"/>
              <a:ext cx="392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139600" y="5270760"/>
              <a:ext cx="203760" cy="203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213000" y="2400480"/>
            <a:ext cx="59436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forces acting on the man are the weight force and the force of the spring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455A-4785-4E69-BAA6-FAFACF2388B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" descr=""/>
          <p:cNvPicPr/>
          <p:nvPr/>
        </p:nvPicPr>
        <p:blipFill>
          <a:blip r:embed="rId1"/>
          <a:stretch/>
        </p:blipFill>
        <p:spPr>
          <a:xfrm>
            <a:off x="5067360" y="4508640"/>
            <a:ext cx="4991040" cy="300672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ar around a corner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79000" y="1383840"/>
            <a:ext cx="9232920" cy="2832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r of mass 1.6 t travels at a constant speed of 72 km/h around a horizontal curved road with radius of curvature 190 m. (Draw a free-body diagr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inimum valu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the road and the tyres that will prevent slippag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328240" y="4048560"/>
            <a:ext cx="986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[0.21]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D2ED-3F75-4A71-8044-73640F32624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5556240" y="4116240"/>
            <a:ext cx="4108320" cy="339588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ar over a hill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6520" y="1574280"/>
            <a:ext cx="8877240" cy="242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r is driving at constant speed over a hill, which is a circular dome of radius 240 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ve what speed will the car leave the road at the top of the hi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348320" y="3566160"/>
            <a:ext cx="1927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[175 km/h]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0E7D-E255-4622-AAE2-A449C98C48F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Banked road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380520" y="1549080"/>
            <a:ext cx="90680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a curve, if the road surface is "banked" (tilted towards the curve centre) then the horizontal component of the normal force can provide some (or all) of the required centripetal force. Choo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so that less or no static friction i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39760" y="7074000"/>
            <a:ext cx="185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example 6.6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1"/>
          <a:stretch/>
        </p:blipFill>
        <p:spPr>
          <a:xfrm>
            <a:off x="4189320" y="4076640"/>
            <a:ext cx="529272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8653-59F3-4E8F-B098-6FFB88FD459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KJF example 6.6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46120" y="1536480"/>
            <a:ext cx="906768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urve of radius 70m is banked at a 15° angle. At what speed can a car take this curve without assistance from fric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39760" y="7074000"/>
            <a:ext cx="185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example 6.6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12" name="" descr=""/>
          <p:cNvPicPr/>
          <p:nvPr/>
        </p:nvPicPr>
        <p:blipFill>
          <a:blip r:embed="rId1"/>
          <a:stretch/>
        </p:blipFill>
        <p:spPr>
          <a:xfrm>
            <a:off x="2971800" y="4076640"/>
            <a:ext cx="6942240" cy="3175200"/>
          </a:xfrm>
          <a:prstGeom prst="rect">
            <a:avLst/>
          </a:prstGeom>
          <a:ln w="0">
            <a:noFill/>
          </a:ln>
        </p:spPr>
      </p:pic>
      <p:sp>
        <p:nvSpPr>
          <p:cNvPr id="1013" name=""/>
          <p:cNvSpPr/>
          <p:nvPr/>
        </p:nvSpPr>
        <p:spPr>
          <a:xfrm>
            <a:off x="5676840" y="3162240"/>
            <a:ext cx="4419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[14 ms</a:t>
            </a:r>
            <a:r>
              <a:rPr b="0" lang="en-US" sz="3200" spc="-1" strike="noStrike" baseline="32000">
                <a:solidFill>
                  <a:srgbClr val="0000ff"/>
                </a:solidFill>
                <a:latin typeface="Times New Roman"/>
                <a:ea typeface="Times New Roman"/>
              </a:rPr>
              <a:t>–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50 km h</a:t>
            </a:r>
            <a:r>
              <a:rPr b="0" lang="en-US" sz="3200" spc="-1" strike="noStrike" baseline="32000">
                <a:solidFill>
                  <a:srgbClr val="0000ff"/>
                </a:solidFill>
                <a:latin typeface="Times New Roman"/>
                <a:ea typeface="Times New Roman"/>
              </a:rPr>
              <a:t>–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8AB0-E0E0-4E13-B548-F24832DCDB4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ahoma"/>
              </a:rPr>
              <a:t>Next lecture</a:t>
            </a: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ntre of mass and Tor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: KJF §7.2, 7.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" descr=""/>
          <p:cNvPicPr/>
          <p:nvPr/>
        </p:nvPicPr>
        <p:blipFill>
          <a:blip r:embed="rId1"/>
          <a:stretch/>
        </p:blipFill>
        <p:spPr>
          <a:xfrm>
            <a:off x="380880" y="649440"/>
            <a:ext cx="3251160" cy="7127640"/>
          </a:xfrm>
          <a:prstGeom prst="rect">
            <a:avLst/>
          </a:prstGeom>
          <a:ln w="0">
            <a:noFill/>
          </a:ln>
        </p:spPr>
      </p:pic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2031840" y="266400"/>
            <a:ext cx="774720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magine he weighs himself in a lift which is accelerating upw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416400" y="1460520"/>
            <a:ext cx="621036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he is accelerating, there must be a net for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ne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s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r>
              <a:rPr b="0" i="1" lang="en-US" sz="3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s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r>
              <a:rPr b="0" i="1" lang="en-US" sz="3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8614440" y="3052800"/>
            <a:ext cx="1086480" cy="4219200"/>
            <a:chOff x="8614440" y="3052800"/>
            <a:chExt cx="1086480" cy="4219200"/>
          </a:xfrm>
        </p:grpSpPr>
        <p:sp>
          <p:nvSpPr>
            <p:cNvPr id="894" name=""/>
            <p:cNvSpPr/>
            <p:nvPr/>
          </p:nvSpPr>
          <p:spPr>
            <a:xfrm>
              <a:off x="9461160" y="3606480"/>
              <a:ext cx="0" cy="1879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9214200" y="3052800"/>
              <a:ext cx="486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F</a:t>
              </a:r>
              <a:r>
                <a:rPr b="0" i="1" lang="en-US" sz="3600" spc="-1" strike="noStrike" baseline="-6000">
                  <a:solidFill>
                    <a:srgbClr val="000000"/>
                  </a:solidFill>
                  <a:latin typeface="Gill Sans"/>
                  <a:ea typeface="Gill Sans"/>
                </a:rPr>
                <a:t>sp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9461160" y="5497200"/>
              <a:ext cx="0" cy="1297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9260640" y="6723000"/>
              <a:ext cx="392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9359280" y="5397480"/>
              <a:ext cx="203040" cy="203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914320" y="4878360"/>
              <a:ext cx="0" cy="6080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614440" y="4259160"/>
              <a:ext cx="59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F</a:t>
              </a:r>
              <a:r>
                <a:rPr b="0" i="1" lang="en-US" sz="3600" spc="-1" strike="noStrike" baseline="-6000">
                  <a:solidFill>
                    <a:srgbClr val="000000"/>
                  </a:solidFill>
                  <a:latin typeface="Gill Sans"/>
                  <a:ea typeface="Gill Sans"/>
                </a:rPr>
                <a:t>net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3365640" y="4686480"/>
            <a:ext cx="5067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the scale reads heavier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2" name=""/>
          <p:cNvSpPr/>
          <p:nvPr/>
        </p:nvSpPr>
        <p:spPr>
          <a:xfrm>
            <a:off x="3314880" y="5676840"/>
            <a:ext cx="539748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pparent wei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given by the magnitude of the normal force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3581-8F7E-4383-A655-CBDBE68E4D9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ircular motion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JF §6.1–6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Angular position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14120" y="1472760"/>
            <a:ext cx="563868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n object moves in a circle of radiu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after travelling a dista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as moved a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gular displac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measured in radia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π radians = 360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39760" y="7074000"/>
            <a:ext cx="170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3.8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5753160" y="1803240"/>
            <a:ext cx="3809880" cy="316728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2400480" y="4292640"/>
            <a:ext cx="1054080" cy="74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0AF9-0DAC-4855-B691-0FE13475F6D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Tangential velocity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14120" y="1473120"/>
            <a:ext cx="5638680" cy="598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otion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object takes 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xecute motion, then it ha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angential velo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magnit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iven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1"/>
          <a:stretch/>
        </p:blipFill>
        <p:spPr>
          <a:xfrm>
            <a:off x="5753160" y="1803240"/>
            <a:ext cx="3809880" cy="316728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2400480" y="3949560"/>
            <a:ext cx="1054080" cy="74952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3"/>
          <a:stretch/>
        </p:blipFill>
        <p:spPr>
          <a:xfrm>
            <a:off x="3670200" y="6654960"/>
            <a:ext cx="1041480" cy="73656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101520" y="5511960"/>
            <a:ext cx="10058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i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mo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time to complete one revolution (units: 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number of revolutions per second (units: s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Hz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0F0B-D867-49E1-891E-85129DB69CF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Angular velocity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6880" y="1574280"/>
            <a:ext cx="580392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n angular velocit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Uniform circular mo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w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ω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last 3 equ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6172200" y="4203720"/>
            <a:ext cx="3809880" cy="333360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2"/>
          <a:stretch/>
        </p:blipFill>
        <p:spPr>
          <a:xfrm>
            <a:off x="1854360" y="2324160"/>
            <a:ext cx="5511600" cy="85068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239760" y="7074000"/>
            <a:ext cx="170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6.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21" name="" descr=""/>
          <p:cNvPicPr/>
          <p:nvPr/>
        </p:nvPicPr>
        <p:blipFill>
          <a:blip r:embed="rId3"/>
          <a:stretch/>
        </p:blipFill>
        <p:spPr>
          <a:xfrm>
            <a:off x="2514600" y="5931000"/>
            <a:ext cx="138420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4847-7FB6-4EA0-BE8F-4D60DAE929A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Question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7600" y="1650600"/>
            <a:ext cx="88772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place a beetle on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formly rotating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beetle'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angent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locity different or the same at different radial posi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beetle'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n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locity different or the same at the different radial posi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1"/>
          <a:stretch/>
        </p:blipFill>
        <p:spPr>
          <a:xfrm>
            <a:off x="6705720" y="1409760"/>
            <a:ext cx="2717640" cy="83484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8729640" y="1663560"/>
            <a:ext cx="490680" cy="33336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190440" y="5587920"/>
            <a:ext cx="8801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17520"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member; all points on a rigid rotating object will experience the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me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ngular veloc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8C88-FE19-44BB-85A2-0E737B7CED5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/>
          </p:nvPr>
        </p:nvSpPr>
        <p:spPr>
          <a:xfrm>
            <a:off x="304920" y="419040"/>
            <a:ext cx="654048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n object is moving in uniform circular motion – tangential speed is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 the object accelera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93440" y="3825360"/>
            <a:ext cx="358992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ty is a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∴ changing direction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⇒ acceler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⇒ net for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5943600" y="1003320"/>
            <a:ext cx="3809880" cy="33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94E53-2730-42BE-BAC8-0DEE37E49EA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