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  <p:sldId id="272" r:id="rId46"/>
    <p:sldId id="273" r:id="rId47"/>
    <p:sldId id="274" r:id="rId48"/>
    <p:sldId id="275" r:id="rId49"/>
    <p:sldId id="276" r:id="rId50"/>
    <p:sldId id="277" r:id="rId51"/>
    <p:sldId id="278" r:id="rId52"/>
    <p:sldId id="279" r:id="rId53"/>
    <p:sldId id="280" r:id="rId54"/>
    <p:sldId id="281" r:id="rId55"/>
    <p:sldId id="282" r:id="rId56"/>
    <p:sldId id="283" r:id="rId57"/>
    <p:sldId id="284" r:id="rId5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slide" Target="slides/slide17.xml"/><Relationship Id="rId47" Type="http://schemas.openxmlformats.org/officeDocument/2006/relationships/slide" Target="slides/slide18.xml"/><Relationship Id="rId48" Type="http://schemas.openxmlformats.org/officeDocument/2006/relationships/slide" Target="slides/slide19.xml"/><Relationship Id="rId49" Type="http://schemas.openxmlformats.org/officeDocument/2006/relationships/slide" Target="slides/slide20.xml"/><Relationship Id="rId50" Type="http://schemas.openxmlformats.org/officeDocument/2006/relationships/slide" Target="slides/slide21.xml"/><Relationship Id="rId51" Type="http://schemas.openxmlformats.org/officeDocument/2006/relationships/slide" Target="slides/slide22.xml"/><Relationship Id="rId52" Type="http://schemas.openxmlformats.org/officeDocument/2006/relationships/slide" Target="slides/slide23.xml"/><Relationship Id="rId53" Type="http://schemas.openxmlformats.org/officeDocument/2006/relationships/slide" Target="slides/slide24.xml"/><Relationship Id="rId54" Type="http://schemas.openxmlformats.org/officeDocument/2006/relationships/slide" Target="slides/slide25.xml"/><Relationship Id="rId55" Type="http://schemas.openxmlformats.org/officeDocument/2006/relationships/slide" Target="slides/slide26.xml"/><Relationship Id="rId56" Type="http://schemas.openxmlformats.org/officeDocument/2006/relationships/slide" Target="slides/slide27.xml"/><Relationship Id="rId57" Type="http://schemas.openxmlformats.org/officeDocument/2006/relationships/slide" Target="slides/slide28.xml"/><Relationship Id="rId58" Type="http://schemas.openxmlformats.org/officeDocument/2006/relationships/slide" Target="slides/slide29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0E470-9D29-494B-9538-1A73FE9F9B2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13D06-850B-4BB2-90E4-5CED3EA3EB4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3A1B0-8BF5-4486-A393-B6426F37D4C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D0369-9EA2-4141-9E31-DA954794086F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5E2A5-3961-45DC-B269-85F6F8E9D3E4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167D9-06B3-40FF-8759-ADAC49F5B508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40603-D43A-4FD1-9FB6-C7414FE62186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FF6CA3-E914-416A-87FE-8E5DD37523A3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1DD74-52B8-48EE-B734-29100028B12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61178-9AE4-4285-92E7-FC51C188E167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92D5BD-2AB1-4966-BEA1-0E2F413B67C6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60183-BDD4-40DA-AF19-D162EED3D49C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79512-EC86-41F3-B407-F90DA9BB53EC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74B9E2-A1A6-4FC1-B330-AB8BF1E420F1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890A3-A733-4E94-8D2D-0D075D2E9F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4EADA-B17B-4455-8564-536AE14ADB19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E207E4-ED31-4D96-9067-7CED5FF81FAB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03F26B-E73D-4B4A-B2FC-0990EEE475DC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52836-66BA-481B-992E-ED3BD0C49616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C8CB-BB09-48B0-BEC7-C1554F1A9086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3B70-AF85-4A52-9152-D2A564BF5D59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DCE25-8184-49C1-B5F9-D7B2E5B9B68E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5F71-DD64-461C-9AF1-61C5C6C5400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E2B4-84EE-4793-8111-AA0157A9DBF0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1654-1DD5-4C12-8C3C-B81836B22C8A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FF0E-32B3-4BE1-82FA-4882CCAB7E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0B2FC-D2A0-4641-B4FC-F011653921B2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6AE3-D839-4910-A297-1E0BD6D491CD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666BB-05AC-47C3-9A8E-1362D4D94C8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C1E7-9731-4D91-8C07-3AF585ED2BD3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69A6-3360-45CE-8D41-03D403E83ED6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6A32-05BD-4063-8935-95EE964A60F7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3F2A7C-2CAE-4E80-A2B8-EEE79A12AB59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40801E-6263-4CC9-AE68-697878EBCE0C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A960E5-BE88-48DF-923F-014EAEC823C9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37D3F4-9050-48FE-B1A7-7FBF20C0D1F9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95ED6B-7DFB-4731-AC46-542EBBFD97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1D88B-D0B3-457C-8127-72738C631968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51B26F-8793-4177-B8F7-6BB6E945C128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0D068E-526A-4F74-AC52-F5DA60CB51E2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CD4513-72DD-4A11-B82D-A0F055BA669E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F24090-AC73-42B1-A2F3-CAB910FFCD21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DF2FF9-C163-47E4-83A8-18CB0AEF6A61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F88142-81AE-49FE-BB85-6DD43F1E4D15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122FBC-EABF-48E9-9A7E-C8E2FF6F7232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58016D-8235-48E9-90ED-329E99959BF7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4355C2-D509-43DC-AA3C-4840B5989D1E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7A7F4D-0EA7-4FB8-BEC4-75920E941E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DA726-E0F7-4158-8446-FF10B3CD891B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352911-3C6B-4CA7-BD3B-73749D4A6C58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15D31B-FCDC-43B7-8D26-50E85A4EE1F8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268278-974C-4474-A9A7-E7B8EC6E18E5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38879C-198C-405D-A3F5-24019A711CF3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C18E6D-7BB3-467A-B482-4827C51206F4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7B0258-48E5-4BCA-9C9F-05EEE9B6DF6E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BE19E2-EF0F-4EDE-B8D7-84794E119077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371B86-FF7A-4A0F-90C3-BC514359B106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CB01BA-ACB6-4B7F-BC46-A934898BDA62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11D95-F006-47B3-8045-C0A124F985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9ECEC-01A6-4410-B2D2-022D6EB0F792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47DD6-619F-423E-AA3F-5A59217C9AAC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78F9C-8565-4D1C-80D5-3ADB3C8FC1EA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817C5-F4C2-454A-8D30-07965FEABC27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4CB5F-8370-4B06-844D-F9236F7BD6E4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2FF2E-3B6D-42B5-B3FF-0A4F5C23E38F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F950D-D791-49DA-A670-D4F1C575B0B9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064AE-4409-48F9-A075-05F34CED58E7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19FDE-8B3E-430F-83FD-2555088AACF6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983AE-008F-40C9-89AA-F836CC7F287C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2FE4C-1D6C-4A05-879E-31D8B459B5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E7881-27A5-42AF-A133-99E889F1D2A9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4F40E-CDBC-43C1-8A4C-A67ACF01A555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D9A4D7-B538-4772-883F-82A1DB65274B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86BF7A-0838-4704-8EF3-95D7EC185770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D9358F-660B-421B-8A83-525EF10DE31B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1F1DF8-4F99-4124-8E88-6E2F7466BF48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5AA933-EE97-4D55-BF45-A74BF51B8177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9276EC-010E-47A6-BB83-12C26A166BBE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8F7D65-507B-40FB-B319-8EFD53D4F586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8C6FB2-8C84-426E-AABF-BF0760A8B3BA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9F4A0C-E30A-4ED2-9AA2-95964574100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C5DA8-9641-4CF8-8077-F52512433CBD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FEF652-3D9F-4F89-BF88-4A0E7AB22D88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07EE88-6A29-40F8-9B2A-94E7AFD643BE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4AF946-3B55-4B09-840F-4C10876219FD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C4E2CB-D991-4E53-8E1C-855D8D0554E6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D55692-86F6-43B3-A46C-0B67F3B0CE9B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77CF06-7ED7-4D8E-A468-31290E2D8A84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693FDC-A6DF-40A1-B83E-BCC830638023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C53EAA-10D7-4ED4-A318-18046BBB15F8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586922-EB2F-408F-8A1D-248297EA7CF1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F8D995-DE31-4DCA-B361-2943E04070B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454EC-41BC-4CD6-BE2E-9D876B4DF2E0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3A440B-35B3-4D30-9949-1C5EB978CC87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B52F0E-F256-411A-A87C-67916DB6948D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6C6268-9AB7-4D92-BE94-1CE46C985C8F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A6A750-3713-4268-9343-CD12E1E75273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522C63-024C-454F-B05F-52AD3E9B478B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D0260-C00D-452E-A1C4-6F9FD1E22D89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9A53A-23B7-4529-B548-5779F2D41A5E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C1F41-072D-4977-935E-91D446C2653A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4497E-D3C0-4CCE-A673-66DB8A45EF25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937A8-27E7-42C4-AD43-2BF16A6CF6E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A1B40-2709-4B29-92A7-B790DCCACA84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9D6B0-75B3-472B-A4BC-677941394D69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45FD4-B4C6-47A4-B3F2-14A3A0FE38DB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064B8-8ABC-4292-8DE6-EB157FDBB558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C5F9C-45DF-44BC-88D7-0FD1E813C65A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8E833-DE70-49FC-BFC9-EABE11420F73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A7933-598B-4CF9-84B0-A0997E5C4E09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7B434-E450-4B1A-B578-43C417BC17F6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D3B4B1-9DEC-4366-A0C9-FDAEFB185F46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C7839A-CD24-414E-8DC9-1924F35F1C8A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7E2925-786D-4D44-B682-18B19BD909A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155C2-72D1-47B2-AB40-C29B1E2C9E56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3DCDBE-A53F-4A21-B3F6-65427C30C83C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51717A-AB21-4411-9848-296320085B7C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2FB206-8F4A-4163-8586-AC02D107271F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873102-6C1A-441E-8E02-4E9878954F3B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B69D1C-85B6-41D2-A94C-F79F35DBE037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CF7CDF-F682-4C97-B1D4-5DBB96A355D4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DE13BC-869B-4A20-8A05-121591B4CF37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B88C82-5CFB-408C-94A4-A9F0D52B0B1E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9A254D-8BB3-4116-BE20-C00C706E420E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B74926-840C-4977-ADAB-C7EE12974F8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4BA8A-2F84-4D1F-A21A-3A65580591DF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79DB28-1F66-4CEB-90A6-8A4D66238CE7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071C05-E837-4921-9A22-140B49274A07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9EC591-A7C6-4F87-828F-F95FCAB5E0BB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78E277-6AB3-44D3-84D7-F87B7AE24885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A4FE28-C607-4702-B055-6A7C4A3268C4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AB3AA1-5DB9-44B6-B288-B2A785CADAE0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D31FD0-081D-46C0-9701-39326CF38911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C81FF9-1532-40D8-97EC-81BC89541CC1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DAE9A8-6489-464D-BBF9-80D6454962FC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7FDB0E-39DD-4070-9919-A69EBF5FF8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54529-1D8A-4EA1-80A2-F9EDF29F658D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912AC9-60BD-4303-8E4C-15B4A6BC8D6A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931BB-5BF0-4F38-8705-C0CEC3B7FB67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63CC4-798C-4949-B734-448234FCF031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E88BF-70FB-49D4-B597-2685462340D3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DD7D7-9ACF-4D9E-B103-E006882283EF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58A93-4C53-41EB-B260-DC06FC7671B4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20B62-3902-4205-91C5-A2119BED833B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55F3C-BBEE-479A-8318-299735D51EA5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5E111-7CEF-419D-BCB6-1961B995FEFC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A8781-0075-409B-8E14-25713679E6F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5E594-0103-4195-B4D9-C8D0EA7684A9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04E26-EE15-46E6-9108-E0E73CE4BD44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2BAE4-BF6D-457A-BABD-A37876C64893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93223-9E3D-42DF-AB8A-CCDDCD6D4E53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590B6-A654-4698-A9E8-E6D60DF93E27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C4FD4-42A3-4226-925C-38560EE1F689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749CF-ED5E-46C2-8F77-7DF498C9A08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11530-CFD4-4EE9-95F3-C9D78FC2439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A2743-8CF5-4B19-B456-56668E2CCC0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AC29-61D4-4E2E-88E8-0D9BE034FE5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A342-5074-40A9-82DC-8E667AA0F72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2159-049E-4359-80DC-92EE42C590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807A-7BE0-498A-9899-92793B100F5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04BD-3615-4139-8E22-55AF58308EE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5034-0C62-45A3-AAA6-D5209919BDC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6354-0BEE-451D-8484-D991DF33688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DDC6-6054-4D9E-9241-8CB57996C06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98AE-E088-4091-BC56-11D8BDCF56D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3717-1ECA-4588-B746-1F4C2BE5D8C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6D8F-9750-4952-8E63-819E353E7E9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6B77-19EC-479C-85DB-13479F3C3A3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731B30-5E24-4FBB-B1EC-9247982B7B6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FB88C2-CD85-4F14-8F28-85113D4EE4D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7EB1B-EE59-4DE0-9744-BAC0EA8876B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9BF0C-0981-46EB-90EF-1FA89BE67A3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FF861-D5F0-475B-B731-469C59B43D6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F7FE42-DEF9-4002-BA28-1102F0A3C72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0B5FDA-DA80-4BEF-9443-4B66371B331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999CBD-A77D-4D8B-8AC6-8C4F86FD54E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E5F61-3187-4D21-AE95-7D5F346348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590782-38F6-494C-8086-CFBB8ECC5F9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BD98DC-975A-4A81-8FA0-A18DCFE5933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924242-FDE8-40A5-99E0-966CAF26429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90360" y="1803240"/>
            <a:ext cx="8178840" cy="889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360" y="2793960"/>
            <a:ext cx="817884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495000" y="110484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4000"/>
          </a:bodyPr>
          <a:p>
            <a:pPr marL="56232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89136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220400" indent="-36540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54908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87812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87812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87812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070680" y="2158920"/>
            <a:ext cx="30988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493920" indent="-32076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83000" indent="-32076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72080" indent="-32076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360800" indent="-32076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649880" indent="-32076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649880" indent="-32076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649880" indent="-32076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4000"/>
          </a:bodyPr>
          <a:p>
            <a:pPr marL="56232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89136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220400" indent="-36540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54908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87812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87812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87812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body"/>
          </p:nvPr>
        </p:nvSpPr>
        <p:spPr>
          <a:xfrm>
            <a:off x="761760" y="1612440"/>
            <a:ext cx="8636040" cy="600732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t">
            <a:normAutofit/>
          </a:bodyPr>
          <a:p>
            <a:pPr marL="380880" indent="-342720">
              <a:spcBef>
                <a:spcPts val="799"/>
              </a:spcBef>
              <a:buClr>
                <a:srgbClr val="000000"/>
              </a:buClr>
              <a:buSzPct val="75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5480">
              <a:spcBef>
                <a:spcPts val="799"/>
              </a:spcBef>
              <a:buClr>
                <a:srgbClr val="000000"/>
              </a:buClr>
              <a:buFont typeface="Helvetic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227160">
              <a:spcBef>
                <a:spcPts val="799"/>
              </a:spcBef>
              <a:buClr>
                <a:srgbClr val="000000"/>
              </a:buClr>
              <a:buSzPct val="64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761760" y="-360"/>
            <a:ext cx="86360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b">
            <a:noAutofit/>
          </a:bodyPr>
          <a:p>
            <a:pPr marL="42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sldNum" idx="5"/>
          </p:nvPr>
        </p:nvSpPr>
        <p:spPr>
          <a:xfrm>
            <a:off x="9585360" y="7073640"/>
            <a:ext cx="39672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593B-8FE7-40C8-A371-BFC6FB3EC204}" type="slidenum"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body"/>
          </p:nvPr>
        </p:nvSpPr>
        <p:spPr>
          <a:xfrm>
            <a:off x="761760" y="1612440"/>
            <a:ext cx="8636040" cy="600732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t">
            <a:normAutofit/>
          </a:bodyPr>
          <a:p>
            <a:pPr marL="380880" indent="-342720">
              <a:spcBef>
                <a:spcPts val="799"/>
              </a:spcBef>
              <a:buClr>
                <a:srgbClr val="000000"/>
              </a:buClr>
              <a:buSzPct val="75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5480">
              <a:spcBef>
                <a:spcPts val="799"/>
              </a:spcBef>
              <a:buClr>
                <a:srgbClr val="000000"/>
              </a:buClr>
              <a:buFont typeface="Helvetic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227160">
              <a:spcBef>
                <a:spcPts val="799"/>
              </a:spcBef>
              <a:buClr>
                <a:srgbClr val="000000"/>
              </a:buClr>
              <a:buSzPct val="64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title"/>
          </p:nvPr>
        </p:nvSpPr>
        <p:spPr>
          <a:xfrm>
            <a:off x="761760" y="-360"/>
            <a:ext cx="86360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b">
            <a:noAutofit/>
          </a:bodyPr>
          <a:p>
            <a:pPr marL="42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sldNum" idx="6"/>
          </p:nvPr>
        </p:nvSpPr>
        <p:spPr>
          <a:xfrm>
            <a:off x="9585360" y="7073640"/>
            <a:ext cx="39672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61EE-C7B3-43B4-9A02-1182AFBDEF14}" type="slidenum"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body"/>
          </p:nvPr>
        </p:nvSpPr>
        <p:spPr>
          <a:xfrm>
            <a:off x="761760" y="1612440"/>
            <a:ext cx="8636040" cy="600732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t">
            <a:normAutofit/>
          </a:bodyPr>
          <a:p>
            <a:pPr marL="380880" indent="-342720">
              <a:spcBef>
                <a:spcPts val="799"/>
              </a:spcBef>
              <a:buClr>
                <a:srgbClr val="000000"/>
              </a:buClr>
              <a:buSzPct val="75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5480">
              <a:spcBef>
                <a:spcPts val="799"/>
              </a:spcBef>
              <a:buClr>
                <a:srgbClr val="000000"/>
              </a:buClr>
              <a:buFont typeface="Helvetic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227160">
              <a:spcBef>
                <a:spcPts val="799"/>
              </a:spcBef>
              <a:buClr>
                <a:srgbClr val="000000"/>
              </a:buClr>
              <a:buSzPct val="64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title"/>
          </p:nvPr>
        </p:nvSpPr>
        <p:spPr>
          <a:xfrm>
            <a:off x="761760" y="-360"/>
            <a:ext cx="86360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b">
            <a:noAutofit/>
          </a:bodyPr>
          <a:p>
            <a:pPr marL="42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sldNum" idx="7"/>
          </p:nvPr>
        </p:nvSpPr>
        <p:spPr>
          <a:xfrm>
            <a:off x="9585360" y="7073640"/>
            <a:ext cx="39672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2088-0AD6-47A2-B1B2-802734774AE8}" type="slidenum"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body"/>
          </p:nvPr>
        </p:nvSpPr>
        <p:spPr>
          <a:xfrm>
            <a:off x="761760" y="1612440"/>
            <a:ext cx="8636040" cy="600732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t">
            <a:normAutofit/>
          </a:bodyPr>
          <a:p>
            <a:pPr marL="380880" indent="-342720">
              <a:spcBef>
                <a:spcPts val="799"/>
              </a:spcBef>
              <a:buClr>
                <a:srgbClr val="000000"/>
              </a:buClr>
              <a:buSzPct val="75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5480">
              <a:spcBef>
                <a:spcPts val="799"/>
              </a:spcBef>
              <a:buClr>
                <a:srgbClr val="000000"/>
              </a:buClr>
              <a:buFont typeface="Helvetic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227160">
              <a:spcBef>
                <a:spcPts val="799"/>
              </a:spcBef>
              <a:buClr>
                <a:srgbClr val="000000"/>
              </a:buClr>
              <a:buSzPct val="64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761760" y="-360"/>
            <a:ext cx="86360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b">
            <a:noAutofit/>
          </a:bodyPr>
          <a:p>
            <a:pPr marL="42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sldNum" idx="8"/>
          </p:nvPr>
        </p:nvSpPr>
        <p:spPr>
          <a:xfrm>
            <a:off x="9585360" y="7073640"/>
            <a:ext cx="39672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5FDF-35AE-44A7-8826-03B17527C9ED}" type="slidenum"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96520" y="1574280"/>
            <a:ext cx="887724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1"/>
          </p:nvPr>
        </p:nvSpPr>
        <p:spPr>
          <a:xfrm>
            <a:off x="4927320" y="7225920"/>
            <a:ext cx="2919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53CD-BD9C-481F-A1EF-D204200D347C}" type="slidenum"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body"/>
          </p:nvPr>
        </p:nvSpPr>
        <p:spPr>
          <a:xfrm>
            <a:off x="761760" y="1612440"/>
            <a:ext cx="8636040" cy="600732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t">
            <a:normAutofit/>
          </a:bodyPr>
          <a:p>
            <a:pPr marL="380880" indent="-342720">
              <a:spcBef>
                <a:spcPts val="799"/>
              </a:spcBef>
              <a:buClr>
                <a:srgbClr val="000000"/>
              </a:buClr>
              <a:buSzPct val="75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5480">
              <a:spcBef>
                <a:spcPts val="799"/>
              </a:spcBef>
              <a:buClr>
                <a:srgbClr val="000000"/>
              </a:buClr>
              <a:buFont typeface="Helvetic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227160">
              <a:spcBef>
                <a:spcPts val="799"/>
              </a:spcBef>
              <a:buClr>
                <a:srgbClr val="000000"/>
              </a:buClr>
              <a:buSzPct val="64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title"/>
          </p:nvPr>
        </p:nvSpPr>
        <p:spPr>
          <a:xfrm>
            <a:off x="761760" y="-360"/>
            <a:ext cx="86360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b">
            <a:noAutofit/>
          </a:bodyPr>
          <a:p>
            <a:pPr marL="42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sldNum" idx="9"/>
          </p:nvPr>
        </p:nvSpPr>
        <p:spPr>
          <a:xfrm>
            <a:off x="9585360" y="7073640"/>
            <a:ext cx="39672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A053-A6B9-4A73-8F19-DB047C97EC84}" type="slidenum"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body"/>
          </p:nvPr>
        </p:nvSpPr>
        <p:spPr>
          <a:xfrm>
            <a:off x="761760" y="1612440"/>
            <a:ext cx="8636040" cy="600732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t">
            <a:normAutofit/>
          </a:bodyPr>
          <a:p>
            <a:pPr marL="380880" indent="-342720">
              <a:spcBef>
                <a:spcPts val="799"/>
              </a:spcBef>
              <a:buClr>
                <a:srgbClr val="000000"/>
              </a:buClr>
              <a:buSzPct val="75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5480">
              <a:spcBef>
                <a:spcPts val="799"/>
              </a:spcBef>
              <a:buClr>
                <a:srgbClr val="000000"/>
              </a:buClr>
              <a:buFont typeface="Helvetic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227160">
              <a:spcBef>
                <a:spcPts val="799"/>
              </a:spcBef>
              <a:buClr>
                <a:srgbClr val="000000"/>
              </a:buClr>
              <a:buSzPct val="64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title"/>
          </p:nvPr>
        </p:nvSpPr>
        <p:spPr>
          <a:xfrm>
            <a:off x="761760" y="-360"/>
            <a:ext cx="86360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b">
            <a:noAutofit/>
          </a:bodyPr>
          <a:p>
            <a:pPr marL="42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 type="sldNum" idx="10"/>
          </p:nvPr>
        </p:nvSpPr>
        <p:spPr>
          <a:xfrm>
            <a:off x="9585360" y="7073640"/>
            <a:ext cx="39672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822D-937C-4E48-B762-EE61663B7811}" type="slidenum"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body"/>
          </p:nvPr>
        </p:nvSpPr>
        <p:spPr>
          <a:xfrm>
            <a:off x="761760" y="1612440"/>
            <a:ext cx="8636040" cy="600732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t">
            <a:normAutofit/>
          </a:bodyPr>
          <a:p>
            <a:pPr marL="380880" indent="-342720">
              <a:spcBef>
                <a:spcPts val="799"/>
              </a:spcBef>
              <a:buClr>
                <a:srgbClr val="000000"/>
              </a:buClr>
              <a:buSzPct val="75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5480">
              <a:spcBef>
                <a:spcPts val="799"/>
              </a:spcBef>
              <a:buClr>
                <a:srgbClr val="000000"/>
              </a:buClr>
              <a:buFont typeface="Helvetic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227160">
              <a:spcBef>
                <a:spcPts val="799"/>
              </a:spcBef>
              <a:buClr>
                <a:srgbClr val="000000"/>
              </a:buClr>
              <a:buSzPct val="64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title"/>
          </p:nvPr>
        </p:nvSpPr>
        <p:spPr>
          <a:xfrm>
            <a:off x="761760" y="-360"/>
            <a:ext cx="86360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b">
            <a:noAutofit/>
          </a:bodyPr>
          <a:p>
            <a:pPr marL="42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 type="sldNum" idx="11"/>
          </p:nvPr>
        </p:nvSpPr>
        <p:spPr>
          <a:xfrm>
            <a:off x="9585360" y="7073640"/>
            <a:ext cx="39672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D2ED-B9D8-4B04-8643-6511B4BA1763}" type="slidenum"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761760" y="1612440"/>
            <a:ext cx="8636040" cy="600732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t">
            <a:normAutofit/>
          </a:bodyPr>
          <a:p>
            <a:pPr marL="380880" indent="-342720">
              <a:spcBef>
                <a:spcPts val="799"/>
              </a:spcBef>
              <a:buClr>
                <a:srgbClr val="000000"/>
              </a:buClr>
              <a:buSzPct val="75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5480">
              <a:spcBef>
                <a:spcPts val="799"/>
              </a:spcBef>
              <a:buClr>
                <a:srgbClr val="000000"/>
              </a:buClr>
              <a:buFont typeface="Helvetic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227160">
              <a:spcBef>
                <a:spcPts val="799"/>
              </a:spcBef>
              <a:buClr>
                <a:srgbClr val="000000"/>
              </a:buClr>
              <a:buSzPct val="64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title"/>
          </p:nvPr>
        </p:nvSpPr>
        <p:spPr>
          <a:xfrm>
            <a:off x="761760" y="-360"/>
            <a:ext cx="86360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b">
            <a:noAutofit/>
          </a:bodyPr>
          <a:p>
            <a:pPr marL="42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 type="sldNum" idx="12"/>
          </p:nvPr>
        </p:nvSpPr>
        <p:spPr>
          <a:xfrm>
            <a:off x="9585360" y="7073640"/>
            <a:ext cx="39672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98C3-8424-41F9-9F60-50D784EB76E0}" type="slidenum"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body"/>
          </p:nvPr>
        </p:nvSpPr>
        <p:spPr>
          <a:xfrm>
            <a:off x="761760" y="1612440"/>
            <a:ext cx="8636040" cy="600732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t">
            <a:normAutofit/>
          </a:bodyPr>
          <a:p>
            <a:pPr marL="380880" indent="-342720">
              <a:spcBef>
                <a:spcPts val="799"/>
              </a:spcBef>
              <a:buClr>
                <a:srgbClr val="000000"/>
              </a:buClr>
              <a:buSzPct val="75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5480">
              <a:spcBef>
                <a:spcPts val="799"/>
              </a:spcBef>
              <a:buClr>
                <a:srgbClr val="000000"/>
              </a:buClr>
              <a:buFont typeface="Helvetic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227160">
              <a:spcBef>
                <a:spcPts val="799"/>
              </a:spcBef>
              <a:buClr>
                <a:srgbClr val="000000"/>
              </a:buClr>
              <a:buSzPct val="64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title"/>
          </p:nvPr>
        </p:nvSpPr>
        <p:spPr>
          <a:xfrm>
            <a:off x="761760" y="-360"/>
            <a:ext cx="86360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b">
            <a:noAutofit/>
          </a:bodyPr>
          <a:p>
            <a:pPr marL="42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 type="sldNum" idx="13"/>
          </p:nvPr>
        </p:nvSpPr>
        <p:spPr>
          <a:xfrm>
            <a:off x="9585360" y="7073640"/>
            <a:ext cx="39672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6197-A104-4AD0-9539-B9493A679FED}" type="slidenum"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body"/>
          </p:nvPr>
        </p:nvSpPr>
        <p:spPr>
          <a:xfrm>
            <a:off x="761760" y="1612440"/>
            <a:ext cx="8636040" cy="600732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t">
            <a:normAutofit/>
          </a:bodyPr>
          <a:p>
            <a:pPr marL="380880" indent="-342720">
              <a:spcBef>
                <a:spcPts val="799"/>
              </a:spcBef>
              <a:buClr>
                <a:srgbClr val="000000"/>
              </a:buClr>
              <a:buSzPct val="75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5480">
              <a:spcBef>
                <a:spcPts val="799"/>
              </a:spcBef>
              <a:buClr>
                <a:srgbClr val="000000"/>
              </a:buClr>
              <a:buFont typeface="Helvetic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227160">
              <a:spcBef>
                <a:spcPts val="799"/>
              </a:spcBef>
              <a:buClr>
                <a:srgbClr val="000000"/>
              </a:buClr>
              <a:buSzPct val="64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title"/>
          </p:nvPr>
        </p:nvSpPr>
        <p:spPr>
          <a:xfrm>
            <a:off x="761760" y="-360"/>
            <a:ext cx="86360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b">
            <a:noAutofit/>
          </a:bodyPr>
          <a:p>
            <a:pPr marL="42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4"/>
          </p:nvPr>
        </p:nvSpPr>
        <p:spPr>
          <a:xfrm>
            <a:off x="9585360" y="7073640"/>
            <a:ext cx="39672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0CE1-26AA-455A-837D-FACBDA4CABC0}" type="slidenum"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body"/>
          </p:nvPr>
        </p:nvSpPr>
        <p:spPr>
          <a:xfrm>
            <a:off x="761760" y="1612440"/>
            <a:ext cx="8636040" cy="600732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t">
            <a:normAutofit/>
          </a:bodyPr>
          <a:p>
            <a:pPr marL="380880" indent="-342720">
              <a:spcBef>
                <a:spcPts val="799"/>
              </a:spcBef>
              <a:buClr>
                <a:srgbClr val="000000"/>
              </a:buClr>
              <a:buSzPct val="75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5480">
              <a:spcBef>
                <a:spcPts val="799"/>
              </a:spcBef>
              <a:buClr>
                <a:srgbClr val="000000"/>
              </a:buClr>
              <a:buFont typeface="Helvetic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227160">
              <a:spcBef>
                <a:spcPts val="799"/>
              </a:spcBef>
              <a:buClr>
                <a:srgbClr val="000000"/>
              </a:buClr>
              <a:buSzPct val="64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title"/>
          </p:nvPr>
        </p:nvSpPr>
        <p:spPr>
          <a:xfrm>
            <a:off x="761760" y="-360"/>
            <a:ext cx="86360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b">
            <a:noAutofit/>
          </a:bodyPr>
          <a:p>
            <a:pPr marL="42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 type="sldNum" idx="15"/>
          </p:nvPr>
        </p:nvSpPr>
        <p:spPr>
          <a:xfrm>
            <a:off x="9585360" y="7073640"/>
            <a:ext cx="39672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EFBC-E9F1-4E3A-B4D9-8CBCD3F7D8B9}" type="slidenum"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698040" y="520560"/>
            <a:ext cx="875052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ldNum" idx="2"/>
          </p:nvPr>
        </p:nvSpPr>
        <p:spPr>
          <a:xfrm>
            <a:off x="4927320" y="7225920"/>
            <a:ext cx="2919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E67F-2783-4F20-B98E-502093BD1B4E}" type="slidenum"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Num" idx="3"/>
          </p:nvPr>
        </p:nvSpPr>
        <p:spPr>
          <a:xfrm>
            <a:off x="4946400" y="7251840"/>
            <a:ext cx="2667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C102-2470-49D8-A03C-7B5E8F837E9D}" type="slidenum">
              <a:rPr b="0" lang="en-US" sz="12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88840" indent="-571320">
              <a:spcBef>
                <a:spcPts val="18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spcBef>
                <a:spcPts val="18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2" marL="1778040" indent="-571680">
              <a:spcBef>
                <a:spcPts val="18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3" marL="2222640" indent="-571680">
              <a:spcBef>
                <a:spcPts val="18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4" marL="2666880" indent="-571320">
              <a:spcBef>
                <a:spcPts val="18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5" marL="2666880" indent="-571320">
              <a:spcBef>
                <a:spcPts val="75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6" marL="2666880" indent="-571320">
              <a:spcBef>
                <a:spcPts val="75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4927320" y="7225920"/>
            <a:ext cx="2919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830C-DA73-42CA-A781-B68E7B173257}" type="slidenum"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853200" indent="-548280">
              <a:spcBef>
                <a:spcPts val="18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279800" indent="-548280">
              <a:spcBef>
                <a:spcPts val="18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706760" indent="-548640">
              <a:spcBef>
                <a:spcPts val="18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2133720" indent="-548640">
              <a:spcBef>
                <a:spcPts val="18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559960" indent="-548280">
              <a:spcBef>
                <a:spcPts val="18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559960" indent="-54828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559960" indent="-54828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495000" y="110484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6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990360" y="2793960"/>
            <a:ext cx="8178840" cy="397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ahoma"/>
              </a:rPr>
              <a:t>Torque </a:t>
            </a:r>
            <a:br>
              <a:rPr sz="64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d</a:t>
            </a:r>
            <a:br>
              <a:rPr sz="3600"/>
            </a:br>
            <a:r>
              <a:rPr b="0" lang="en-US" sz="6400" spc="-1" strike="noStrike">
                <a:solidFill>
                  <a:srgbClr val="000000"/>
                </a:solidFill>
                <a:latin typeface="Tahoma"/>
              </a:rPr>
              <a:t>Equilibrium</a:t>
            </a:r>
            <a:endParaRPr b="0" lang="en-US" sz="6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990360" y="1803240"/>
            <a:ext cx="8178840" cy="889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cture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7" name=""/>
          <p:cNvSpPr/>
          <p:nvPr/>
        </p:nvSpPr>
        <p:spPr>
          <a:xfrm>
            <a:off x="1724760" y="5854320"/>
            <a:ext cx="6934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Pre-reading</a:t>
            </a:r>
            <a:r>
              <a:rPr b="0" lang="en-US" sz="4000" spc="-1" strike="noStrike">
                <a:solidFill>
                  <a:srgbClr val="000000"/>
                </a:solidFill>
                <a:latin typeface="Gill Sans"/>
                <a:ea typeface="Gill Sans"/>
              </a:rPr>
              <a:t>: 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KJF §8.1 and 8.2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7" name="" descr=""/>
          <p:cNvPicPr/>
          <p:nvPr/>
        </p:nvPicPr>
        <p:blipFill>
          <a:blip r:embed="rId1"/>
          <a:stretch/>
        </p:blipFill>
        <p:spPr>
          <a:xfrm>
            <a:off x="3897360" y="3822840"/>
            <a:ext cx="6157800" cy="3746520"/>
          </a:xfrm>
          <a:prstGeom prst="rect">
            <a:avLst/>
          </a:prstGeom>
          <a:ln w="0">
            <a:noFill/>
          </a:ln>
        </p:spPr>
      </p:pic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761760" y="253800"/>
            <a:ext cx="8636040" cy="1269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Problem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634680" y="1460160"/>
            <a:ext cx="915660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ength of a bicycle pedal arm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= 0.152 m, and a downward forc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= 111 N is applied by the fo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magnitude of torque about the pivot point when the angle θ between the arm &amp; vertical i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5920"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.0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59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0.0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59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0.0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78280" y="6428520"/>
            <a:ext cx="4243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[8.44 Nm, 16.9 Nm, 0.00 Nm]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F8C00-7455-4048-B59E-7F788B05E42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Adding up Torques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69800" y="1510920"/>
            <a:ext cx="922032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e will only consider torques acting in 2D (flat on p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752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a sign convention (e.g. anti-clockwise is positiv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752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the rotation axis around which to calculate torque (unless it's already give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752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force, calculate the resulting torque (including sig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752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up all the torq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39760" y="7074000"/>
            <a:ext cx="2401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  <a:ea typeface="Tahoma"/>
              </a:rPr>
              <a:t>KJF §7.2, see p. 214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EB0E2-1D0E-4363-9A7A-76FE98CB9BE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"/>
          <p:cNvSpPr/>
          <p:nvPr/>
        </p:nvSpPr>
        <p:spPr>
          <a:xfrm>
            <a:off x="3797280" y="2451240"/>
            <a:ext cx="2552760" cy="2717640"/>
          </a:xfrm>
          <a:prstGeom prst="rect">
            <a:avLst/>
          </a:prstGeom>
          <a:solidFill>
            <a:srgbClr val="ff7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5" name=""/>
          <p:cNvSpPr/>
          <p:nvPr/>
        </p:nvSpPr>
        <p:spPr>
          <a:xfrm>
            <a:off x="1994760" y="3071880"/>
            <a:ext cx="1800360" cy="0"/>
          </a:xfrm>
          <a:prstGeom prst="line">
            <a:avLst/>
          </a:prstGeom>
          <a:ln w="6336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6" name=""/>
          <p:cNvSpPr/>
          <p:nvPr/>
        </p:nvSpPr>
        <p:spPr>
          <a:xfrm flipH="1">
            <a:off x="6337440" y="4514760"/>
            <a:ext cx="1722240" cy="0"/>
          </a:xfrm>
          <a:prstGeom prst="line">
            <a:avLst/>
          </a:prstGeom>
          <a:ln w="6336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7" name=""/>
          <p:cNvSpPr/>
          <p:nvPr/>
        </p:nvSpPr>
        <p:spPr>
          <a:xfrm flipH="1">
            <a:off x="5015880" y="3759120"/>
            <a:ext cx="114120" cy="114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8" name=""/>
          <p:cNvSpPr/>
          <p:nvPr/>
        </p:nvSpPr>
        <p:spPr>
          <a:xfrm>
            <a:off x="1525680" y="281304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Gill Sans"/>
                <a:ea typeface="Gill Sans"/>
              </a:rPr>
              <a:t>F</a:t>
            </a:r>
            <a:r>
              <a:rPr b="0" i="1" lang="en-US" sz="3000" spc="-1" strike="noStrike" baseline="-6000">
                <a:solidFill>
                  <a:srgbClr val="ff0000"/>
                </a:solidFill>
                <a:latin typeface="Gill Sans"/>
                <a:ea typeface="Gill Sans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9" name=""/>
          <p:cNvSpPr/>
          <p:nvPr/>
        </p:nvSpPr>
        <p:spPr>
          <a:xfrm>
            <a:off x="8155080" y="4260960"/>
            <a:ext cx="457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Gill Sans"/>
                <a:ea typeface="Gill Sans"/>
              </a:rPr>
              <a:t>F</a:t>
            </a:r>
            <a:r>
              <a:rPr b="0" i="1" lang="en-US" sz="3000" spc="-1" strike="noStrike" baseline="-6000">
                <a:solidFill>
                  <a:srgbClr val="ff0000"/>
                </a:solidFill>
                <a:latin typeface="Gill Sans"/>
                <a:ea typeface="Gill Sans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24EF-CC94-4D7D-BDBE-6672CD01728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" descr=""/>
          <p:cNvPicPr/>
          <p:nvPr/>
        </p:nvPicPr>
        <p:blipFill>
          <a:blip r:embed="rId1"/>
          <a:stretch/>
        </p:blipFill>
        <p:spPr>
          <a:xfrm>
            <a:off x="2347920" y="1630440"/>
            <a:ext cx="5475240" cy="3349440"/>
          </a:xfrm>
          <a:prstGeom prst="rect">
            <a:avLst/>
          </a:prstGeom>
          <a:ln w="0">
            <a:noFill/>
          </a:ln>
        </p:spPr>
      </p:pic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736200" y="88560"/>
            <a:ext cx="8674200" cy="106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Adding up Torques: Example 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190080" y="4990680"/>
            <a:ext cx="9766440" cy="255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636480" indent="0">
              <a:lnSpc>
                <a:spcPct val="90000"/>
              </a:lnSpc>
              <a:buNone/>
              <a:tabLst>
                <a:tab algn="l" pos="0"/>
                <a:tab algn="r" pos="9779040"/>
                <a:tab algn="l" pos="10198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rque 1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τ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inθ = –0.5 × 10 × sin 30 = –2.50 N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36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r" pos="9779040"/>
                <a:tab algn="l" pos="10198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rque 2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τ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g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 × 9.8 × 0.25 = +2.45 N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36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r" pos="9779040"/>
                <a:tab algn="l" pos="10198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∴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net torque = ∑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τ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τ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.45 + (–2.50) = –0.05 N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36480" indent="0" algn="r">
              <a:lnSpc>
                <a:spcPct val="90000"/>
              </a:lnSpc>
              <a:buNone/>
              <a:tabLst>
                <a:tab algn="l" pos="0"/>
                <a:tab algn="r" pos="9779040"/>
                <a:tab algn="l" pos="101980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.e. clockwi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1B7A6-5E93-45D4-963C-D5DC0363AB8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3" name="" descr=""/>
          <p:cNvPicPr/>
          <p:nvPr/>
        </p:nvPicPr>
        <p:blipFill>
          <a:blip r:embed="rId1"/>
          <a:stretch/>
        </p:blipFill>
        <p:spPr>
          <a:xfrm>
            <a:off x="2819520" y="1282680"/>
            <a:ext cx="4521240" cy="4533840"/>
          </a:xfrm>
          <a:prstGeom prst="rect">
            <a:avLst/>
          </a:prstGeom>
          <a:ln w="0">
            <a:noFill/>
          </a:ln>
        </p:spPr>
      </p:pic>
      <p:sp>
        <p:nvSpPr>
          <p:cNvPr id="1134" name=""/>
          <p:cNvSpPr/>
          <p:nvPr/>
        </p:nvSpPr>
        <p:spPr>
          <a:xfrm flipH="1">
            <a:off x="6985080" y="4838760"/>
            <a:ext cx="203040" cy="203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51D4-A3C5-431C-AAEB-0F231A7E3EC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 txBox="1"/>
          <p:nvPr/>
        </p:nvSpPr>
        <p:spPr>
          <a:xfrm>
            <a:off x="4927320" y="7225920"/>
            <a:ext cx="2919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00A7-129B-460F-9CFE-EBF21AAC2CB2}" type="slidenum"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64880" y="2539800"/>
            <a:ext cx="9816840" cy="1269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3300"/>
                </a:solidFill>
                <a:latin typeface="Arial"/>
                <a:ea typeface="Arial"/>
              </a:rPr>
              <a:t>Equilibrium</a:t>
            </a:r>
            <a:endParaRPr b="0" lang="en-US" sz="5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37" name=""/>
          <p:cNvSpPr/>
          <p:nvPr/>
        </p:nvSpPr>
        <p:spPr>
          <a:xfrm>
            <a:off x="3976200" y="3985200"/>
            <a:ext cx="2210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JF §8.1, 8.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Conditions for Equilibrium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787320" y="1572840"/>
            <a:ext cx="858528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3720" indent="0">
              <a:lnSpc>
                <a:spcPct val="9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object to be in static equilibr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17520">
              <a:lnSpc>
                <a:spcPct val="90000"/>
              </a:lnSpc>
              <a:spcBef>
                <a:spcPts val="1899"/>
              </a:spcBef>
              <a:buClr>
                <a:srgbClr val="000000"/>
              </a:buClr>
              <a:buSzPct val="7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Σ 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= 0    no net 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35280" indent="0">
              <a:lnSpc>
                <a:spcPct val="90000"/>
              </a:lnSpc>
              <a:spcBef>
                <a:spcPts val="18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ymbol"/>
              </a:rPr>
              <a:t>⇒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ymbol"/>
              </a:rPr>
              <a:t>Σ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6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0, Σ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6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17520">
              <a:lnSpc>
                <a:spcPct val="90000"/>
              </a:lnSpc>
              <a:spcBef>
                <a:spcPts val="1899"/>
              </a:spcBef>
              <a:buClr>
                <a:srgbClr val="000000"/>
              </a:buClr>
              <a:buSzPct val="7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Σ 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τ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= 0    no net tor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9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this is true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vot points, we are free to choose any point we like for calculating the torqu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ymbol"/>
              </a:rPr>
              <a:t>⇒ choose point where some torques disapp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39760" y="7074000"/>
            <a:ext cx="2401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  <a:ea typeface="Tahoma"/>
              </a:rPr>
              <a:t>KJF §8.1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D82E2-87E1-43E6-B0F4-40B0AB235DB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Hints for Statics Problems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96520" y="2781000"/>
            <a:ext cx="8877240" cy="394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14280" indent="-31428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w a diagram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de on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in forces ON system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forces in mechanics are either contact or gra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sign conven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84280" y="1447920"/>
            <a:ext cx="8902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you're given some forces on a static body &amp; need to find unknown forces or torques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FA538-EB38-4D80-A37D-806148CB2AC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Solving Static Equilibrium Problems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355680" y="1130040"/>
            <a:ext cx="9639360" cy="6070680"/>
          </a:xfrm>
          <a:prstGeom prst="rect">
            <a:avLst/>
          </a:prstGeom>
          <a:noFill/>
          <a:ln w="0">
            <a:noFill/>
          </a:ln>
        </p:spPr>
        <p:txBody>
          <a:bodyPr lIns="50760" rIns="39600" tIns="50760" bIns="50760" anchor="ctr">
            <a:normAutofit fontScale="94000"/>
          </a:bodyPr>
          <a:p>
            <a:pPr marL="334080" indent="-298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de on the “system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a rotational axis and sign convention</a:t>
            </a:r>
            <a:br>
              <a:rPr sz="2800"/>
            </a:br>
            <a:r>
              <a:rPr b="0" lang="en-US" sz="2400" spc="-1" strike="noStrike">
                <a:solidFill>
                  <a:srgbClr val="0000ff"/>
                </a:solidFill>
                <a:latin typeface="Times New Roman Italic"/>
                <a:ea typeface="Times New Roman Italic"/>
              </a:rPr>
              <a:t>Best to choose one that causes some torques to disappear</a:t>
            </a:r>
            <a:br>
              <a:rPr sz="2400"/>
            </a:br>
            <a:r>
              <a:rPr b="0" lang="en-US" sz="2400" spc="-1" strike="noStrike">
                <a:solidFill>
                  <a:srgbClr val="0000ff"/>
                </a:solidFill>
                <a:latin typeface="Times New Roman Italic"/>
                <a:ea typeface="Times New Roman Italic"/>
              </a:rPr>
              <a:t>Remember nothing is rotating anyway so you're free to choose the ax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29844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e all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orizont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onents of forces acting on the system and write equation ∑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29844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e all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vertic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onents of forces acting on the system and write equation ∑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.</a:t>
            </a:r>
            <a:br>
              <a:rPr sz="2800"/>
            </a:b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Assume each object’s weight force is acting at its centre of m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29844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e all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orqu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write equation ∑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.</a:t>
            </a:r>
            <a:br>
              <a:rPr sz="2800"/>
            </a:b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Remember that all external forces are possible sources of torq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29844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the equations simultaneous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239760" y="7112160"/>
            <a:ext cx="2401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  <a:ea typeface="Tahoma"/>
              </a:rPr>
              <a:t>KJF §8.1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71184-7112-49E2-BF21-C1987B30185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Example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596520" y="1574640"/>
            <a:ext cx="913140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65 kg woman is horizontal in a push-up posi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vertical forces acting on her hands and her fee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9" name="" descr=""/>
          <p:cNvPicPr/>
          <p:nvPr/>
        </p:nvPicPr>
        <p:blipFill>
          <a:blip r:embed="rId1"/>
          <a:stretch/>
        </p:blipFill>
        <p:spPr>
          <a:xfrm>
            <a:off x="1892160" y="4059360"/>
            <a:ext cx="6377040" cy="2938320"/>
          </a:xfrm>
          <a:prstGeom prst="rect">
            <a:avLst/>
          </a:prstGeom>
          <a:ln w="0">
            <a:noFill/>
          </a:ln>
        </p:spPr>
      </p:pic>
      <p:sp>
        <p:nvSpPr>
          <p:cNvPr id="1150" name=""/>
          <p:cNvSpPr/>
          <p:nvPr/>
        </p:nvSpPr>
        <p:spPr>
          <a:xfrm>
            <a:off x="4956480" y="3388320"/>
            <a:ext cx="42616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[hands 420 N, feet 210 N]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CEAA4-B988-4DBB-ADA0-136DBC6B232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990360" y="139320"/>
            <a:ext cx="817884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Centre of mass, again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pic>
        <p:nvPicPr>
          <p:cNvPr id="1079" name="" descr=""/>
          <p:cNvPicPr/>
          <p:nvPr/>
        </p:nvPicPr>
        <p:blipFill>
          <a:blip r:embed="rId1"/>
          <a:stretch/>
        </p:blipFill>
        <p:spPr>
          <a:xfrm>
            <a:off x="444600" y="2387520"/>
            <a:ext cx="2539800" cy="3810240"/>
          </a:xfrm>
          <a:prstGeom prst="rect">
            <a:avLst/>
          </a:prstGeom>
          <a:ln w="0">
            <a:noFill/>
          </a:ln>
        </p:spPr>
      </p:pic>
      <p:pic>
        <p:nvPicPr>
          <p:cNvPr id="1080" name="" descr=""/>
          <p:cNvPicPr/>
          <p:nvPr/>
        </p:nvPicPr>
        <p:blipFill>
          <a:blip r:embed="rId2"/>
          <a:stretch/>
        </p:blipFill>
        <p:spPr>
          <a:xfrm>
            <a:off x="6210360" y="3111480"/>
            <a:ext cx="3809880" cy="2541600"/>
          </a:xfrm>
          <a:prstGeom prst="rect">
            <a:avLst/>
          </a:prstGeom>
          <a:ln w="0">
            <a:noFill/>
          </a:ln>
        </p:spPr>
      </p:pic>
      <p:pic>
        <p:nvPicPr>
          <p:cNvPr id="1081" name="" descr=""/>
          <p:cNvPicPr/>
          <p:nvPr/>
        </p:nvPicPr>
        <p:blipFill>
          <a:blip r:embed="rId3"/>
          <a:stretch/>
        </p:blipFill>
        <p:spPr>
          <a:xfrm>
            <a:off x="3479760" y="2413080"/>
            <a:ext cx="2540160" cy="3809880"/>
          </a:xfrm>
          <a:prstGeom prst="rect">
            <a:avLst/>
          </a:prstGeom>
          <a:ln w="0">
            <a:noFill/>
          </a:ln>
        </p:spPr>
      </p:pic>
      <p:grpSp>
        <p:nvGrpSpPr>
          <p:cNvPr id="1082" name=""/>
          <p:cNvGrpSpPr/>
          <p:nvPr/>
        </p:nvGrpSpPr>
        <p:grpSpPr>
          <a:xfrm>
            <a:off x="1573200" y="2347920"/>
            <a:ext cx="6237000" cy="3900240"/>
            <a:chOff x="1573200" y="2347920"/>
            <a:chExt cx="6237000" cy="3900240"/>
          </a:xfrm>
        </p:grpSpPr>
        <p:sp>
          <p:nvSpPr>
            <p:cNvPr id="1083" name=""/>
            <p:cNvSpPr/>
            <p:nvPr/>
          </p:nvSpPr>
          <p:spPr>
            <a:xfrm>
              <a:off x="1573200" y="2347920"/>
              <a:ext cx="0" cy="3900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533120" y="2347920"/>
              <a:ext cx="0" cy="3900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810200" y="3071880"/>
              <a:ext cx="0" cy="262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15AA3-8177-4622-B411-7F924000DD6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1" name="" descr=""/>
          <p:cNvPicPr/>
          <p:nvPr/>
        </p:nvPicPr>
        <p:blipFill>
          <a:blip r:embed="rId1"/>
          <a:stretch/>
        </p:blipFill>
        <p:spPr>
          <a:xfrm>
            <a:off x="4762440" y="4410000"/>
            <a:ext cx="5232600" cy="2871720"/>
          </a:xfrm>
          <a:prstGeom prst="rect">
            <a:avLst/>
          </a:prstGeom>
          <a:ln w="0">
            <a:noFill/>
          </a:ln>
        </p:spPr>
      </p:pic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Example 2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190080" y="2120760"/>
            <a:ext cx="8877240" cy="422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 the cargo is loaded correct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ever rotation axis is chosen, there's always some normal forces opposing the torque due to the total system weight (treated as though it lies at the centre of ma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net torqu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ymbol"/>
              </a:rPr>
              <a:t>∴ equilibri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14280" y="1346040"/>
            <a:ext cx="86360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“system” is the ass, the cart and the cargo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D8987-3712-46C5-8C8A-9BB9DEC6849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5" name="" descr=""/>
          <p:cNvPicPr/>
          <p:nvPr/>
        </p:nvPicPr>
        <p:blipFill>
          <a:blip r:embed="rId1"/>
          <a:stretch/>
        </p:blipFill>
        <p:spPr>
          <a:xfrm>
            <a:off x="4851360" y="3749760"/>
            <a:ext cx="5232600" cy="2871720"/>
          </a:xfrm>
          <a:prstGeom prst="rect">
            <a:avLst/>
          </a:prstGeom>
          <a:ln w="0">
            <a:noFill/>
          </a:ln>
        </p:spPr>
      </p:pic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69800" y="-360"/>
            <a:ext cx="922032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But...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-63360" y="1307880"/>
            <a:ext cx="9524880" cy="2057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 much cargo is loaded at the ba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wheel is chosen as the rotation axis, all resulting torques are acting in the clockwise direction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31640" y="3213000"/>
            <a:ext cx="4381560" cy="37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no torque opposing the torque due to the weight of the system, hence there is a net clockwise torque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stem will rotate until the cart hits the ground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onkey will be lifted off the ground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BD068-4A08-4F9A-BDD7-493F173E1D1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9" name="" descr=""/>
          <p:cNvPicPr/>
          <p:nvPr/>
        </p:nvPicPr>
        <p:blipFill>
          <a:blip r:embed="rId1"/>
          <a:stretch/>
        </p:blipFill>
        <p:spPr>
          <a:xfrm>
            <a:off x="635040" y="380880"/>
            <a:ext cx="8889840" cy="685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4EBFA-05F6-4707-B145-88F845DB25E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0" name="" descr=""/>
          <p:cNvPicPr/>
          <p:nvPr/>
        </p:nvPicPr>
        <p:blipFill>
          <a:blip r:embed="rId1"/>
          <a:stretch/>
        </p:blipFill>
        <p:spPr>
          <a:xfrm>
            <a:off x="546120" y="1155600"/>
            <a:ext cx="9072720" cy="529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897B52-2AE8-4441-BD1C-823A479D3DB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Types of Equilibrium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596520" y="1574280"/>
            <a:ext cx="887724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with a small displacement, remains at new pos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with a small displacement, returns to original pos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Uns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with a small displacement, continues to move away from equilibrium pos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39760" y="7112160"/>
            <a:ext cx="2401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  <a:ea typeface="Tahoma"/>
              </a:rPr>
              <a:t>KJF §8.2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1ABE3-450F-4BA6-BC4B-A11FF77A92DF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"/>
          <p:cNvSpPr/>
          <p:nvPr/>
        </p:nvSpPr>
        <p:spPr>
          <a:xfrm>
            <a:off x="1218600" y="932040"/>
            <a:ext cx="1142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able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165" name=""/>
          <p:cNvGrpSpPr/>
          <p:nvPr/>
        </p:nvGrpSpPr>
        <p:grpSpPr>
          <a:xfrm>
            <a:off x="2324160" y="2160000"/>
            <a:ext cx="4592160" cy="3135600"/>
            <a:chOff x="2324160" y="2160000"/>
            <a:chExt cx="4592160" cy="3135600"/>
          </a:xfrm>
        </p:grpSpPr>
        <p:sp>
          <p:nvSpPr>
            <p:cNvPr id="1166" name=""/>
            <p:cNvSpPr/>
            <p:nvPr/>
          </p:nvSpPr>
          <p:spPr>
            <a:xfrm rot="899400">
              <a:off x="3757680" y="2334960"/>
              <a:ext cx="1714680" cy="27291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324160" y="5295600"/>
              <a:ext cx="4592160" cy="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168" name=""/>
          <p:cNvGrpSpPr/>
          <p:nvPr/>
        </p:nvGrpSpPr>
        <p:grpSpPr>
          <a:xfrm>
            <a:off x="3945960" y="3492360"/>
            <a:ext cx="2060280" cy="2237760"/>
            <a:chOff x="3945960" y="3492360"/>
            <a:chExt cx="2060280" cy="2237760"/>
          </a:xfrm>
        </p:grpSpPr>
        <p:sp>
          <p:nvSpPr>
            <p:cNvPr id="1169" name=""/>
            <p:cNvSpPr/>
            <p:nvPr/>
          </p:nvSpPr>
          <p:spPr>
            <a:xfrm>
              <a:off x="4557960" y="3695400"/>
              <a:ext cx="152640" cy="152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V="1">
              <a:off x="4634280" y="3758760"/>
              <a:ext cx="0" cy="177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079240" y="3492360"/>
              <a:ext cx="0" cy="177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945960" y="5242320"/>
              <a:ext cx="3787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696280" y="3807000"/>
              <a:ext cx="309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174" name=""/>
          <p:cNvGrpSpPr/>
          <p:nvPr/>
        </p:nvGrpSpPr>
        <p:grpSpPr>
          <a:xfrm>
            <a:off x="6794640" y="2260440"/>
            <a:ext cx="2501640" cy="2055960"/>
            <a:chOff x="6794640" y="2260440"/>
            <a:chExt cx="2501640" cy="2055960"/>
          </a:xfrm>
        </p:grpSpPr>
        <p:sp>
          <p:nvSpPr>
            <p:cNvPr id="1175" name=""/>
            <p:cNvSpPr/>
            <p:nvPr/>
          </p:nvSpPr>
          <p:spPr>
            <a:xfrm flipH="1" rot="10800000">
              <a:off x="7811280" y="3340800"/>
              <a:ext cx="681840" cy="97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400" spc="-1" strike="noStrike">
                  <a:solidFill>
                    <a:srgbClr val="000000"/>
                  </a:solidFill>
                  <a:latin typeface="Gill Sans"/>
                  <a:ea typeface="Arial Unicode MS"/>
                </a:rPr>
                <a:t>↻</a:t>
              </a:r>
              <a:endParaRPr b="0" lang="en-US" sz="6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794640" y="2260440"/>
              <a:ext cx="25016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net torque around X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177" name=""/>
          <p:cNvSpPr/>
          <p:nvPr/>
        </p:nvSpPr>
        <p:spPr>
          <a:xfrm>
            <a:off x="5009040" y="5293080"/>
            <a:ext cx="238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Gill Sans"/>
                <a:ea typeface="Gill San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802EF0-1CA6-4743-BBEB-DC271994532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"/>
          <p:cNvSpPr/>
          <p:nvPr/>
        </p:nvSpPr>
        <p:spPr>
          <a:xfrm>
            <a:off x="2781360" y="5308560"/>
            <a:ext cx="459252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9" name=""/>
          <p:cNvSpPr/>
          <p:nvPr/>
        </p:nvSpPr>
        <p:spPr>
          <a:xfrm>
            <a:off x="4444920" y="4000680"/>
            <a:ext cx="1270080" cy="12697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4403160" y="3489840"/>
            <a:ext cx="1247040" cy="2252880"/>
            <a:chOff x="4403160" y="3489840"/>
            <a:chExt cx="1247040" cy="2252880"/>
          </a:xfrm>
        </p:grpSpPr>
        <p:sp>
          <p:nvSpPr>
            <p:cNvPr id="1181" name=""/>
            <p:cNvSpPr/>
            <p:nvPr/>
          </p:nvSpPr>
          <p:spPr>
            <a:xfrm>
              <a:off x="5002560" y="4559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82" name=""/>
            <p:cNvSpPr/>
            <p:nvPr/>
          </p:nvSpPr>
          <p:spPr>
            <a:xfrm flipH="1" flipV="1">
              <a:off x="5076000" y="4644360"/>
              <a:ext cx="15840" cy="906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091840" y="3555720"/>
              <a:ext cx="0" cy="108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403160" y="5254920"/>
              <a:ext cx="3787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340240" y="3489840"/>
              <a:ext cx="309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186" name=""/>
          <p:cNvSpPr/>
          <p:nvPr/>
        </p:nvSpPr>
        <p:spPr>
          <a:xfrm>
            <a:off x="6730920" y="2273400"/>
            <a:ext cx="3022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NO net torque around X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7" name=""/>
          <p:cNvSpPr/>
          <p:nvPr/>
        </p:nvSpPr>
        <p:spPr>
          <a:xfrm>
            <a:off x="4983840" y="5343840"/>
            <a:ext cx="238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Gill Sans"/>
                <a:ea typeface="Gill San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8" name=""/>
          <p:cNvSpPr/>
          <p:nvPr/>
        </p:nvSpPr>
        <p:spPr>
          <a:xfrm>
            <a:off x="1218600" y="932040"/>
            <a:ext cx="1370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utra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97CC65-7F3B-41CB-8262-9ED5750D4A0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9" name=""/>
          <p:cNvGrpSpPr/>
          <p:nvPr/>
        </p:nvGrpSpPr>
        <p:grpSpPr>
          <a:xfrm>
            <a:off x="2793960" y="2340360"/>
            <a:ext cx="4592160" cy="3933000"/>
            <a:chOff x="2793960" y="2340360"/>
            <a:chExt cx="4592160" cy="3933000"/>
          </a:xfrm>
        </p:grpSpPr>
        <p:grpSp>
          <p:nvGrpSpPr>
            <p:cNvPr id="1190" name=""/>
            <p:cNvGrpSpPr/>
            <p:nvPr/>
          </p:nvGrpSpPr>
          <p:grpSpPr>
            <a:xfrm>
              <a:off x="3819600" y="2340360"/>
              <a:ext cx="2719800" cy="3933000"/>
              <a:chOff x="3819600" y="2340360"/>
              <a:chExt cx="2719800" cy="3933000"/>
            </a:xfrm>
          </p:grpSpPr>
          <p:sp>
            <p:nvSpPr>
              <p:cNvPr id="1191" name=""/>
              <p:cNvSpPr/>
              <p:nvPr/>
            </p:nvSpPr>
            <p:spPr>
              <a:xfrm flipH="1" rot="11699400">
                <a:off x="4245480" y="2521440"/>
                <a:ext cx="1866960" cy="3542760"/>
              </a:xfrm>
              <a:prstGeom prst="triangle">
                <a:avLst>
                  <a:gd name="adj" fmla="val 50000"/>
                </a:avLst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 rot="899400">
                <a:off x="4349160" y="5359320"/>
                <a:ext cx="952560" cy="80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1193" name=""/>
            <p:cNvSpPr/>
            <p:nvPr/>
          </p:nvSpPr>
          <p:spPr>
            <a:xfrm>
              <a:off x="2793960" y="5442840"/>
              <a:ext cx="4592160" cy="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194" name=""/>
          <p:cNvGrpSpPr/>
          <p:nvPr/>
        </p:nvGrpSpPr>
        <p:grpSpPr>
          <a:xfrm>
            <a:off x="4451040" y="3543480"/>
            <a:ext cx="1474560" cy="2275200"/>
            <a:chOff x="4451040" y="3543480"/>
            <a:chExt cx="1474560" cy="2275200"/>
          </a:xfrm>
        </p:grpSpPr>
        <p:sp>
          <p:nvSpPr>
            <p:cNvPr id="1195" name=""/>
            <p:cNvSpPr/>
            <p:nvPr/>
          </p:nvSpPr>
          <p:spPr>
            <a:xfrm>
              <a:off x="5230800" y="3670200"/>
              <a:ext cx="152280" cy="1519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H="1" flipV="1">
              <a:off x="5306400" y="3733560"/>
              <a:ext cx="1800" cy="177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079960" y="3543480"/>
              <a:ext cx="0" cy="177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546880" y="5330880"/>
              <a:ext cx="3787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451040" y="3654720"/>
              <a:ext cx="309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200" name=""/>
          <p:cNvGrpSpPr/>
          <p:nvPr/>
        </p:nvGrpSpPr>
        <p:grpSpPr>
          <a:xfrm>
            <a:off x="7264440" y="2298600"/>
            <a:ext cx="2502000" cy="2055960"/>
            <a:chOff x="7264440" y="2298600"/>
            <a:chExt cx="2502000" cy="2055960"/>
          </a:xfrm>
        </p:grpSpPr>
        <p:sp>
          <p:nvSpPr>
            <p:cNvPr id="1201" name=""/>
            <p:cNvSpPr/>
            <p:nvPr/>
          </p:nvSpPr>
          <p:spPr>
            <a:xfrm flipH="1" rot="10800000">
              <a:off x="8281080" y="3378960"/>
              <a:ext cx="681840" cy="97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400" spc="-1" strike="noStrike">
                  <a:solidFill>
                    <a:srgbClr val="000000"/>
                  </a:solidFill>
                  <a:latin typeface="Gill Sans"/>
                  <a:ea typeface="Arial Unicode MS"/>
                </a:rPr>
                <a:t>↺</a:t>
              </a:r>
              <a:endParaRPr b="0" lang="en-US" sz="6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264440" y="2298600"/>
              <a:ext cx="2502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net torque around X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203" name=""/>
          <p:cNvSpPr/>
          <p:nvPr/>
        </p:nvSpPr>
        <p:spPr>
          <a:xfrm>
            <a:off x="4958280" y="5331240"/>
            <a:ext cx="238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Gill Sans"/>
                <a:ea typeface="Gill San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4" name=""/>
          <p:cNvSpPr/>
          <p:nvPr/>
        </p:nvSpPr>
        <p:spPr>
          <a:xfrm>
            <a:off x="1218240" y="932040"/>
            <a:ext cx="1625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stable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C97CA5-4125-49C0-9099-642FC191858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5" name="" descr=""/>
          <p:cNvPicPr/>
          <p:nvPr/>
        </p:nvPicPr>
        <p:blipFill>
          <a:blip r:embed="rId1"/>
          <a:stretch/>
        </p:blipFill>
        <p:spPr>
          <a:xfrm>
            <a:off x="495360" y="393840"/>
            <a:ext cx="8877240" cy="6807240"/>
          </a:xfrm>
          <a:prstGeom prst="rect">
            <a:avLst/>
          </a:prstGeom>
          <a:ln w="0">
            <a:noFill/>
          </a:ln>
        </p:spPr>
      </p:pic>
      <p:pic>
        <p:nvPicPr>
          <p:cNvPr id="1206" name="" descr=""/>
          <p:cNvPicPr/>
          <p:nvPr/>
        </p:nvPicPr>
        <p:blipFill>
          <a:blip r:embed="rId2"/>
          <a:stretch/>
        </p:blipFill>
        <p:spPr>
          <a:xfrm>
            <a:off x="927000" y="6032520"/>
            <a:ext cx="8293320" cy="1168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A17E6-569B-44EC-8F53-1C07936905B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3300"/>
                </a:solidFill>
                <a:latin typeface="Tahoma"/>
              </a:rPr>
              <a:t>Next lecture</a:t>
            </a: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mentum, impulse and 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ad: KJF §9.1, 9.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Archimedes’ Lever Rule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761760" y="4711320"/>
            <a:ext cx="86360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equilibrium (and with forces 90° to lever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8" name="" descr=""/>
          <p:cNvPicPr/>
          <p:nvPr/>
        </p:nvPicPr>
        <p:blipFill>
          <a:blip r:embed="rId1"/>
          <a:stretch/>
        </p:blipFill>
        <p:spPr>
          <a:xfrm>
            <a:off x="2527200" y="1812960"/>
            <a:ext cx="5105520" cy="254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EF26A-7BA2-4FF9-A6D6-75695D197B9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" descr=""/>
          <p:cNvPicPr/>
          <p:nvPr/>
        </p:nvPicPr>
        <p:blipFill>
          <a:blip r:embed="rId1"/>
          <a:stretch/>
        </p:blipFill>
        <p:spPr>
          <a:xfrm>
            <a:off x="4351320" y="1360440"/>
            <a:ext cx="5729400" cy="2760840"/>
          </a:xfrm>
          <a:prstGeom prst="rect">
            <a:avLst/>
          </a:prstGeom>
          <a:ln w="0">
            <a:noFill/>
          </a:ln>
        </p:spPr>
      </p:pic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General Lever Rule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-38520" y="1778040"/>
            <a:ext cx="4559400" cy="1930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general ang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in θ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in θ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93840" y="4305240"/>
            <a:ext cx="946152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343080">
              <a:lnSpc>
                <a:spcPct val="100000"/>
              </a:lnSpc>
              <a:spcBef>
                <a:spcPts val="1301"/>
              </a:spcBef>
              <a:tabLst>
                <a:tab algn="l" pos="0"/>
                <a:tab algn="ctr" pos="4483080"/>
                <a:tab algn="l" pos="6489720"/>
                <a:tab algn="l" pos="71499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all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nθ = 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rqu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>
              <a:lnSpc>
                <a:spcPct val="100000"/>
              </a:lnSpc>
              <a:spcBef>
                <a:spcPts val="1301"/>
              </a:spcBef>
              <a:tabLst>
                <a:tab algn="l" pos="0"/>
                <a:tab algn="ctr" pos="4483080"/>
                <a:tab algn="l" pos="6489720"/>
                <a:tab algn="l" pos="71499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I. unit of torq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ewton metre (Nm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>
              <a:lnSpc>
                <a:spcPct val="100000"/>
              </a:lnSpc>
              <a:spcBef>
                <a:spcPts val="1301"/>
              </a:spcBef>
              <a:tabLst>
                <a:tab algn="l" pos="0"/>
                <a:tab algn="ctr" pos="4483080"/>
                <a:tab algn="l" pos="6489720"/>
                <a:tab algn="l" pos="71499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equilibrium, the magnitude of torques exerted at each end of lever are equa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3" name=""/>
          <p:cNvSpPr/>
          <p:nvPr/>
        </p:nvSpPr>
        <p:spPr>
          <a:xfrm>
            <a:off x="239760" y="7074000"/>
            <a:ext cx="170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  <a:ea typeface="Tahoma"/>
              </a:rPr>
              <a:t>KJF §7.2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064D2-9F7B-47B3-B71C-C1DC7635103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/>
          </p:nvPr>
        </p:nvSpPr>
        <p:spPr>
          <a:xfrm>
            <a:off x="596520" y="1574280"/>
            <a:ext cx="887724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udely speaking, torque is "twisting or turning ability" of a force that c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635040" indent="-31752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the angular velocity of an object (i.e. speed up or slow down rot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635040" indent="-31752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e a twisting or bending distortion of an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orce with a "line of action" that does not cross the axis of rotation results i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orq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What is torque?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CB225-9FA0-4CBE-AD8D-278AE64B434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/>
          </p:nvPr>
        </p:nvSpPr>
        <p:spPr>
          <a:xfrm>
            <a:off x="698040" y="520560"/>
            <a:ext cx="875052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17520" indent="0">
              <a:lnSpc>
                <a:spcPct val="10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7520">
              <a:lnSpc>
                <a:spcPct val="100000"/>
              </a:lnSpc>
              <a:spcBef>
                <a:spcPts val="38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rque is measured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bout a particular po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sually this will be a hinge, pivot or ax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7520">
              <a:lnSpc>
                <a:spcPct val="100000"/>
              </a:lnSpc>
              <a:spcBef>
                <a:spcPts val="38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rque has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ig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l forces that tend to rotate the object in the same direction produce torque with the same 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9BB4A-C73B-4577-BDB7-24B1A1BF0EC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7" name="" descr=""/>
          <p:cNvPicPr/>
          <p:nvPr/>
        </p:nvPicPr>
        <p:blipFill>
          <a:blip r:embed="rId1"/>
          <a:stretch/>
        </p:blipFill>
        <p:spPr>
          <a:xfrm>
            <a:off x="5003640" y="2125800"/>
            <a:ext cx="4915080" cy="3402000"/>
          </a:xfrm>
          <a:prstGeom prst="rect">
            <a:avLst/>
          </a:prstGeom>
          <a:ln w="0">
            <a:noFill/>
          </a:ln>
        </p:spPr>
      </p:pic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Calculating torque (1)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-152280" y="2629080"/>
            <a:ext cx="5613120" cy="241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e a sign convention (e.g. anti-clockwise +ve), then decide in which direction force is pulling or pushing lever.  Write that sign in front of your ans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28600" y="5086440"/>
            <a:ext cx="969012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3720" indent="-380880">
              <a:lnSpc>
                <a:spcPct val="100000"/>
              </a:lnSpc>
              <a:spcBef>
                <a:spcPts val="1301"/>
              </a:spcBef>
              <a:tabLst>
                <a:tab algn="l" pos="0"/>
                <a:tab algn="ctr" pos="480060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thod 1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If you're given r and θ, use formula for torque (magnitude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τ = r F sinθ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3720" indent="-380880">
              <a:lnSpc>
                <a:spcPct val="100000"/>
              </a:lnSpc>
              <a:spcBef>
                <a:spcPts val="689"/>
              </a:spcBef>
              <a:tabLst>
                <a:tab algn="l" pos="0"/>
                <a:tab algn="ctr" pos="480060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ote: sinθ = sinφ, ∴ it doesn’t matter which angle you us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1" name=""/>
          <p:cNvSpPr/>
          <p:nvPr/>
        </p:nvSpPr>
        <p:spPr>
          <a:xfrm>
            <a:off x="452880" y="1572120"/>
            <a:ext cx="8576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alculate torque on lever exerted by hand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F85C4-A80A-476A-BA92-D4646F1FF39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2" name="" descr=""/>
          <p:cNvPicPr/>
          <p:nvPr/>
        </p:nvPicPr>
        <p:blipFill>
          <a:blip r:embed="rId1"/>
          <a:stretch/>
        </p:blipFill>
        <p:spPr>
          <a:xfrm>
            <a:off x="6842160" y="2946240"/>
            <a:ext cx="3083040" cy="2181240"/>
          </a:xfrm>
          <a:prstGeom prst="rect">
            <a:avLst/>
          </a:prstGeom>
          <a:ln w="0">
            <a:noFill/>
          </a:ln>
        </p:spPr>
      </p:pic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Calculating torque (2)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216000" y="1828440"/>
            <a:ext cx="7340400" cy="440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3720" indent="0" algn="just">
              <a:lnSpc>
                <a:spcPct val="100000"/>
              </a:lnSpc>
              <a:buNone/>
              <a:tabLst>
                <a:tab algn="l" pos="0"/>
                <a:tab algn="ctr" pos="257796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ethod 2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ctr" pos="257796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're giv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the “perpendicular distance” from axis to the “line of action”, then use formul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τ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0"/>
                <a:tab algn="ctr" pos="257796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“line of action” crosses the ax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= 0) then τ = 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25366-7E9D-490E-A7DE-B17CE933CBB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Opening a door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06440" y="1307880"/>
            <a:ext cx="6184800" cy="342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-317520">
              <a:lnSpc>
                <a:spcPct val="100000"/>
              </a:lnSpc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r is perpendicular to F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torque τ 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-31752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r is not perpendicular to F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torque τ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inθ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θ  is the angle betwe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7364520" y="1727280"/>
            <a:ext cx="1440" cy="2030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108" name=""/>
          <p:cNvGrpSpPr/>
          <p:nvPr/>
        </p:nvGrpSpPr>
        <p:grpSpPr>
          <a:xfrm>
            <a:off x="7364520" y="1380600"/>
            <a:ext cx="2426040" cy="2226240"/>
            <a:chOff x="7364520" y="1380600"/>
            <a:chExt cx="2426040" cy="2226240"/>
          </a:xfrm>
        </p:grpSpPr>
        <p:sp>
          <p:nvSpPr>
            <p:cNvPr id="1109" name=""/>
            <p:cNvSpPr/>
            <p:nvPr/>
          </p:nvSpPr>
          <p:spPr>
            <a:xfrm>
              <a:off x="7364520" y="1968840"/>
              <a:ext cx="1016280" cy="1638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1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364520" y="2743200"/>
              <a:ext cx="1014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380800" y="2743200"/>
              <a:ext cx="762480" cy="46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433640" y="1380600"/>
              <a:ext cx="2356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xis of rotation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774200" y="224388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9024120" y="2613600"/>
              <a:ext cx="249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8301600" y="2743200"/>
              <a:ext cx="75960" cy="7632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116" name=""/>
          <p:cNvSpPr/>
          <p:nvPr/>
        </p:nvSpPr>
        <p:spPr>
          <a:xfrm>
            <a:off x="838080" y="4991040"/>
            <a:ext cx="8217000" cy="20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17520" indent="-31752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happens if you push in the middle of the door; do you need more or less force?  Why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31752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happens if you push along a line passing through axis of rotation?  Explain.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88178-4A49-4062-A368-874CD2E520F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