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from http://www.middlepeg.com/aboutcricketbats.ht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C0B5F-098C-4D71-9AB1-4C6964728CC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10A3B-9A29-4110-BBBA-EC4DE1CADE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2420-C0DF-4B3D-9BF2-6C547FFC524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28492-9AE4-4263-85F5-F21DC717A77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30367-5DCA-4805-9F38-65D87D57A4E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37F72-D5E1-48FB-B921-149AAB81140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80CB-1FC4-410D-BBFB-126AED55595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BCCB7-0D22-4769-92E4-C172A3509C0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28E98-0C3E-43AE-850C-3934933AD1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9FF94-C4FD-47B3-93B2-076334AB3A7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9D753-0CBD-46A6-877F-6D417112A5D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C410-1EF9-4C0D-8D53-DB4478FBB45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4B2A2-11E5-4F6D-BFDB-DAB241ACD6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9C28C-8921-4BBE-95F5-6DACC40AFCF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5610D-2411-4BDE-8F58-F0E68F71379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34881-A6D7-47EF-8BE4-5ABD9CD7ED2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3EF53-D12A-4D5F-9B7B-1DC0F39F358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F8275-90F1-4192-A398-EE53EA569BE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12A43-22CC-402A-A8AB-E123942C3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2CADF-4256-46B1-8100-0A51C7CBF87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724D2-66B7-4C42-999E-49E7E2F16C5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7FA4C-6E7B-47DC-80A4-CBB99EFC652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05FE6-AC89-4592-AFA7-668FA25E5F4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3282-E3B9-4924-A85A-4E4C6A4D0B5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0F8E-EA44-4D73-950A-43558786F5F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CBA-D3E6-4E6C-8398-074C9E19AD6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ABB2-5E8E-4AA1-94FA-EFC6F40F636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45A0-720F-4DC6-9FF8-4D92AAD3DDA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72DE-D222-41EA-84E4-E8189FD184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333-77E0-4F43-9AB2-48C492852D2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CDA1-88C1-4CAA-BB1F-6CA361BDB53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30F-F493-4938-BE61-4A724CE7B2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F727-FB29-4770-AAE9-1711C328769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11EA-ED1F-49C2-9B66-683A70A55C4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77AA-846C-4B84-9263-F146C27D89E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E39E-871F-4AF1-ABD6-B8954C16C68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51520-DDD8-4C78-A5CB-D6386A0CBCE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BCE0C-0005-4CD6-BCEF-D387F125C6C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99F91-C756-4940-9C1A-1B1BE1606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946C2-0B9B-42F5-ABD5-F3EAAC1AB6F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C8E02-E0A0-417D-A87D-60A06F1B5C1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19784-8515-4E91-97BD-2C975D4354B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78013-09C5-4366-9C0E-498568B56C5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5BF30-213A-44B1-8779-3D8538AB03A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0DBF8-7148-4A96-9DC0-B4E1CF72341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42DF5-355B-4BC7-83BB-5B16BF9D956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4F087-7A21-4EE5-9949-3BC943768E0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81838-3C05-446B-A9AB-980AA354B5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E6F1E-ABCE-458E-8ABD-5A7CA5F75C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FD364-0ADA-4968-BC84-1FA9011CDC4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06C57-03C5-4D06-9162-99DC6094B9C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0FBA7-D4B5-466B-8976-2D48A18D6A4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20F59-611D-4FDD-9931-726F5A908CE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9F51F-F01B-4C76-A0A3-5B1E4B0FE2A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0ACCA-F584-445C-BAC0-E31E27C89F0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21D0C-1438-40A0-80F9-F9569CE629E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6BEF8-2E06-4ABB-A349-01DECB612AC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5F3B3-FF2D-4971-925E-231AA1600AF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ED217-EB86-41A9-AD52-DC747F5604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EFC1E-09B7-4F94-8C6B-6EBD1F8D89E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09D1-9F37-49E5-83F7-EC39E55CB2C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6CE9-268E-4BC0-AEC3-FE1D2935D48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44B6-98D2-4D78-BB06-6AAE29FF91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7B3A-A258-4017-9D51-E1BF2C33CE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05E1-A173-40D1-930F-E22B46024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64C3-1901-4594-8A4F-0B069E2E2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E489-EAD4-43B5-B72A-84EE3C4EB8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D1AB-ED80-4F81-9B0E-011BF4520A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A813-432C-4382-8E28-9511EB14CF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01A4-BD67-48DE-9DE1-E10405576E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4229-B33B-48B7-A3D2-ACEFF52724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6C43-57D6-40FB-B00B-525B5EE86C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1A45-6F85-451B-9905-F043A3468F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28E8-F640-41EF-B35E-012D379B53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97AA-3A3A-4EA0-931D-820DA0238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414B-53D0-4772-A29F-9873723AA3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0B2E-39C0-4B38-A771-BDB57A4433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E0A6-4148-4D0A-8577-B0A0B014DF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C879-24FF-43FB-BAB7-15676B4A1A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90CD-1910-46AB-959B-7F445559DB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4685-0A26-4B86-9535-C329D1BB3E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151F-E69A-4E28-861F-0A294E655C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3209-366F-4EB1-BC00-7C1206CA11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5D18-24A9-414D-A9D2-41E49D8F0B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89A-F9BA-4129-85FE-2CBD0EE3D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B0E-E45A-4A01-B046-9564D37029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F76-4BC5-4BF9-8790-029A560B7E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0F5-CE62-42DE-80CF-3D4E1287A0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468-90E5-427A-891A-09CFFE2B20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986-FF40-43FE-942B-F9E8C6DBB2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5DB-E343-43D9-B013-F7ACF5E634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3D0-B3E3-474A-AF75-7189DFEA37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4D2-37A3-4156-981F-CC03331BC2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F47-2D26-4D6D-995C-4A122B2620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FD9-262E-4C84-B76C-0201AEAE9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A8D-3D17-4C2B-96E1-DEF53C646C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51696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1900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2140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4234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7258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7258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7258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ldNum" idx="4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C450-735A-4B54-882B-194C40EDE73D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5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BB42-3E86-447B-9D57-AC95DCDCA5A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6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E30-0432-48CF-8649-F8BDA2F659C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7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CD2-B52A-42FB-A2F6-6622814C8E3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8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32F-B04C-454E-ADAA-C2E5ABC06F1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7342-3020-4C5F-9513-2BAEDD9E6773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884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2222640" indent="-5716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66688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666880" indent="-571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666880" indent="-571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2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51AC-E278-4950-88CE-7D9DB3FD4DC2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5C3-95E5-4040-B50D-E7EFE1B6E114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397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Momentum, impulse and energy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9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1724760" y="5854320"/>
            <a:ext cx="693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9.1 and 9.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2031840" y="0"/>
            <a:ext cx="6336000" cy="5392800"/>
            <a:chOff x="2031840" y="0"/>
            <a:chExt cx="6336000" cy="5392800"/>
          </a:xfrm>
        </p:grpSpPr>
        <p:sp>
          <p:nvSpPr>
            <p:cNvPr id="868" name=""/>
            <p:cNvSpPr/>
            <p:nvPr/>
          </p:nvSpPr>
          <p:spPr>
            <a:xfrm flipH="1">
              <a:off x="4504320" y="4699080"/>
              <a:ext cx="240840" cy="7632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3098880" y="4724640"/>
              <a:ext cx="1242720" cy="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692760" y="4724640"/>
              <a:ext cx="698040" cy="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11520" y="4870440"/>
              <a:ext cx="421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r>
                <a:rPr b="0" lang="en-US" sz="3000" spc="-1" strike="noStrike" baseline="-21000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30000" y="4887720"/>
              <a:ext cx="1437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r>
                <a:rPr b="0" lang="en-US" sz="3000" spc="-1" strike="noStrike" baseline="-21000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3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←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1"/>
            <a:stretch/>
          </p:blipFill>
          <p:spPr>
            <a:xfrm>
              <a:off x="2031840" y="0"/>
              <a:ext cx="148608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20200" y="1879560"/>
            <a:ext cx="9131400" cy="252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recoil speed of a pistol (mass 0.90 kg) given that the bullet has mass 8.0 g and emerges from the pistol with a speed of 352 m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Assume the momentum of the exhaust gas is neglig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73040" y="6550560"/>
            <a:ext cx="1617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3.1 ms</a:t>
            </a:r>
            <a:r>
              <a:rPr b="0" i="1" lang="en-US" sz="3200" spc="-1" strike="noStrike" baseline="32000">
                <a:solidFill>
                  <a:srgbClr val="0000ff"/>
                </a:solidFill>
                <a:latin typeface="Times New Roman"/>
                <a:ea typeface="Times New Roman"/>
              </a:rPr>
              <a:t>–1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AC2C-9154-4D91-9322-ABB58CD3B3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Impuls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u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force is defined a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nge in moment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used by that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ewton’s Second Law, i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.0 kg object falls under gravity. Calculate the impulse the object experiences due to its weight after falling for 10 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"/>
          <p:cNvSpPr/>
          <p:nvPr/>
        </p:nvSpPr>
        <p:spPr>
          <a:xfrm>
            <a:off x="5709600" y="6530040"/>
            <a:ext cx="356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98 kg m s</a:t>
            </a:r>
            <a:r>
              <a:rPr b="0" i="1" lang="en-US" sz="2800" spc="-1" strike="noStrike" baseline="32000">
                <a:solidFill>
                  <a:srgbClr val="0000ff"/>
                </a:solidFill>
                <a:latin typeface="Times New Roman"/>
                <a:ea typeface="Times New Roman"/>
              </a:rPr>
              <a:t>–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wnwards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777E-B7F2-4A09-AC2A-82E6C699B6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Impulse (2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96520" y="1574640"/>
            <a:ext cx="88772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r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∫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impulse = area und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at i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ball hitting a w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457200" y="5123880"/>
            <a:ext cx="4686480" cy="2038680"/>
            <a:chOff x="457200" y="5123880"/>
            <a:chExt cx="4686480" cy="2038680"/>
          </a:xfrm>
        </p:grpSpPr>
        <p:sp>
          <p:nvSpPr>
            <p:cNvPr id="884" name=""/>
            <p:cNvSpPr/>
            <p:nvPr/>
          </p:nvSpPr>
          <p:spPr>
            <a:xfrm>
              <a:off x="1828800" y="5319720"/>
              <a:ext cx="1440" cy="12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200" y="5549760"/>
              <a:ext cx="25416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73200" y="5702400"/>
              <a:ext cx="25416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7200" y="5867280"/>
              <a:ext cx="25416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4240" y="5702400"/>
              <a:ext cx="59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674280" y="5943600"/>
              <a:ext cx="59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9120" y="5123880"/>
              <a:ext cx="3744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 baseline="-24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0640" y="6063840"/>
              <a:ext cx="38808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400" spc="-1" strike="noStrike" baseline="-24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1910880" y="5790960"/>
              <a:ext cx="1016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43280" y="5670360"/>
              <a:ext cx="32004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cting for time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∆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62040" y="6603840"/>
              <a:ext cx="10288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ll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5522760" y="5592960"/>
            <a:ext cx="3698280" cy="1816200"/>
            <a:chOff x="5522760" y="5592960"/>
            <a:chExt cx="3698280" cy="1816200"/>
          </a:xfrm>
        </p:grpSpPr>
        <p:sp>
          <p:nvSpPr>
            <p:cNvPr id="896" name=""/>
            <p:cNvSpPr/>
            <p:nvPr/>
          </p:nvSpPr>
          <p:spPr>
            <a:xfrm>
              <a:off x="5522760" y="6450480"/>
              <a:ext cx="2509200" cy="702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22760" y="5592960"/>
              <a:ext cx="1440" cy="156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22760" y="7157880"/>
              <a:ext cx="2882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06080" y="5600880"/>
              <a:ext cx="13280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wall on ball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91240" y="6982200"/>
              <a:ext cx="82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921000" y="4720320"/>
            <a:ext cx="2705400" cy="1791360"/>
            <a:chOff x="6921000" y="4720320"/>
            <a:chExt cx="2705400" cy="1791360"/>
          </a:xfrm>
        </p:grpSpPr>
        <p:sp>
          <p:nvSpPr>
            <p:cNvPr id="902" name=""/>
            <p:cNvSpPr/>
            <p:nvPr/>
          </p:nvSpPr>
          <p:spPr>
            <a:xfrm>
              <a:off x="8588160" y="4720320"/>
              <a:ext cx="1038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9103"/>
                  </a:solidFill>
                  <a:uFillTx/>
                  <a:latin typeface="Arial"/>
                  <a:ea typeface="Arial"/>
                </a:rPr>
                <a:t>J</a:t>
              </a:r>
              <a:r>
                <a:rPr b="0" lang="en-US" sz="2800" spc="-1" strike="noStrike">
                  <a:solidFill>
                    <a:srgbClr val="009103"/>
                  </a:solidFill>
                  <a:latin typeface="Arial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9103"/>
                  </a:solidFill>
                  <a:latin typeface="Symbol"/>
                  <a:ea typeface="Symbol"/>
                </a:rPr>
                <a:t>Δ</a:t>
              </a:r>
              <a:r>
                <a:rPr b="1" lang="en-US" sz="2800" spc="-1" strike="noStrike" u="sng">
                  <a:solidFill>
                    <a:srgbClr val="009103"/>
                  </a:solidFill>
                  <a:uFillTx/>
                  <a:latin typeface="Arial"/>
                  <a:ea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921000" y="5105160"/>
              <a:ext cx="2109960" cy="1406520"/>
            </a:xfrm>
            <a:prstGeom prst="line">
              <a:avLst/>
            </a:prstGeom>
            <a:ln w="76320">
              <a:solidFill>
                <a:srgbClr val="009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B8B0-E277-411E-8BCB-D8A097F074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Impulse (3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Δ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baseline="-6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minimise the average forc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ing an impact, by increasing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act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seat belts, driver's air bag, wicket-keeper’s glove, thick landing mat for high jum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AAFB-C2C0-4A8E-A36A-967C2AA374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2540160" y="2158920"/>
            <a:ext cx="5079960" cy="330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50BB-B364-4950-B3CB-7E0FAD3A417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7035840" y="3949560"/>
            <a:ext cx="2782800" cy="2540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583920" y="4635000"/>
            <a:ext cx="68324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ce the bat exerts on the b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ce the bat exerts on the b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title"/>
          </p:nvPr>
        </p:nvSpPr>
        <p:spPr>
          <a:xfrm>
            <a:off x="101160" y="190080"/>
            <a:ext cx="958860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: Hitting a cricket ball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406440" y="1333440"/>
            <a:ext cx="2413080" cy="308628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2971800" y="1486080"/>
            <a:ext cx="6769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50g cricket ball is bowled with a speed of 20 m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batsman hits it straight back to the bowler at 40 m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impulsive force of bat on ball has the shape as shown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"/>
          <p:cNvSpPr/>
          <p:nvPr/>
        </p:nvSpPr>
        <p:spPr>
          <a:xfrm>
            <a:off x="7176960" y="6779160"/>
            <a:ext cx="2448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30 kN, 15 kN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34E8-ED1A-402E-834B-846F1DA8F76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JF 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at is Energy?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30120" y="1574280"/>
            <a:ext cx="9423360" cy="593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needed to do usefu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an move things, heat things up, cool them down, join things, break things, cut things, make noise, make light, and power our electronic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ergy is a sca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o direction, not a vector — easy math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I. unit of energy is the joule,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ener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of motion - "kinetic energy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energy - "potential energy": gravitational, elastic,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hot objects - "thermal energy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1–10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88D8-05A0-4F91-90FD-431390BC215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Kinetic 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form of energy is energy of motion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ass (kg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agnitude of velocity (m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definition: 1 J = 1 joule = 1 kg.(m.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kg.m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A 1.0 kg mass moves @ 2.0 ms</a:t>
            </a:r>
            <a:r>
              <a:rPr b="0" lang="en-US" sz="2900" spc="-1" strike="noStrike" baseline="32000">
                <a:solidFill>
                  <a:srgbClr val="000000"/>
                </a:solidFill>
                <a:latin typeface="Times New Roman"/>
              </a:rPr>
              <a:t>–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nd K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½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× 1.0 kg × 4.0 m</a:t>
            </a:r>
            <a:r>
              <a:rPr b="0" lang="en-US" sz="2800" spc="-1" strike="noStrike" baseline="32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.s</a:t>
            </a:r>
            <a:r>
              <a:rPr b="0" lang="en-US" sz="2800" spc="-1" strike="noStrike" baseline="32000">
                <a:solidFill>
                  <a:srgbClr val="0000ff"/>
                </a:solidFill>
                <a:latin typeface="Times New Roman"/>
              </a:rPr>
              <a:t>–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2.0 J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2373-B4B9-4985-9F0A-FB65C8B6CB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Gravitational Potential 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82400" y="1777680"/>
            <a:ext cx="921996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ored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e to height in a gravitation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P.E.  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ass (kg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height above the origin level (m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igin posit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) can be freely chosen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wa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ome reference level or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A 1.0 kg mass is held 10 m above the groun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G.P.E. relative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1.0 kg × 9.8 ms</a:t>
            </a:r>
            <a:r>
              <a:rPr b="0" lang="en-US" sz="2800" spc="-1" strike="noStrike" baseline="32000">
                <a:solidFill>
                  <a:srgbClr val="0000ff"/>
                </a:solidFill>
                <a:latin typeface="Times New Roman"/>
              </a:rPr>
              <a:t>–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× 10 m = 98 J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D1B3-41AB-4C0F-A283-C668CD3174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Momentum and impuls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JF chapt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Mechanical 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34680" y="165060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dded together are calle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echanic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energy resulting from any force which depends only on position (e.g. gravity, force in a spring, electrostatic attrac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vitational potential energy is only one example of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0A67-E341-49BB-AF12-95003474A1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1320" y="127080"/>
            <a:ext cx="900396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Law of Conservation of 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34680" y="165060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ergy cannot be created or destroyed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.e. it is "conserved"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 an isolated system — one where there is no energy transfer into or out of the system — the total energy E</a:t>
            </a:r>
            <a:r>
              <a:rPr b="0" lang="en-US" sz="3200" spc="-1" strike="noStrike" baseline="-6000">
                <a:solidFill>
                  <a:srgbClr val="0000ff"/>
                </a:solidFill>
                <a:latin typeface="Times New Roman"/>
              </a:rPr>
              <a:t>to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s con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246D-D198-47B0-BB5E-B9B6FE8D883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, power and potenti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9.1, 9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330120" y="228600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3683160" y="2286000"/>
            <a:ext cx="2793960" cy="30481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7010280" y="228600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1151640" y="1465200"/>
            <a:ext cx="1306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Gill Sans"/>
                <a:ea typeface="Gill Sans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"/>
          <p:cNvSpPr/>
          <p:nvPr/>
        </p:nvSpPr>
        <p:spPr>
          <a:xfrm>
            <a:off x="7989120" y="1465200"/>
            <a:ext cx="96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Gill Sans"/>
                <a:ea typeface="Gill Sans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"/>
          <p:cNvSpPr/>
          <p:nvPr/>
        </p:nvSpPr>
        <p:spPr>
          <a:xfrm>
            <a:off x="2954160" y="5559840"/>
            <a:ext cx="4271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ill Sans"/>
                <a:ea typeface="Gill Sans"/>
              </a:rPr>
              <a:t>COLLIS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ill Sans"/>
                <a:ea typeface="Gill Sans"/>
              </a:rPr>
              <a:t>complex interac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5CFD-E88B-48EE-9184-36A964FE54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Linear Momentum of a Bod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fine the momentum of an object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ss an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vector and is in the same direction as v.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n’t confuse p with power or pressure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: kg.m.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4406400" y="5511960"/>
            <a:ext cx="1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5C31-2F3B-45D2-84BB-EB9A699625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17520" y="0"/>
            <a:ext cx="9461520" cy="143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Momentum and Newton’s 2nd Law</a:t>
            </a:r>
            <a:endParaRPr b="0" lang="en-US" sz="4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nstant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 originally expressed his second law in terms of moment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NOT constant the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3737-0E14-4D76-83A4-06F07402FC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17160" y="0"/>
            <a:ext cx="9372600" cy="143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Momentum of a system of particles</a:t>
            </a:r>
            <a:endParaRPr b="0" lang="en-US" sz="4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mentu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ector sum of individual mom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∑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∑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ector sum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consider the particles as one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2L beco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∑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i="1" lang="en-US" sz="2800" spc="-1" strike="noStrike" baseline="-6000">
                <a:solidFill>
                  <a:srgbClr val="000000"/>
                </a:solidFill>
                <a:latin typeface="Times New Roman"/>
              </a:rPr>
              <a:t>ex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net external forc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 not forces between particles in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E16F-8C2B-48DC-A971-8A748E0C6D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8445600" y="1625760"/>
            <a:ext cx="1533600" cy="474804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nservation of Momentu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96520" y="1574640"/>
            <a:ext cx="7797960" cy="560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if ∑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  for 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d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t = 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otal momentum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articles interact (e.g. billiard ball collision, explosion etc.), 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t external force is 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total moment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action equals total moment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mentum is con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∑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∑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4396-9C86-457F-BCB1-BC8EF58BE6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2538360" y="1965240"/>
            <a:ext cx="5081760" cy="368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421-18D3-4E68-9D79-8FABBE4179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3289320" y="2409840"/>
            <a:ext cx="3564000" cy="279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427-F6CE-4DD5-8AA9-804F8311EB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