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F56C-8A94-4638-81B3-F27E45A2E1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0914-CC86-437A-832F-91F5ADA148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5AEF-7EFD-4DF2-BB9B-9D72204503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E953-65FC-4C7B-8852-8BC713FAED9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7E63-85BA-4C35-9EE5-E98587B5A48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E602-C5CD-4F91-A299-8BDEBC31ADD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FC02-BA94-4547-B4FC-CEE7382F180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E419-5E66-487F-B1EA-791812979E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B41C-210F-487A-BA48-41383AB33C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CAC95-AD61-4421-A08F-BB46659F61A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56E83-9358-4727-93FF-71A1928004B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31814-A133-465E-8303-7BA39C3BBA7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2AE35-85BA-4232-A6E9-8C88DD5B4E6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73467-1587-4752-9D88-F19D55DC84A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740E9-93FE-4AD7-AE10-EEA77F2495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6E77-2D07-44E5-ADD6-730CE7380AD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0B35-CF22-4CAA-ACA2-0D33613F7F2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1302C-8DFF-45F9-83AB-32C6F007ED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8E049-A57B-4DFC-AB9C-6D43FD12F2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F0D-F3AB-4066-8704-F7FE12EC300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0937-10F6-4103-8536-72622061BCE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6A1-5D21-44FD-A303-953074FB6E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8456-D431-4E95-96B9-425C363E37A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EBE9-C7C1-4837-9A5A-2E5C262CAD6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EFC-8B26-4D60-A8FE-305A9429AF8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C427-ED3F-4D5B-9052-23629E696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F670-5022-4BFE-915F-B39B48C8022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4A7-DF31-417A-84D6-3B1E00F2DF3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07A-B2F3-4A56-B9EF-0FD8515733E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48D1-1472-4A3F-B1B5-41929146BDE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B9DE-5F53-45FE-A508-966B0C35A4E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014D-0F90-4DED-AB0E-68363809E1B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A9DF6-2353-4266-8A26-D944675BB89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BF7A3-491A-43CA-A411-D0EBD37CE0A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06D50-C41B-4061-BC3A-4DB1BADB24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09469-504F-49C9-9F48-D6947A94205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77D0A-56CF-4102-AB96-1CC64055B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8FB1-C164-42D7-A23F-72CE8DCFE57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D4E98-6A0A-43AE-9E8D-22E5170F3E1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AD782-B9B5-44B4-A303-DBF82A8B094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66C2A-8D41-467F-970A-3274D766788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C528F-B40D-4259-A664-A582C2AE51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D44F0-12E2-4412-A6D4-7EE902FCC88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82B9B-267C-4196-B094-82A1851188B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179F7-031F-4745-BC63-945E0573AC9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F9614-0D8A-481E-AB77-6C04753643A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D1252-49A6-4A7C-ADA5-7AEF99363F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33DC8-2E20-4F52-A090-30AC247C9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A5A9-C37B-4B66-9A3F-70A143BBC7D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5A136-4857-4D23-86A6-72B63BDB540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3C311-865C-48F9-A3AF-F5F3CB1BBD3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43382-AFCC-4D2C-A7A9-C3C5DF2BB2F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55C0A-278B-471C-ACA1-A24B064AC8D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05446-3D2E-4E34-8EE3-6B69BCC09B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AA2DB-8BBA-468A-8A97-CD59CC5D7C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0F7C9-7307-4CFE-85F2-A89097B1B18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68A30-4B8A-4954-A7E3-11C57D98291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5B6D4-BD0F-422F-9778-D99831EF475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255B-9D11-4163-8489-8EB08D3263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231D-CE8E-41BF-AEBE-397F9A1B105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879C-57D8-4782-BD0F-16C915B1F2D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CB0D-E6BC-42B0-A174-98D924465B5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D3F6-733E-4158-8476-A6726E7DEC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4E50-BCF1-4DFE-ABA0-DC3E35A833C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0BF2-9E45-4B32-AC28-47301AC9546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2F62-812A-4288-98DB-90B1C951157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3244-EFFC-4BB6-98A8-EC93EC11CF4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50FA-BC9B-4236-A115-BBA16C945B6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A711-1642-404D-A4E0-F29218E75DC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F069-3AD7-4B11-815E-0AD0E4ADC1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5D39-D897-446D-ACA9-2D64AF75CD8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E2CB-EAC8-4FC3-B6AA-D76F925865F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0DE9-2554-491A-AB2B-D033C32058B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4041-DBD5-4D24-B266-BBBC29037C6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2D4C-5AA9-4068-96A5-881A64D275F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4D37-6650-45F8-8B49-E2594370FC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3B8F-5CCC-4192-AEBC-3A0F82C63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129E-8C11-4B8B-927D-DE09AD818D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0591-4F9E-4F58-AD63-5FF3113D89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3590-51BB-454F-8893-F9D5C089D5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AED5-580B-404D-AE03-87FBAF396E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D4D8-96E2-43A8-9CE1-4DEA33AC90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20E1-3261-4EF5-A2D1-E3BF319E65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4904-0109-4274-A360-D97B83C781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F4F-F60B-408B-8EA0-CE06D2DE8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625-9BEB-4A73-89CF-C86D9BAF9D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233-02D9-4271-BB0E-FE9B30F0FA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E1D-6BC4-4CEC-91E8-EACEFB363E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8D4-5125-454E-B370-5967EB77CA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534-EB27-46EA-A617-32A107393B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565-F52D-4F3A-B9F8-6AA31273CE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BB0-125A-4A0F-8AD0-8563483B3D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4CC-1596-4C8D-B4C8-036483B86B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FAC-7B74-453D-9D28-2B14E3FFA6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083-51D3-42F4-854F-9FCC51937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5FB-5341-4A30-B822-B6AF115E7D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AB38-0C98-453F-B5F8-F46B870829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9B32F-20ED-45F6-B977-808DC334A0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F65A8-A100-4243-90D5-2627E9C67A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C57A-3043-4B5D-9B15-3D6B6678F7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C5A5D-25EA-4103-83FC-60EB756A2E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4ED0F-177F-4AC9-A760-3D6B09D2C4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B55DF-5F9A-4B4C-B499-0A59E113F8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F753-C2F2-4466-A5A9-6A7D9C3622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EF346-DBC9-4222-B1E1-BB02F8517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94399-762E-4AB4-8571-79CD6481C7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0FE7C-8AEA-4609-83EB-500AC0D3AF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BA06E-7CE8-4BD2-83C6-66E5EC0DC3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A43-CCD6-4538-8D04-B1CD4D132B25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5F0-99CA-4E94-B966-2358A0A91F2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F04-EC59-45F7-8594-6D5B93B3E42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BEFA-FB2E-44E9-BD79-7FF8B421DF0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DA0-A96E-417D-A931-07A9E86C2C3C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9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F6D-4A29-4414-87A1-4D08B8BA1F6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7CB7-315B-4E8C-95F4-7F1CD450F107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5320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706760" indent="-5486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133720" indent="-5486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55996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55996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55996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99C3-77EA-4B6A-A355-6226364F10C0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4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96A-5E20-40E1-8118-AB3E5B4BC364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397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Work, Power</a:t>
            </a:r>
            <a:br>
              <a:rPr sz="62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3600"/>
            </a:b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Potential energy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1434240" y="5854320"/>
            <a:ext cx="7513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10.1 and 10.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34680" y="3251160"/>
            <a:ext cx="88772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dy moves displac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  From the motion equation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K.E. is changing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×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946240" y="873360"/>
            <a:ext cx="3862440" cy="1514160"/>
            <a:chOff x="2946240" y="873360"/>
            <a:chExt cx="3862440" cy="1514160"/>
          </a:xfrm>
        </p:grpSpPr>
        <p:sp>
          <p:nvSpPr>
            <p:cNvPr id="919" name=""/>
            <p:cNvSpPr/>
            <p:nvPr/>
          </p:nvSpPr>
          <p:spPr>
            <a:xfrm>
              <a:off x="3619440" y="1562040"/>
              <a:ext cx="1244520" cy="825480"/>
            </a:xfrm>
            <a:prstGeom prst="rect">
              <a:avLst/>
            </a:prstGeom>
            <a:solidFill>
              <a:srgbClr val="ff7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46240" y="2387520"/>
              <a:ext cx="386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4868640" y="1128600"/>
              <a:ext cx="1447920" cy="819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38960" y="873360"/>
              <a:ext cx="194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25E-6E03-406C-B410-94D2D0E319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36560" y="22824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ork and Kinetic Energy (2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×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cosθ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our definition of work was “change in energy” and in this case the only change is in kinetic energ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the work don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= ∆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Fd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cos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DDA-980D-438F-A1EE-1CDDDF751A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Sign Convention for Work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35040" indent="-317520">
              <a:lnSpc>
                <a:spcPct val="100000"/>
              </a:lnSpc>
              <a:spcBef>
                <a:spcPts val="1899"/>
              </a:spcBef>
              <a:buClr>
                <a:srgbClr val="ff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ork can be 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(i.e. Energy will be transferr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body).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signed scalar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lied force is causing the object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nergy, then the work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work done by legs walking upst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lied force is causing the object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nergy, then work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work done by legs walking downst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31F-F48B-49AC-A5B7-41E4521D6B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Forces that do no work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88772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does not move, no work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5130720" y="254016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DB8-699C-4BD3-B120-842AB2A6AC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Forces that do no work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force is perpendicular to the displacement, then the force does no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3479760" y="3111480"/>
            <a:ext cx="5886360" cy="380988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A8B-B0A3-4F1E-A89A-C6CA6E57F5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ork-Energy Theor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72840" y="1409400"/>
            <a:ext cx="880092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s a scalar, i.e. the work done by the individual forces can be added together "arithmetically"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1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ork-Energy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 special case of the law of conservation of energ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 change in kinetic energy of a system equals the sum of work done by all the individual forces on the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∑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trictly speaking this theorem applies to rigid ("non-squishy")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E2B-734F-4D5A-924C-3F07E1A0E6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596520" y="1574640"/>
            <a:ext cx="8877240" cy="215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0 g plastic ball is moving to the left at 30 m/s. How much work must be done on the ball to cause it to move to the right at 30 m/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title"/>
          </p:nvPr>
        </p:nvSpPr>
        <p:spPr>
          <a:xfrm>
            <a:off x="685440" y="254160"/>
            <a:ext cx="8775720" cy="107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: KJF problem 10.11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8252280" y="5814000"/>
            <a:ext cx="805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0 J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2" name=""/>
          <p:cNvSpPr/>
          <p:nvPr/>
        </p:nvSpPr>
        <p:spPr>
          <a:xfrm>
            <a:off x="4775040" y="4216320"/>
            <a:ext cx="60984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3" name=""/>
          <p:cNvSpPr/>
          <p:nvPr/>
        </p:nvSpPr>
        <p:spPr>
          <a:xfrm>
            <a:off x="3416400" y="4508640"/>
            <a:ext cx="1130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62C-3896-4DFA-9064-9133DAF034E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which a force does work o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taneous po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Power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955880" y="5842080"/>
            <a:ext cx="5419800" cy="86184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2362320" y="3889440"/>
            <a:ext cx="4610160" cy="84456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3"/>
          <a:stretch/>
        </p:blipFill>
        <p:spPr>
          <a:xfrm>
            <a:off x="4991040" y="2489040"/>
            <a:ext cx="1879560" cy="117972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17520" y="5111640"/>
            <a:ext cx="984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remember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θ, so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θ are cons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0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1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264-95AC-48A4-9C6E-212D7E1F6E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Unit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34680" y="1397160"/>
            <a:ext cx="8877240" cy="547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: watt (W) = joule.second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.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[1 horsepower (hp) = 746 W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 Do not confuse the unit watt (W) with the algebraic symbol for work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1st is the unit for power P, the 2nd represents an energy and has joules (J) as its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4406400" y="5499000"/>
            <a:ext cx="1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336760" y="4888080"/>
          <a:ext cx="6134040" cy="2244600"/>
        </p:xfrm>
        <a:graphic>
          <a:graphicData uri="http://schemas.openxmlformats.org/drawingml/2006/table">
            <a:tbl>
              <a:tblPr/>
              <a:tblGrid>
                <a:gridCol w="2424240"/>
                <a:gridCol w="1850760"/>
                <a:gridCol w="1859040"/>
              </a:tblGrid>
              <a:tr h="86364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ic 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,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, U, W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  <a:ea typeface="Gill Sans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99D-EF19-434C-AA9A-83D6715B1AC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aded cab of an elevator has a mass of 3.0 × 10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g and moves 210m up the shaft in 23s at constant sp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what average rate does the force from the cable do work on the c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290720" y="5178960"/>
            <a:ext cx="2228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2.7 × 10</a:t>
            </a:r>
            <a:r>
              <a:rPr b="0" lang="en-US" sz="3200" spc="-1" strike="noStrike" baseline="32000">
                <a:solidFill>
                  <a:srgbClr val="ff00ff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W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51D-E3CF-415E-A0B2-7C0C2D3978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Energy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30120" y="1574280"/>
            <a:ext cx="9423360" cy="593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is needed to do useful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can move things, heat things up, cool them down, join things, break things, cut things, make noise, make light, and power our electronic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can be changed from one form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1–10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8FD4-DD30-450E-9131-4BDDCC19967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 2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KJF example 10.17)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574280"/>
            <a:ext cx="878832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1500 kg car is behind a truck travelling at 90 km h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 m 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o pass it, you speed up to 120 km h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33 m s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6.0 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gine power is required to do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86760" y="5178960"/>
            <a:ext cx="137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58 kW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CFB-F2AB-4A0C-8005-86B84D464D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Gravitational Potential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3009960"/>
            <a:ext cx="924552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odies are attracted because of gravity caused by their mass, so we have to do 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ush them a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do this, energy is transferred to the system —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ravitational potential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Near earth's surf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roperty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ole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 is earth + ball, but usually we simplify and say "the ball has potential energ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0" y="0"/>
            <a:ext cx="6441840" cy="2037600"/>
            <a:chOff x="0" y="0"/>
            <a:chExt cx="6441840" cy="2037600"/>
          </a:xfrm>
        </p:grpSpPr>
        <p:sp>
          <p:nvSpPr>
            <p:cNvPr id="964" name=""/>
            <p:cNvSpPr/>
            <p:nvPr/>
          </p:nvSpPr>
          <p:spPr>
            <a:xfrm>
              <a:off x="3056040" y="2036160"/>
              <a:ext cx="672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679720" y="203616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966" name="" descr=""/>
            <p:cNvPicPr/>
            <p:nvPr/>
          </p:nvPicPr>
          <p:blipFill>
            <a:blip r:embed="rId1"/>
            <a:stretch/>
          </p:blipFill>
          <p:spPr>
            <a:xfrm>
              <a:off x="4282920" y="0"/>
              <a:ext cx="15796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"/>
            <a:stretch/>
          </p:blipFill>
          <p:spPr>
            <a:xfrm>
              <a:off x="0" y="334800"/>
              <a:ext cx="907920" cy="90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606-7C8A-44A0-B459-997B642AF9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7162920" cy="580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don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ight (gravity) on the ball as it falls a d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wards eart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s θ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× 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× cos 0°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 done by weight (gravity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= minus the change in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height is significa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⇒ we are free to choose any reference level we like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990960" y="-3990960"/>
            <a:ext cx="4679640" cy="9706320"/>
            <a:chOff x="3990960" y="-3990960"/>
            <a:chExt cx="4679640" cy="9706320"/>
          </a:xfrm>
        </p:grpSpPr>
        <p:sp>
          <p:nvSpPr>
            <p:cNvPr id="971" name=""/>
            <p:cNvSpPr/>
            <p:nvPr/>
          </p:nvSpPr>
          <p:spPr>
            <a:xfrm>
              <a:off x="8670600" y="314640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8670600" y="5137560"/>
              <a:ext cx="0" cy="57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1"/>
            <a:stretch/>
          </p:blipFill>
          <p:spPr>
            <a:xfrm flipH="1" rot="16200000">
              <a:off x="3990960" y="-744480"/>
              <a:ext cx="11970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2"/>
            <a:stretch/>
          </p:blipFill>
          <p:spPr>
            <a:xfrm flipH="1" rot="16200000">
              <a:off x="4245840" y="-3991680"/>
              <a:ext cx="687240" cy="68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9309240" y="2797200"/>
            <a:ext cx="0" cy="15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"/>
          <p:cNvSpPr/>
          <p:nvPr/>
        </p:nvSpPr>
        <p:spPr>
          <a:xfrm>
            <a:off x="9494640" y="321048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F22C2-567E-4420-ADAB-0996BDD960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634680" y="1333440"/>
            <a:ext cx="88772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gravitational potential energy depends only on the height of the object above the reference leve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E is independent of path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07040" y="2413080"/>
            <a:ext cx="5079960" cy="538488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660240" y="2279520"/>
            <a:ext cx="551196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tential energy do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 on the path take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cases the G.P.E increased by the same amount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1A5-BE98-404F-8E54-F2F52FF902B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69800" y="0"/>
            <a:ext cx="858528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nservative Forces 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7800" y="2452320"/>
            <a:ext cx="6274080" cy="364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ork done by a force in moving an object from A to B does NOT depend on the path taken, we call it a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ervative for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gravity, ideal springs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84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6375240" y="1612800"/>
            <a:ext cx="3726000" cy="256536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203040" y="509760"/>
            <a:ext cx="2687760" cy="181440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406440" y="6318360"/>
            <a:ext cx="8978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3720" indent="-3808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onservative force has “potential energy” associated with it (e.g. gravity → gravitational P.E., spring force → elastic P.E. )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7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8" name=""/>
          <p:cNvSpPr/>
          <p:nvPr/>
        </p:nvSpPr>
        <p:spPr>
          <a:xfrm>
            <a:off x="343080" y="4699080"/>
            <a:ext cx="911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2840" indent="7920">
              <a:lnSpc>
                <a:spcPct val="9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moving under the influence of a conservative force always conserves mechanical energ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3000" spc="-1" strike="noStrike" baseline="-24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U</a:t>
            </a:r>
            <a:r>
              <a:rPr b="0" lang="en-US" sz="3000" spc="-1" strike="noStrike" baseline="-24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K</a:t>
            </a:r>
            <a:r>
              <a:rPr b="0" lang="en-US" sz="3000" spc="-1" strike="noStrike" baseline="-24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U</a:t>
            </a:r>
            <a:r>
              <a:rPr b="0" lang="en-US" sz="3000" spc="-1" strike="noStrike" baseline="-24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151-0847-41E2-9FBD-66AD1552A1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6908760" y="1306440"/>
            <a:ext cx="3130560" cy="236052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like friction which dissipate energy instead of storing it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-conservative fo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11360" y="2171880"/>
            <a:ext cx="65782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object moves in a closed  loop under the influence of a conservative force, the total work done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"/>
          <p:cNvSpPr/>
          <p:nvPr/>
        </p:nvSpPr>
        <p:spPr>
          <a:xfrm>
            <a:off x="673200" y="4248000"/>
            <a:ext cx="90295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done in moving an object from A → B under the infl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of a conservative force is the exact negative of work done in going from B → A, i.e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Work done by gravity going upstairs and back downstairs agai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80BF-E767-49D2-97B1-8D096828C6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ation of mechanic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10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33200" y="190440"/>
            <a:ext cx="3683160" cy="254016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102360" y="1359000"/>
            <a:ext cx="3683160" cy="253980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3683160" cy="254016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3987720" y="749160"/>
            <a:ext cx="3759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"/>
          <p:cNvSpPr/>
          <p:nvPr/>
        </p:nvSpPr>
        <p:spPr>
          <a:xfrm>
            <a:off x="1028880" y="2705040"/>
            <a:ext cx="4952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"/>
          <p:cNvSpPr/>
          <p:nvPr/>
        </p:nvSpPr>
        <p:spPr>
          <a:xfrm>
            <a:off x="4229280" y="4317840"/>
            <a:ext cx="47750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elastic potential ener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6211800" y="4978440"/>
            <a:ext cx="3462480" cy="25398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1028880" y="6489720"/>
            <a:ext cx="4952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hermal ener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57F0-0C74-4A9C-A144-BD673D20AA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etic ener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of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32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tential ener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g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ded together are calle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echanic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5" name=""/>
          <p:cNvSpPr/>
          <p:nvPr/>
        </p:nvSpPr>
        <p:spPr>
          <a:xfrm>
            <a:off x="7883640" y="3788280"/>
            <a:ext cx="142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ravit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"/>
          <p:cNvSpPr/>
          <p:nvPr/>
        </p:nvSpPr>
        <p:spPr>
          <a:xfrm>
            <a:off x="990720" y="203040"/>
            <a:ext cx="8178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  <a:ea typeface="Tahoma"/>
              </a:rPr>
              <a:t>Energ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E1BE-AF51-42ED-82CF-EADF341644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1320" y="127080"/>
            <a:ext cx="900396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Law of Conservation of Energ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34680" y="165060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ergy cannot be created or destroyed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.e. it is "conserved"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 an isolated system — one where there is no energy transfer into or out of the system — the total energy E</a:t>
            </a:r>
            <a:r>
              <a:rPr b="0" lang="en-US" sz="3200" spc="-1" strike="noStrike" baseline="-6000">
                <a:solidFill>
                  <a:srgbClr val="0000ff"/>
                </a:solidFill>
                <a:latin typeface="Times New Roman"/>
              </a:rPr>
              <a:t>to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s con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19D1-1BF1-4157-808A-518CDE1975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8345-4C73-4FAE-88F9-4B84EC98DBD6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4880" y="2539800"/>
            <a:ext cx="98168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3300"/>
                </a:solidFill>
                <a:latin typeface="Arial"/>
                <a:ea typeface="Arial"/>
              </a:rPr>
              <a:t>Work</a:t>
            </a:r>
            <a:endParaRPr b="0" lang="en-US" sz="5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JF §1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Work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34680" y="1409400"/>
            <a:ext cx="887724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ocess of transferring energy from the environment to a system, or from the system to the environment, by the application of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2540160" y="3822840"/>
            <a:ext cx="5079960" cy="33699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04C-B0FF-4686-8BC8-89C9F17773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Work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34680" y="1409400"/>
            <a:ext cx="88772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work” means using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er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one object to another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one form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equal 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ount of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ferred or converted by the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rk is a sca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.I. unit is also the joule (J).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ce is constant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cos 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pplied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bject's displacement while the force is applied and θ is angle between applied force and displac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C25-73D2-46E0-B2BF-1A1467E12A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ork and Kinetic Energy (1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ingle constant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ng on a body causing a change in kinetic energy only. Suppose it move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direction and the force acts at angle θ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10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0"/>
            <a:ext cx="5143320" cy="6080760"/>
            <a:chOff x="0" y="0"/>
            <a:chExt cx="5143320" cy="6080760"/>
          </a:xfrm>
        </p:grpSpPr>
        <p:pic>
          <p:nvPicPr>
            <p:cNvPr id="9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465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851360" y="5626080"/>
              <a:ext cx="2919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88560" y="580608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"/>
                  <a:ea typeface="Lucida Grande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7CC-F705-4137-B23A-EE097796D3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