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9FA9C-80A5-4166-B338-5FF9C781917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0375-9DFD-4045-BF07-D977A95C68A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13E8-3157-489A-AB45-C7DF2588068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21DC-0712-4FFC-9BF8-D154BEE2C9E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B53C-8DAE-4B5E-8135-57587D7E226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CE30-6EA8-48C4-B688-F75BEACD1BA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B433-9039-4A05-AB0B-A21A3FB113C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B551-ADC6-49F1-96D1-FB5C94F7D2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E344-0871-4EB3-9BAE-70504054703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AB8B-C5B1-454D-9F17-4B1E297C9D5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46AA-4E85-499F-B1BB-AF3BC75E198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2D1D-3F1F-4237-B39A-989E8D1F1EE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CD6C-EDBE-48E3-A743-026A8E798E5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FDD7-564E-4894-82FC-4B6C107514D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DFA3D-C8C8-4417-9E16-BB265840A3D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0AE4C-A655-4037-AA7C-5100D1193BD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7AFCC-0F68-409E-9511-280901EDF69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93C3B-767C-4560-ADE4-926AE3E696C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BDF3E-CF23-4748-A691-924868032C9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7A5E1-338D-4CE0-A0FA-362AC92EFDD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8C68D-1738-485E-8C67-4796A28D501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FB83A-A021-4AA1-A060-F268A7CCD39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DD034-E0C4-48ED-90E9-F0904B62F45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989D8-DCD4-499A-927D-88A6F428D80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68EA6-9829-4BDE-8FB1-01133D47D50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05523-E777-4F7E-A556-7E1115E57F7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407DA-B2FC-455B-8B67-388B9A1D4C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3832-A031-436C-BF24-82597AFBB1D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1433A-A662-48C1-9DF8-AAA7F8FEC0A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1BF7D-60CC-48E5-B853-06F687CA5FC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B2BBC-112A-474B-A6CF-20209ADB82B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E3F97-31A8-407E-85C0-5A863D5EC2C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0BACE-1B0C-4DE3-BAC0-7A4B2D536B2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BCF1E-30A1-4516-BE8D-B6967F2D15B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11914-D070-4B12-B70E-CAF1433BAE6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68A24-FEFF-4A4B-8886-81D2BB07823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E62D5-4DBF-489A-BE71-5111A7D3ECC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703FD-409D-43EF-AA2B-2F7BF5F3A8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5E49-C55C-42E8-AE30-B887031BDC3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BE429-2DAA-4463-B669-E14479D1B01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83BB2-52E6-411B-93C9-AC668C326C5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28685-EB94-4AEC-9637-B9B9FAD75E8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9B6CA-4B27-466E-90DA-5AFD56494B7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5B6E8-2786-4E4C-9118-BAB5A471A62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7737-0183-419A-B473-7CA6D3E155A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C5D7-449B-4694-AD5B-3FB1C07AEE9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1A33-13F5-4D15-97EA-10092916F07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7FF7-1BF9-4EF9-8D46-88F8728B84A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2DCA-A19B-46A7-B882-3F1E854587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CC96E-4F4B-4782-AE84-96F6F79C128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C03D-2A0E-4A6F-92C6-7A20BE54EAF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AC90-BE3A-495E-A329-C7E701D74D4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6664-7095-4082-8A6D-40B6344F416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088A-DFDC-4A4F-A26D-B82341F81AA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221E-14E4-49EE-AD9D-3554D8E14A7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3416-42D2-420D-BF35-35D118100A3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9096-44D5-4192-AFE6-586FE0838C7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A79A08-7985-4417-998D-3C1585A0E07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0AAE6D-7DDF-468E-86E2-FA162AC3A48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4C19C9-88B2-4C78-8F1D-06EA709B18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B7435-8694-40F6-AF67-04F55E0DF9B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B7744A-C225-4938-B4FA-00CB18A5F31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355ECF-D49E-4808-B2E7-F716767C3A9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77DA65-FEA6-4E0E-B6E7-3100C74F289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8F8AD2-E0ED-4197-B08F-5EAAC6F3FEE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E2C745-965E-4260-A698-0E498B43199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734444-4287-4B63-8D78-3F6BAC907BF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D00192-C95F-4A39-8572-DFEC5B12CD1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29ED7B-F2BE-4A49-91B1-D24CFC7AB1E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DB5EE7-97F4-414D-838A-D5F673507A0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69CC01-110E-4CBD-A322-49BFC45535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CEC1A-A3CD-4957-8BB3-76FD5041A21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139373-57CD-4956-8D0B-629D52FD3B2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299DC2-40FA-497D-B48E-7EFCDC3A08E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B0E800-55D1-460E-BE53-CE9571DBE26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E2F85-4213-4244-ACDF-BDD330883CA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68AFA6-9359-4179-81E2-01C81D17AA7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FC5E66-F670-47BF-B6FD-71E3D0E2A46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AB4B0-0C1E-468B-A5D8-05F0205F92C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DE26D1-627F-42AC-A048-BB73DE293ED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C8506-5BEB-40B6-8044-33E2317EFA0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2F0C7-1156-4301-B42B-D39DDBADC0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626D-057F-40FC-82FC-845305C3E08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3EAEC-9689-4AF5-ADA8-EC7DE727746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3A113-943D-4C17-9050-DBF9F45A1DA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4EEEB-970F-413D-BD8A-8BA34E603D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11D38-B235-4C9C-8EA8-9536F555EE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8BC19-CF46-41E1-92AB-34E2512D60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1BF7C-2DEC-45F6-9F98-25CD9B0D68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31305-B9C9-406F-825C-13EDBD79E0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ED5F1-B13A-401A-9641-5DD0BD5DEA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C0A60-10E3-4A7D-B7F9-8A041A7A99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07A6D-4DAF-48E7-A4B4-2CA898B50D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352F9-3FBC-44B3-8613-17EEC6D3C4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E2DC8-432F-4004-8553-8C7AD87E5F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BE57E-12BB-4846-B3D1-D1BE982677A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1803240"/>
            <a:ext cx="8178840" cy="88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2793960"/>
            <a:ext cx="81788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Num" idx="3"/>
          </p:nvPr>
        </p:nvSpPr>
        <p:spPr>
          <a:xfrm>
            <a:off x="4927320" y="722592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D45C-EC71-4005-B592-8A6CB9028A8B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623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20400" indent="-3654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54908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49392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8300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208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36080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64988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64988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64988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623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20400" indent="-3654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54908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sldNum" idx="4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D6E6-2A52-4C3F-B87C-7683482B9A41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sldNum" idx="5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65B6-35D4-48C9-9461-2B90032F5E82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sldNum" idx="6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F1B8-98EA-4B12-AF3E-162DBB4A2631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sldNum" idx="7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C694-5083-43C7-881B-762281042DAE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4927320" y="722592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6D56-3559-4FAF-9A2B-A00AF5A35D19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8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ADC6-4B7B-4948-B6AB-2B79E85F160D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698040" y="520560"/>
            <a:ext cx="875052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Num" idx="2"/>
          </p:nvPr>
        </p:nvSpPr>
        <p:spPr>
          <a:xfrm>
            <a:off x="4927320" y="722592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AFD3-61D8-4681-99C1-44D76A0147BF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90360" y="2793960"/>
            <a:ext cx="81788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Conservation of mechanical energy</a:t>
            </a: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990360" y="1803240"/>
            <a:ext cx="8178840" cy="88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cture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2524680" y="5854320"/>
            <a:ext cx="5333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Pre-reading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: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KJF §10.6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48800" y="202680"/>
            <a:ext cx="889020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Example: child on a slide with friction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34680" y="3365640"/>
            <a:ext cx="8877240" cy="23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752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friction (a non-conservative force) is act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752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es not equal ME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7520">
              <a:lnSpc>
                <a:spcPct val="100000"/>
              </a:lnSpc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ll be less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7520">
              <a:lnSpc>
                <a:spcPct val="100000"/>
              </a:lnSpc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ME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thermal energy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79360" y="5823000"/>
            <a:ext cx="982980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no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done by gravity (or weight) is always = mg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sliding, work done by normal force = 0 because cos 90° = 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036960" y="814320"/>
            <a:ext cx="3445560" cy="2752560"/>
            <a:chOff x="3036960" y="814320"/>
            <a:chExt cx="3445560" cy="2752560"/>
          </a:xfrm>
        </p:grpSpPr>
        <p:sp>
          <p:nvSpPr>
            <p:cNvPr id="841" name=""/>
            <p:cNvSpPr/>
            <p:nvPr/>
          </p:nvSpPr>
          <p:spPr>
            <a:xfrm>
              <a:off x="3551400" y="1783080"/>
              <a:ext cx="2413440" cy="15264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506760" y="1737000"/>
              <a:ext cx="127080" cy="1144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890680" y="3263760"/>
              <a:ext cx="127080" cy="114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36960" y="1430640"/>
              <a:ext cx="366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116040" y="2957040"/>
              <a:ext cx="366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118840" y="1179360"/>
              <a:ext cx="380880" cy="451080"/>
            </a:xfrm>
            <a:prstGeom prst="ellipse">
              <a:avLst/>
            </a:prstGeom>
            <a:solidFill>
              <a:srgbClr val="ebc6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077440" y="1630800"/>
              <a:ext cx="422280" cy="622440"/>
            </a:xfrm>
            <a:prstGeom prst="ellipse">
              <a:avLst/>
            </a:prstGeom>
            <a:solidFill>
              <a:srgbClr val="ebc6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367960" y="2070720"/>
              <a:ext cx="584280" cy="3650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4761360" y="1748160"/>
              <a:ext cx="352440" cy="11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460120" y="1748160"/>
              <a:ext cx="351000" cy="11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168160" y="1449720"/>
              <a:ext cx="228600" cy="1112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74480" y="814320"/>
              <a:ext cx="647640" cy="7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2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.</a:t>
              </a:r>
              <a:endParaRPr b="0" lang="en-US" sz="4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53" name=""/>
            <p:cNvSpPr/>
            <p:nvPr/>
          </p:nvSpPr>
          <p:spPr>
            <a:xfrm rot="16200000">
              <a:off x="5074200" y="1888920"/>
              <a:ext cx="431640" cy="45720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63120" y="2124720"/>
              <a:ext cx="584280" cy="3650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E0BF2-7945-46D0-939F-47CD41EF20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" descr=""/>
          <p:cNvPicPr/>
          <p:nvPr/>
        </p:nvPicPr>
        <p:blipFill>
          <a:blip r:embed="rId1"/>
          <a:stretch/>
        </p:blipFill>
        <p:spPr>
          <a:xfrm>
            <a:off x="6145200" y="519120"/>
            <a:ext cx="3940200" cy="27828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/>
          </p:nvPr>
        </p:nvSpPr>
        <p:spPr>
          <a:xfrm>
            <a:off x="368280" y="444600"/>
            <a:ext cx="6337440" cy="309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20 kg child, starting from rest, slides down a 3m high frictionless sl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fast is he going at the bott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8376480" y="3723480"/>
            <a:ext cx="1393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[7.7 ms</a:t>
            </a:r>
            <a:r>
              <a:rPr b="0" lang="en-US" sz="2800" spc="-1" strike="noStrike" baseline="32000">
                <a:solidFill>
                  <a:srgbClr val="ff00ff"/>
                </a:solidFill>
                <a:latin typeface="Times New Roman"/>
                <a:ea typeface="Times New Roman"/>
              </a:rPr>
              <a:t>–1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8" name=""/>
          <p:cNvSpPr/>
          <p:nvPr/>
        </p:nvSpPr>
        <p:spPr>
          <a:xfrm>
            <a:off x="368280" y="4521240"/>
            <a:ext cx="880128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he slides down a slide with friction, and his speed at the bottom is 6.0 ms</a:t>
            </a:r>
            <a:r>
              <a:rPr b="0" lang="en-US" sz="3200" spc="-1" strike="noStrike" baseline="32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ow much thermal energy has been produced by friction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9" name=""/>
          <p:cNvSpPr/>
          <p:nvPr/>
        </p:nvSpPr>
        <p:spPr>
          <a:xfrm>
            <a:off x="8577000" y="6187320"/>
            <a:ext cx="1000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[228 J]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65D42-6D96-48A7-AC47-B2B6C1D1751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61760" y="25380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Problem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34680" y="1270080"/>
            <a:ext cx="8877240" cy="572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a rockslide, a 520kg rock slides from rest down a hillside 500m long and 300m high.  Coefficient of kinetic friction between the rock and the hill surface is 0.2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gravitational potential energy of the rock-Earth system is set to zero at the bottom of the hill, what is the value of U just before the sli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work is done by frictional forces during the sli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kinetic energy of the rock as it reaches the bottom of the hil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 What is its speed th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553280" y="6822360"/>
            <a:ext cx="533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[1.53MJ, –0.510MJ, 1.02MJ, 63ms</a:t>
            </a:r>
            <a:r>
              <a:rPr b="0" lang="en-US" sz="2800" spc="-1" strike="noStrike" baseline="32000">
                <a:solidFill>
                  <a:srgbClr val="ff00ff"/>
                </a:solidFill>
                <a:latin typeface="Times New Roman"/>
                <a:ea typeface="Times New Roman"/>
              </a:rPr>
              <a:t>–1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326BE-A6FB-4E9F-AFF6-21DA4D67EF9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" descr=""/>
          <p:cNvPicPr/>
          <p:nvPr/>
        </p:nvPicPr>
        <p:blipFill>
          <a:blip r:embed="rId1"/>
          <a:stretch/>
        </p:blipFill>
        <p:spPr>
          <a:xfrm>
            <a:off x="2797200" y="4902120"/>
            <a:ext cx="4314960" cy="1830600"/>
          </a:xfrm>
          <a:prstGeom prst="rect">
            <a:avLst/>
          </a:prstGeom>
          <a:ln w="0">
            <a:noFill/>
          </a:ln>
        </p:spPr>
      </p:pic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Problem: Skier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34680" y="1510920"/>
            <a:ext cx="8877240" cy="3683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60 kg skier leaves the end of a ski jump ramp with a velocity of 24 ms</a:t>
            </a:r>
            <a:r>
              <a:rPr b="0" lang="en-US" sz="2800" spc="-1" strike="noStrike" baseline="32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ed 25° above the horizontal.  Suppose that as a result of air resistance the skier returns to the ground with a speed of 22 ms</a:t>
            </a:r>
            <a:r>
              <a:rPr b="0" lang="en-US" sz="2800" spc="-1" strike="noStrike" baseline="32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lands at a point down the hill that is 14m below the ram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energy is dissipated by air resistance during the jum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8580960" y="5801400"/>
            <a:ext cx="1145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[11 kJ]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6264-7C94-40BF-841C-36C96D4C03A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Overtaking a truck II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96880" y="1574280"/>
            <a:ext cx="8648640" cy="221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1500 kg car is behind a truck travelling at 90 km h</a:t>
            </a:r>
            <a:r>
              <a:rPr b="0" lang="en-US" sz="3200" spc="-1" strike="noStrike" baseline="32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= 25 m s</a:t>
            </a:r>
            <a:r>
              <a:rPr b="0" lang="en-US" sz="3200" spc="-1" strike="noStrike" baseline="32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 You have a distance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200m to overtake it. What engine power do you ne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571680" y="4000680"/>
            <a:ext cx="9016920" cy="2628360"/>
            <a:chOff x="571680" y="4000680"/>
            <a:chExt cx="9016920" cy="2628360"/>
          </a:xfrm>
        </p:grpSpPr>
        <p:sp>
          <p:nvSpPr>
            <p:cNvPr id="870" name=""/>
            <p:cNvSpPr/>
            <p:nvPr/>
          </p:nvSpPr>
          <p:spPr>
            <a:xfrm>
              <a:off x="571680" y="5854680"/>
              <a:ext cx="9016920" cy="774360"/>
            </a:xfrm>
            <a:prstGeom prst="rect">
              <a:avLst/>
            </a:prstGeom>
            <a:blipFill rotWithShape="0">
              <a:blip r:embed="rId1">
                <a:alphaModFix amt="69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71680" y="4000680"/>
              <a:ext cx="9016920" cy="774360"/>
            </a:xfrm>
            <a:prstGeom prst="rect">
              <a:avLst/>
            </a:prstGeom>
            <a:blipFill rotWithShape="0">
              <a:blip r:embed="rId2">
                <a:alphaModFix amt="69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447920" y="4114800"/>
              <a:ext cx="1663920" cy="545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3200" y="4228920"/>
              <a:ext cx="520920" cy="317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112160" y="5968800"/>
              <a:ext cx="1663560" cy="545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928360" y="6083280"/>
              <a:ext cx="520560" cy="317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311560" y="5460840"/>
              <a:ext cx="567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611960" y="4861080"/>
              <a:ext cx="10810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200m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313440" y="43783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F7B88-C1DE-4FD6-8037-275B5D8358A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3300"/>
                </a:solidFill>
                <a:latin typeface="Tahoma"/>
              </a:rPr>
              <a:t>Next lecture</a:t>
            </a: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I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63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3300"/>
                </a:solidFill>
                <a:latin typeface="Tahoma"/>
              </a:rPr>
              <a:t>Conservation of Mechanical Energy</a:t>
            </a: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877240" cy="445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the influence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nserv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ces only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i.e. no friction or drag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.E.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cons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include such things as elastic potential energy, rotational kinetic energy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imple pendulum or slippery di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f friction &amp; air resistance are negligib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66840" y="7201080"/>
            <a:ext cx="170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10.7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3A10A-5472-4F74-86DA-4D247CF0D40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Simple Pendulum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28240" y="4524120"/>
            <a:ext cx="9690120" cy="2235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372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use gravitational force is conservative, if drag &amp; friction negligible the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E.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onstant, i.e. (</a:t>
            </a:r>
            <a:r>
              <a:rPr b="0" lang="en-US" sz="3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</a:t>
            </a:r>
            <a:r>
              <a:rPr b="0" lang="en-US" sz="3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8367840" y="1155600"/>
            <a:ext cx="1184040" cy="2879280"/>
            <a:chOff x="8367840" y="1155600"/>
            <a:chExt cx="1184040" cy="2879280"/>
          </a:xfrm>
        </p:grpSpPr>
        <p:sp>
          <p:nvSpPr>
            <p:cNvPr id="809" name=""/>
            <p:cNvSpPr/>
            <p:nvPr/>
          </p:nvSpPr>
          <p:spPr>
            <a:xfrm>
              <a:off x="8528040" y="1209600"/>
              <a:ext cx="14400" cy="22496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520120" y="1184040"/>
              <a:ext cx="789120" cy="19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9218520" y="3058920"/>
              <a:ext cx="333360" cy="331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447040" y="1155600"/>
              <a:ext cx="184320" cy="182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9272880" y="337536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409240" y="354708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367840" y="3216240"/>
              <a:ext cx="333360" cy="331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254160" y="1828800"/>
            <a:ext cx="797544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3720" indent="-380880">
              <a:lnSpc>
                <a:spcPct val="100000"/>
              </a:lnSpc>
              <a:spcBef>
                <a:spcPts val="836"/>
              </a:spcBef>
              <a:tabLst>
                <a:tab algn="l" pos="0"/>
                <a:tab algn="ctr" pos="3530520"/>
                <a:tab algn="l" pos="4102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ystem is (pendulum + earth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3720" indent="-380880">
              <a:lnSpc>
                <a:spcPct val="100000"/>
              </a:lnSpc>
              <a:spcBef>
                <a:spcPts val="836"/>
              </a:spcBef>
              <a:tabLst>
                <a:tab algn="l" pos="0"/>
                <a:tab algn="ctr" pos="3530520"/>
                <a:tab algn="l" pos="4102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ension in string) is always perpendicular to motion so does no work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3720" indent="-380880">
              <a:lnSpc>
                <a:spcPct val="100000"/>
              </a:lnSpc>
              <a:spcBef>
                <a:spcPts val="836"/>
              </a:spcBef>
              <a:tabLst>
                <a:tab algn="l" pos="0"/>
                <a:tab algn="ctr" pos="3530520"/>
                <a:tab algn="l" pos="4102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ight (gravity) does all the work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9C2E3-9439-4E7E-AD74-E5E26F9C1F9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Example: Tarzan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34680" y="1726920"/>
            <a:ext cx="8877240" cy="5079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zan who weighs 688N swings from a cliff at the end of a convenient vine that is 18m long.  From the top of the cliff to the bottom of the swing he descends by 3.2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his speed at the bottom of the swing?  Neglect air re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ine will break if the force on the vine exceeds 950N.  Does it break at the bottom of the swing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8623440" y="520560"/>
            <a:ext cx="1307880" cy="118116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6928200" y="6601320"/>
            <a:ext cx="2483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[7.9 m.s–1, no]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DE234-C30F-4900-822C-F90562169F8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Loop the loop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96520" y="1561680"/>
            <a:ext cx="8877240" cy="259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eight does the ball have to start at to make it through the loo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068480" y="3392640"/>
            <a:ext cx="8017920" cy="3185640"/>
            <a:chOff x="1068480" y="3392640"/>
            <a:chExt cx="8017920" cy="3185640"/>
          </a:xfrm>
        </p:grpSpPr>
        <p:sp>
          <p:nvSpPr>
            <p:cNvPr id="824" name=""/>
            <p:cNvSpPr/>
            <p:nvPr/>
          </p:nvSpPr>
          <p:spPr>
            <a:xfrm>
              <a:off x="3491280" y="3973680"/>
              <a:ext cx="2603880" cy="260460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68480" y="3392640"/>
              <a:ext cx="2816640" cy="2817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4729680" y="6568200"/>
              <a:ext cx="4356720" cy="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F82A1-5618-4B37-8942-A6201559C17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Non-Conservative Forces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34680" y="1536840"/>
            <a:ext cx="8877240" cy="547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r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ssip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ces such as drag and fri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cal energy is not conserved when non-conservative forces are acting because friction (and other dissipative forces) convert work or ME directly into thermal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mal energy is just the sum of all the kinetic &amp; potential energies of the molecules of a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this in our expression for conservation of ener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6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6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6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6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∆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6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68280" y="7201080"/>
            <a:ext cx="2552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10.3, eqn. 10.6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D405-6B5E-4DA9-9994-D553A2DDA9A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Example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on horizontal surface slides to rest due to kinetic friction.  Work don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icti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 = ∆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6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Example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sliding along a horizontal surface at constant velocity.  If work is done AGAINST friction by an applied for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6000">
                <a:solidFill>
                  <a:srgbClr val="000000"/>
                </a:solidFill>
                <a:latin typeface="Times New Roman"/>
              </a:rPr>
              <a:t>ap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amp; 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= 0 th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amount of thermal energy produced must be exactly equal to the amount of work done, in other word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Work and Friction (1)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5EDBB-1C18-4831-A1B0-BC61CB05799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61760" y="25380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Work and Friction (2)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18680" y="1536480"/>
            <a:ext cx="9309240" cy="570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lvl="1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F 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cos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 working AGAINST friction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app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–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y?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μ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cosθ = 1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o the amount of thermal energy produced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μ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ly, here work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versible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Why not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Work done BY friction - same magnitude, opposite sig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1"/>
          <a:stretch/>
        </p:blipFill>
        <p:spPr>
          <a:xfrm>
            <a:off x="5354640" y="1494000"/>
            <a:ext cx="4159080" cy="183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44E92-F5F8-4A2A-B9D4-DFE80AD6760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/>
          </p:nvPr>
        </p:nvSpPr>
        <p:spPr>
          <a:xfrm>
            <a:off x="698040" y="520560"/>
            <a:ext cx="875052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friction is present, include the surface in the system. Then the frictional force is an internal force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∆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68280" y="7201080"/>
            <a:ext cx="2552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Tactics Box 10.1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BAED8-78E3-4C07-9C62-A40487377D6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