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B63B-AEEA-4036-9DA8-07E2360B17E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FA5A-1BDD-4D8A-A03C-8D1B6ACBCD2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9E03-3BDF-4726-84C8-44572788758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20D4-4018-43BE-882B-554E9E7664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CD53-166C-4AC7-B116-BD47D79EBF3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D4B5-4AAF-4A16-8B4C-19341A3429D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CED7-153E-41DA-95BB-81756A3E304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C816-2539-4F88-B54E-98EC2DB93B6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CB03-0F8E-4B5C-AEE7-2B0AAE2A3E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1720-1756-44F4-8C2A-D903D01D572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B669-1AA6-4D5A-9B41-29B4B18D4AB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EC8E-D17D-49BB-9546-20D67D6B491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18C1-5873-44CA-AB8F-06A098E2B83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EA69-D3C9-4845-9F16-7CA5C99DF7A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A196-A65B-4831-84B3-7BFDB8DA532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8DC2-A511-444C-94F1-1972C65BD8B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6045-BCBE-4CA6-AC17-98DEB2A3F6D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E59B-D175-4582-9367-5D0AA89F96F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B038-9F7D-4188-818C-57F0B7E20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2DE7-225D-4B1D-816D-178BE557CAF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FCE1-6877-47EB-826A-EE650FCD384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49AF-B92A-4238-876A-64FA7DACD00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D2A6-3E26-4573-911A-E9237CA4883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64AF-B66D-471D-B469-EF2B9505252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361-B0ED-41E8-8EB7-67931FF7C68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C63-9C54-4CAB-B52E-C363176742C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545-B927-413D-8649-68DC9A07C10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D2A-9ECF-4B8D-AD80-3BC0395DE8C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23A-2C53-4A2C-908B-2081C5CC3C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557-B00F-447B-993E-185EF4EFB93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93F-3626-49EF-A1E1-DD1E5846096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2A0-3320-4B21-9BA5-B1B0B31641C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363-5BB1-4279-9832-F62CF1C8EED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95A-BBA2-41EB-ACEA-3BF629353A1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589-C936-49C9-8AC8-1C91CEC6C93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BB3-ACE6-4DAC-8871-AD8DC919F65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6F9F8-A397-4AE8-982A-7F4BAF478C2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D4E5E-2285-41DE-A9CC-6022EEBB9B7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D8A56-3DAE-489F-A4D2-17F62FD1F1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05A7F-B369-4CC4-997B-0E57992281D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DC9FF-A2D8-4B19-AE35-79811FB5666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A093-F8C8-481A-B92B-B1F6744A3E7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ABA65-3E33-4562-8645-3243B393D2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26C19-E781-4AE7-AB02-937692C8736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BB83A-0533-4E69-AC09-E3A3630D56D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0012-ACB2-43E9-AD61-FC9121B408E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6EE75-483C-4A1F-A922-6281BA3F8A9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094A7-4C5A-4F87-BB62-230F763DAD8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197D8-D82D-4D2A-8F2F-C5C0607A0C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8FFEC-7B75-4F7E-844E-0C060987B3A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DA6F7-756E-4F18-882F-96D88D666CF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486A0-22C0-43D4-8845-2E07CBA2E40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4D1A6-85E3-4007-AA9F-AD6F13D6944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15233-F708-4E8C-8A03-8B97347B144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5A336-5E79-4638-B873-BDE16B042FD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35EB-FD8D-4E82-8E8E-34C7E3439B4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FAA80-273D-4607-A2B8-D47B6AB6862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40E3C-8215-4EBA-AA49-F676E467F5F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777BB-AD29-498E-9885-85BE0C248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B0AC-FCE6-46C1-AE46-9BE9276DAF2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45E-8979-4425-A859-C2AFBC6BB5B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3BCF-C7BF-4B35-BA9D-7C4EE9E294C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561-4B9A-4134-8D17-7F2186B0407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F03D-C7B1-4282-95D8-FAC294A89B7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5309-9F0B-4B2E-93FD-3C8408BEACD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0379-5DA2-4292-907A-353F36DE091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826-EC3B-4684-952F-6ACD887AB5E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39DF-CDAA-425C-B1FD-5D961947E79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8BD0-B765-4833-96C3-2D4EAA63F7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822B-90ED-431C-9C4B-3128AFCBB03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511-3F89-464E-BD55-1921160F8CF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54A0-AF1B-4914-80A4-607C830A764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8762C-C62F-46BC-ABEB-B790FB0B97B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B44B6-1E76-4F62-A287-3F4819973C5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0CA41-AFF7-4D9C-A079-94EBCCF77E7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C1111-E6CD-452A-8D75-778D9DDBB67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6C7E1-008C-4E07-9D57-082C42D2563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ED0C8-ECFD-4AD8-9CCE-769D58D6150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9B318-CAC4-4E7B-BB4B-A570662B32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CF74F-1C08-4FC1-B1E7-58118307FF8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545C1-13F8-4C1D-929B-FCC3F3BCEA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C35A6-6BA3-436C-ADC9-918A7C7CEAE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0440B-842E-4251-A224-A13DAF66587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7FFD8-12F7-4698-B09C-E2764B27502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04FE1-AAFE-46A4-A26E-47CB9F6FCE6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7D56D-0407-46F3-97A6-E2DF1FF920F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75819-D6A8-4F0C-8C19-BF17F585F45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BDECE-C0B1-4D63-9468-A0A13D8D3F3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2B91F-4E34-47BF-B6B2-2D7929D640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B7B54-3E15-4CAC-B8D8-56851D1E215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C0A68-EFB3-4DB2-AB20-F0E4D41C44B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CBD68-081D-4980-B916-9849D8022F5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A2AEA-5243-4FF8-AD14-D86FC5704D0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F0861-E156-4D6A-A57F-C184718135D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77D76-E315-47CE-B520-18CC08E598F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82247-CC93-4CDE-92F6-37D6C82582F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07E2-2038-4E86-8EE1-EE44D016BB5F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924D-5A8F-4DB6-BCDC-67DF8F7E60D3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98C6-4403-41C9-8C55-FF17A5F4AA9D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4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EB2D-B74A-4A77-BFDB-0C5029F7A3E2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2E97-65CD-4058-9DAD-4A8F1A734358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6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697-91A1-438D-8771-A0FB8ECCA115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C75-BE2C-4855-BDE3-253FEA2554F9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sldNum" idx="8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C873-CB23-47C7-AB59-800D2913BC92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Energy ILD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1614960" y="5750640"/>
            <a:ext cx="692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ake one green and one white 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presentatives are needed for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Junior Physics Staff-Student Liaison Meeting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19 May at 1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ch will be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ease put your name on the sheet at the front if you would like to volunt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9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