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4BE5B-DD1A-4D12-86CA-F492AA6FB55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9EE1B-8A31-453B-B03D-6DD0785550A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73EF2-4361-4335-8341-58A91139D8B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80F2E-AA6A-467D-9FDD-4FA748FA692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46C8A-9A69-4927-81D9-91E6943C65E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DC7E0-FDFF-460B-B1B3-7710D053887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D843C-1CFF-43D5-8E32-994B63C506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8B2B3-EAB6-4CCC-BAAD-C351C6F3C60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25B5E-D902-4A82-AA1B-B66A866EA97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DA778-E7B6-4C6D-8D5E-FD72EA3E578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0ABB3-0940-4B3E-AD24-CDF9ED74D58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C1796-A452-4E00-9831-428B5E6F96D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B8D96-5666-4887-8FBF-6E961207CAA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BC87B-A142-45C9-9F45-FA3195844EB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5760E-4A58-4087-BBC3-0AD99A976DD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FCE16-7D8E-450E-9855-33B66BC5E39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81719-90B3-4AA3-834C-1BA5DA9AD6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D9CC9-01B9-459F-9678-325CF206C02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A7756-32CE-402A-979C-2E6FD149DE0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1DD92-AA66-4BA8-BE83-4002D4A364D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B3A65-CCAE-401A-92D6-8CF333A8177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C4F7E-FE8C-465C-A8FC-6F1C0DDDFE0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79AC5-9FB0-420D-AE5C-6803D8E0852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6A21C-B84F-4AE9-A4C0-1CBAE17C389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78A3-D661-4C9D-AA5A-B6AEF2E0F9E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7F9F-6120-482C-AD86-DF9F7319C0B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6EBA-73E9-46ED-B0E1-08FF271F09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E226-6CA6-47D8-9CB5-ACC805C9DC5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7346-368E-400F-86DD-5B37225477B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2E7F-1E21-4DCF-B7C1-DA256F783DA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512C-7E6B-4F1B-8177-66773520D00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6BC6-09A7-44BE-8610-4C0EFE9F11F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6A95-DAFB-4CF3-83E9-07CA6188394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EA19-8FC7-498F-8866-E5849C5D009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9957-9838-487E-BB2E-53D10154951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56CF-A1E1-4A03-A233-75AC635AB52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A8CB8-7921-42F3-ABB5-86355AF142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A1597-3A0C-45C0-A3A4-4BCF8433D90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23E06-EBC7-4821-9382-8E2FAF82559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69DF8-0070-448C-AA13-0BC0CE75B8C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DF238-408F-4425-BD98-AE4DEC8D563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83E95-407F-46C9-AB7A-23607221B20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8AB3E-729C-4F6C-BF21-A8EF4FB92FD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837F5-C9DD-4E43-9776-62F2C9FF7F7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007A4-56A0-48D8-A924-107C12C5CDB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DAE93-37EB-4479-9F5E-8301EE3986C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F7952-5EA0-4A8B-879C-EE4EFD5B11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4B911-FBF6-4CF2-A897-D1BF8E061AA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623C-F2FB-453C-9A86-93AB9F7519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EBF1-28B9-48C2-B1FD-74A713F328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68D7-B466-411E-8B13-1F661CD74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52C0-9059-4E93-9D86-F85AC5FD83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BE19-D6E6-4548-8EDC-CD6DA896AB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2F29-CE20-4D5B-9DC9-D2EE586476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4DC5-EA1D-4083-94AF-CFFAF455AF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C0BC-EBAE-4451-98CB-D615DCFBC2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FF78-445C-4980-9521-6112AAE74C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3C9F-7018-42F5-A5F1-FE6D043448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8F83-7DA2-4B53-8BD3-BB4D0D4718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3659-E8AF-4330-9F75-D7B6761FC2C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34E7-8384-4010-9D2C-F8E2A7FAB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1808-1293-4ADA-842E-3BD78ECEB5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7C86-4F6A-4936-9CC4-72FFECFD0B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E14B-8E14-4C4C-B402-26C4C19FA43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DB19-4A63-4BF1-BCF9-D702AEA0E43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4C2A-2121-4D03-AF12-933D00C517D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68B5-EB42-47B2-AF81-5AECD01E36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CB2E-60FF-490C-943C-D43E14F4F4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21D94-E1D8-4144-AA6A-5CAEC2C848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9BE8-1511-4BC0-9C23-7A5AC96C823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1F93-2A9F-46F7-9FE3-0C8F72421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1DAC-2EA4-40BD-8F12-1500ABF1CA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B70-CBE7-4645-91E9-7CF2E0FE844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8F3-744B-4D39-95B2-AC0BBB1B11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7E1-E035-4AB5-B97E-01B65821239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B3C-F2B7-47C8-8C82-5B26E75DA7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202-5362-4E37-9C03-642110510F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376-0EB3-426F-B760-60AF32BCE5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104-3977-48BF-A5EC-3EBDB63A1D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A5F-BD91-40A4-AA87-7E174633467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F79-FF4C-4F9A-9E76-8AD54B818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665-1FB2-47D2-93B3-00A321F60EC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A2B-17C6-4D1D-B4EA-63BFBF006F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5DF-2A14-4BCF-BC11-107ED9D5B08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51696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81900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12140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42344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72584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72584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725840" indent="-335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4"/>
          </p:nvPr>
        </p:nvSpPr>
        <p:spPr>
          <a:xfrm>
            <a:off x="9597960" y="7087680"/>
            <a:ext cx="37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090B-F84C-46E4-B8DC-749D2C36EEF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5"/>
          </p:nvPr>
        </p:nvSpPr>
        <p:spPr>
          <a:xfrm>
            <a:off x="9597960" y="7087680"/>
            <a:ext cx="37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EF1C-FB1C-4F1B-A402-DDE77E647D5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6"/>
          </p:nvPr>
        </p:nvSpPr>
        <p:spPr>
          <a:xfrm>
            <a:off x="9597960" y="7087680"/>
            <a:ext cx="37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255B-DC9D-4E61-9F28-CC96D9D8634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Num" idx="7"/>
          </p:nvPr>
        </p:nvSpPr>
        <p:spPr>
          <a:xfrm>
            <a:off x="9597960" y="7087680"/>
            <a:ext cx="37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B756-F4E6-4308-91D8-956447F3601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1"/>
          </p:nvPr>
        </p:nvSpPr>
        <p:spPr>
          <a:xfrm>
            <a:off x="494640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E4FC-8480-4F6F-9794-9BB02CF7DEB8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2"/>
          </p:nvPr>
        </p:nvSpPr>
        <p:spPr>
          <a:xfrm>
            <a:off x="494640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D48F-79EC-4BB1-9AF3-8204B3B7743B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Num" idx="3"/>
          </p:nvPr>
        </p:nvSpPr>
        <p:spPr>
          <a:xfrm>
            <a:off x="494640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E692-DC8D-4E93-B34F-48B920BF7728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8840" indent="-57132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778040" indent="-5716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2222640" indent="-57168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2666880" indent="-57132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2666880" indent="-571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2666880" indent="-571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397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Collisions</a:t>
            </a:r>
            <a:br>
              <a:rPr sz="62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d</a:t>
            </a:r>
            <a:br>
              <a:rPr sz="3600"/>
            </a:br>
            <a:r>
              <a:rPr b="0" lang="en-US" sz="6200" spc="-1" strike="noStrike">
                <a:solidFill>
                  <a:srgbClr val="000000"/>
                </a:solidFill>
                <a:latin typeface="Tahoma"/>
              </a:rPr>
              <a:t>Review of material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3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2459160" y="6648480"/>
            <a:ext cx="52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Gill Sans"/>
                <a:ea typeface="Gill Sans"/>
              </a:rPr>
              <a:t>Please take an evaluation form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"/>
          <p:cNvSpPr/>
          <p:nvPr/>
        </p:nvSpPr>
        <p:spPr>
          <a:xfrm>
            <a:off x="2669760" y="5854320"/>
            <a:ext cx="504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-reading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KJF §9.5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6870600" y="460440"/>
            <a:ext cx="2962440" cy="18684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86360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</a:t>
            </a:r>
            <a:br>
              <a:rPr sz="4800"/>
            </a:br>
            <a:r>
              <a:rPr b="0" lang="en-US" sz="2800" spc="-1" strike="noStrike">
                <a:solidFill>
                  <a:srgbClr val="ff3300"/>
                </a:solidFill>
                <a:latin typeface="Lucida Grande"/>
                <a:ea typeface="Lucida Grande"/>
              </a:rPr>
              <a:t>Try this one at home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06080" y="2387160"/>
            <a:ext cx="88772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rater in Arizona is thought to have been formed by  the impact of a meteorite with the earth over 20,000 years ago.  The mass of the meteorite is estimated at 5 × 10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g and its speed 7200 ms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Mass of earth = 5.98 × 10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ing from a frame of reference in which the earth is initially at rest, what speed would such a meteor impart to the earth in a head-on collision?  Assume the pieces of the shattered meteor stayed with the earth as it 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07160" y="6771600"/>
            <a:ext cx="523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6×10</a:t>
            </a:r>
            <a:r>
              <a:rPr b="0" lang="en-US" sz="2800" spc="-1" strike="noStrike" baseline="32000">
                <a:solidFill>
                  <a:srgbClr val="ff00ff"/>
                </a:solidFill>
                <a:latin typeface="Times New Roman"/>
                <a:ea typeface="Times New Roman"/>
              </a:rPr>
              <a:t>–11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ms</a:t>
            </a:r>
            <a:r>
              <a:rPr b="0" lang="en-US" sz="2800" spc="-1" strike="noStrike" baseline="32000">
                <a:solidFill>
                  <a:srgbClr val="ff00ff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: approx 2mm per year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56D3-633F-4B76-94AB-7D374F06CD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erfectly </a:t>
            </a:r>
            <a:r>
              <a:rPr b="1" lang="en-US" sz="48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Elastic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Collisions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34680" y="1371240"/>
            <a:ext cx="887724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etic energ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erved during the collision (no energy is lost to the surroundings or participa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course momentum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erved during the coll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wo sets of equations are true simultaneous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in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equations simultaneously; quadratic (not in ex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7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7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7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7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en-US" sz="2800" spc="-1" strike="noStrike" baseline="-6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spcBef>
                <a:spcPts val="1899"/>
              </a:spcBef>
              <a:buClr>
                <a:srgbClr val="0000ff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Usually involves sub-atomic particles or highly rigid objects e.g. steel or glass b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>
              <a:lnSpc>
                <a:spcPct val="100000"/>
              </a:lnSpc>
              <a:buClr>
                <a:srgbClr val="0000ff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f both objects are same mass, their velocities swap after perfectly elastic collision e.g. Newton'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1028-7C16-44A6-A63A-DEF688F006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91600" y="-360"/>
            <a:ext cx="91630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ollisions and Impulse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44240" y="2997360"/>
            <a:ext cx="9271080" cy="406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ring collision, momentum is conserved – none is lo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∴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momentum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y 1 = momentum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a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y 2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or vice vers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∴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Δ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–Δ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.e. impulses are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qual and oppos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7418520" y="630720"/>
            <a:ext cx="2460960" cy="2193480"/>
            <a:chOff x="7418520" y="630720"/>
            <a:chExt cx="2460960" cy="2193480"/>
          </a:xfrm>
        </p:grpSpPr>
        <p:grpSp>
          <p:nvGrpSpPr>
            <p:cNvPr id="891" name=""/>
            <p:cNvGrpSpPr/>
            <p:nvPr/>
          </p:nvGrpSpPr>
          <p:grpSpPr>
            <a:xfrm>
              <a:off x="7580160" y="630720"/>
              <a:ext cx="1270080" cy="1265400"/>
              <a:chOff x="7580160" y="630720"/>
              <a:chExt cx="1270080" cy="1265400"/>
            </a:xfrm>
          </p:grpSpPr>
          <p:sp>
            <p:nvSpPr>
              <p:cNvPr id="892" name=""/>
              <p:cNvSpPr/>
              <p:nvPr/>
            </p:nvSpPr>
            <p:spPr>
              <a:xfrm>
                <a:off x="7580160" y="676080"/>
                <a:ext cx="1270080" cy="1168560"/>
              </a:xfrm>
              <a:prstGeom prst="ellipse">
                <a:avLst/>
              </a:prstGeom>
              <a:solidFill>
                <a:srgbClr val="ff66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74640" y="630720"/>
                <a:ext cx="676080" cy="12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82440" tIns="38160" bIns="38160" anchor="ctr">
                <a:spAutoFit/>
              </a:bodyPr>
              <a:p>
                <a:pPr marL="46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7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8850960" y="1014840"/>
              <a:ext cx="422280" cy="503280"/>
              <a:chOff x="8850960" y="1014840"/>
              <a:chExt cx="422280" cy="503280"/>
            </a:xfrm>
          </p:grpSpPr>
          <p:sp>
            <p:nvSpPr>
              <p:cNvPr id="895" name=""/>
              <p:cNvSpPr/>
              <p:nvPr/>
            </p:nvSpPr>
            <p:spPr>
              <a:xfrm>
                <a:off x="8850960" y="1065240"/>
                <a:ext cx="422280" cy="380880"/>
              </a:xfrm>
              <a:prstGeom prst="ellipse">
                <a:avLst/>
              </a:prstGeom>
              <a:solidFill>
                <a:srgbClr val="66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899920" y="1014840"/>
                <a:ext cx="32400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82440" tIns="38160" bIns="38160" anchor="ctr">
                <a:spAutoFit/>
              </a:bodyPr>
              <a:p>
                <a:pPr marL="46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7418520" y="2135520"/>
              <a:ext cx="1045080" cy="688680"/>
              <a:chOff x="7418520" y="2135520"/>
              <a:chExt cx="1045080" cy="688680"/>
            </a:xfrm>
          </p:grpSpPr>
          <p:sp>
            <p:nvSpPr>
              <p:cNvPr id="898" name=""/>
              <p:cNvSpPr/>
              <p:nvPr/>
            </p:nvSpPr>
            <p:spPr>
              <a:xfrm>
                <a:off x="7418520" y="2135520"/>
                <a:ext cx="296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F</a:t>
                </a:r>
                <a:endParaRPr b="0" lang="en-US" sz="3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55840" y="2518920"/>
                <a:ext cx="70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on 2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8854200" y="2135520"/>
              <a:ext cx="1025280" cy="688680"/>
              <a:chOff x="8854200" y="2135520"/>
              <a:chExt cx="1025280" cy="688680"/>
            </a:xfrm>
          </p:grpSpPr>
          <p:sp>
            <p:nvSpPr>
              <p:cNvPr id="901" name=""/>
              <p:cNvSpPr/>
              <p:nvPr/>
            </p:nvSpPr>
            <p:spPr>
              <a:xfrm>
                <a:off x="8854200" y="2135520"/>
                <a:ext cx="296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F</a:t>
                </a:r>
                <a:endParaRPr b="0" lang="en-US" sz="3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9171720" y="2518920"/>
                <a:ext cx="70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 on 1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7573680" y="2004840"/>
              <a:ext cx="923040" cy="1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863560" y="2004840"/>
              <a:ext cx="924480" cy="1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8280" y="7201080"/>
            <a:ext cx="2552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9.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2624-9C74-40D1-A4BE-E36E0EAFBE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ollision of Truck and Car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65240" y="5308560"/>
            <a:ext cx="9842400" cy="226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60360" indent="-317520">
              <a:lnSpc>
                <a:spcPct val="90000"/>
              </a:lnSpc>
              <a:spcBef>
                <a:spcPts val="1899"/>
              </a:spcBef>
              <a:buClr>
                <a:srgbClr val="000000"/>
              </a:buClr>
              <a:buFont typeface="Helvetica"/>
              <a:buChar char="•"/>
              <a:tabLst>
                <a:tab algn="r" pos="10414080"/>
                <a:tab algn="l" pos="11226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has the greatest magnitude of change in moment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17520">
              <a:lnSpc>
                <a:spcPct val="90000"/>
              </a:lnSpc>
              <a:spcBef>
                <a:spcPts val="1899"/>
              </a:spcBef>
              <a:buClr>
                <a:srgbClr val="000000"/>
              </a:buClr>
              <a:buFont typeface="Helvetica"/>
              <a:buChar char="•"/>
              <a:tabLst>
                <a:tab algn="r" pos="10414080"/>
                <a:tab algn="l" pos="11226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has the greatest magnitude of change in veloc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17520">
              <a:lnSpc>
                <a:spcPct val="90000"/>
              </a:lnSpc>
              <a:spcBef>
                <a:spcPts val="1899"/>
              </a:spcBef>
              <a:buClr>
                <a:srgbClr val="000000"/>
              </a:buClr>
              <a:buFont typeface="Helvetica"/>
              <a:buChar char="•"/>
              <a:tabLst>
                <a:tab algn="r" pos="10414080"/>
                <a:tab algn="l" pos="11226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ehicle is it safest to b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hy?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(Write it down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6627960" y="2254320"/>
            <a:ext cx="2549160" cy="3052800"/>
            <a:chOff x="6627960" y="2254320"/>
            <a:chExt cx="2549160" cy="3052800"/>
          </a:xfrm>
        </p:grpSpPr>
        <p:sp>
          <p:nvSpPr>
            <p:cNvPr id="909" name=""/>
            <p:cNvSpPr/>
            <p:nvPr/>
          </p:nvSpPr>
          <p:spPr>
            <a:xfrm>
              <a:off x="6985080" y="2881440"/>
              <a:ext cx="1440" cy="242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85080" y="4203720"/>
              <a:ext cx="1777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781840" y="410328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27960" y="225432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791400" y="2560320"/>
              <a:ext cx="103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ck on Ca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0" y="438120"/>
            <a:ext cx="5905440" cy="1874880"/>
            <a:chOff x="0" y="438120"/>
            <a:chExt cx="5905440" cy="1874880"/>
          </a:xfrm>
        </p:grpSpPr>
        <p:pic>
          <p:nvPicPr>
            <p:cNvPr id="915" name="" descr=""/>
            <p:cNvPicPr/>
            <p:nvPr/>
          </p:nvPicPr>
          <p:blipFill>
            <a:blip r:embed="rId1"/>
            <a:stretch/>
          </p:blipFill>
          <p:spPr>
            <a:xfrm>
              <a:off x="0" y="438120"/>
              <a:ext cx="590544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1242720" y="1790640"/>
              <a:ext cx="1702080" cy="1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330080" y="2311200"/>
              <a:ext cx="1522440" cy="1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56760" y="154296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17880" y="177156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993960" y="3249720"/>
            <a:ext cx="2477520" cy="1765080"/>
            <a:chOff x="993960" y="3249720"/>
            <a:chExt cx="2477520" cy="1765080"/>
          </a:xfrm>
        </p:grpSpPr>
        <p:sp>
          <p:nvSpPr>
            <p:cNvPr id="921" name=""/>
            <p:cNvSpPr/>
            <p:nvPr/>
          </p:nvSpPr>
          <p:spPr>
            <a:xfrm>
              <a:off x="1255680" y="3808800"/>
              <a:ext cx="1440" cy="109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55680" y="4914720"/>
              <a:ext cx="1779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93960" y="324972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116360" y="3555720"/>
              <a:ext cx="9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 on truck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76200" y="480132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255680" y="4234680"/>
              <a:ext cx="1609200" cy="673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H="1" rot="10800000">
            <a:off x="6985440" y="4241880"/>
            <a:ext cx="1608120" cy="7286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8" name=""/>
          <p:cNvSpPr/>
          <p:nvPr/>
        </p:nvSpPr>
        <p:spPr>
          <a:xfrm>
            <a:off x="4465080" y="4047120"/>
            <a:ext cx="79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Symbol"/>
                <a:ea typeface="Symbol"/>
              </a:rPr>
              <a:t>←</a:t>
            </a: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5057-C3CA-4CFF-BB9A-159C046581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88840" y="216000"/>
            <a:ext cx="8407440" cy="107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The impulse approximat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368280" y="7201080"/>
            <a:ext cx="2552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9.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23880" y="0"/>
            <a:ext cx="6522840" cy="5079960"/>
            <a:chOff x="623880" y="0"/>
            <a:chExt cx="6522840" cy="5079960"/>
          </a:xfrm>
        </p:grpSpPr>
        <p:sp>
          <p:nvSpPr>
            <p:cNvPr id="932" name=""/>
            <p:cNvSpPr/>
            <p:nvPr/>
          </p:nvSpPr>
          <p:spPr>
            <a:xfrm flipH="1">
              <a:off x="6905520" y="5003640"/>
              <a:ext cx="241200" cy="7632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933" name="" descr=""/>
            <p:cNvPicPr/>
            <p:nvPr/>
          </p:nvPicPr>
          <p:blipFill>
            <a:blip r:embed="rId1"/>
            <a:stretch/>
          </p:blipFill>
          <p:spPr>
            <a:xfrm>
              <a:off x="623880" y="0"/>
              <a:ext cx="148608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any collision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f there are no net external forces on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entum is absolutely con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re usually are external forces on the system (e.g. weight for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use conservation of moment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9228-DC07-454C-94CA-6F15127FB46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647280" y="901800"/>
            <a:ext cx="88772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external forc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uch smal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n the collisional (or explosive) forces, and the collision (or explosion) tim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during the collision (or explosion) we can ignore the momentum change due to net external force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mentum is very nearly conserved during collisions or explosions even with external forces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e.g. hitting nail with a hammer + gravity, recoiling gun + gra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ulse approxi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8280" y="7201080"/>
            <a:ext cx="2552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9.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18CB-4EBC-4D94-9779-6CF8407386C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 from 1996 Exa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69800" y="1434960"/>
            <a:ext cx="9220320" cy="542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3720" indent="0">
              <a:lnSpc>
                <a:spcPct val="9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ball of mass 700g is fastened to a cord 800mm long and fixed at the far end at a support, and is released when the cord is horizontal.  At the bottom of its path, the ball strikes a stationary 350g ball suspended from the same support with a cord 800mm long.  The two balls stick together after the coll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) Calculate the speed of the falling ball just before it hits the stationary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) Calculate the speed of the two balls immediately after the coll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 algn="r">
              <a:lnSpc>
                <a:spcPct val="9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7680" y="6272280"/>
            <a:ext cx="3795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423720" indent="-380880" algn="r">
              <a:lnSpc>
                <a:spcPct val="9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[3.9ms</a:t>
            </a:r>
            <a:r>
              <a:rPr b="0" i="1" lang="en-US" sz="2800" spc="-1" strike="noStrike" baseline="30000">
                <a:solidFill>
                  <a:srgbClr val="ff00ff"/>
                </a:solidFill>
                <a:latin typeface="Arial"/>
                <a:ea typeface="Arial"/>
              </a:rPr>
              <a:t>–1</a:t>
            </a:r>
            <a:r>
              <a:rPr b="0" i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; 2.64ms</a:t>
            </a:r>
            <a:r>
              <a:rPr b="0" i="1" lang="en-US" sz="2800" spc="-1" strike="noStrike" baseline="30000">
                <a:solidFill>
                  <a:srgbClr val="ff00ff"/>
                </a:solidFill>
                <a:latin typeface="Arial"/>
                <a:ea typeface="Arial"/>
              </a:rPr>
              <a:t>–1</a:t>
            </a:r>
            <a:r>
              <a:rPr b="0" i="1" lang="en-US" sz="2800" spc="-1" strike="noStrike">
                <a:solidFill>
                  <a:srgbClr val="ff00ff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916F-FCBB-47B3-86AB-FF08585F21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REVIEW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139680" y="393840"/>
            <a:ext cx="9880560" cy="68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74A-45A4-4588-8344-3D132E05B8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355680" y="1701720"/>
            <a:ext cx="9435960" cy="42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7E0-22F2-4B17-ABC0-0FF008A7C5D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representatives are needed for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Junior Physics Staff-Student Liaison Meeting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 18 May at 1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ch will be 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ease put your name on the sheet at the front if you would like to volunte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177840" y="2844720"/>
            <a:ext cx="9791640" cy="491508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3174840" y="-203040"/>
            <a:ext cx="4508640" cy="309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389-7E84-4D9B-AD0C-3EBF081AE7B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139680" y="-1003320"/>
            <a:ext cx="9677520" cy="866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C04-6F10-4C56-8E70-5BED51AA86C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 from 2004 Exa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1181160" y="1498680"/>
            <a:ext cx="7785000" cy="539892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8266680" y="6730920"/>
            <a:ext cx="136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6.26 ms</a:t>
            </a:r>
            <a:r>
              <a:rPr b="0" i="1" lang="en-US" sz="2400" spc="-1" strike="noStrike" baseline="30000">
                <a:solidFill>
                  <a:srgbClr val="ff00ff"/>
                </a:solidFill>
                <a:latin typeface="Arial"/>
                <a:ea typeface="Arial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B61D-748D-4D03-B5DE-6ABA871E2CD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762120" y="1041480"/>
            <a:ext cx="8637480" cy="279864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762120" y="4356000"/>
            <a:ext cx="8637480" cy="202248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6248520" y="3670200"/>
            <a:ext cx="3809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perfectly inelastic; momentum conserved, energy not; 5.98 ms</a:t>
            </a:r>
            <a:r>
              <a:rPr b="0" i="1" lang="en-US" sz="1800" spc="-1" strike="noStrike" baseline="32000">
                <a:solidFill>
                  <a:srgbClr val="ff00ff"/>
                </a:solidFill>
                <a:latin typeface="Arial"/>
                <a:ea typeface="Arial"/>
              </a:rPr>
              <a:t>–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3" name=""/>
          <p:cNvSpPr/>
          <p:nvPr/>
        </p:nvSpPr>
        <p:spPr>
          <a:xfrm>
            <a:off x="8228160" y="6603840"/>
            <a:ext cx="113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13.1 k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EEB-1761-456C-928A-E0AAE5E1948F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ollisions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JF §9.5, 1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7720" y="393840"/>
            <a:ext cx="8471160" cy="107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onservation of momentu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6520" y="1587600"/>
            <a:ext cx="8877240" cy="547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from our discussion of momentum (Lecture 9), that if there are no external forces acting on the system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mentum is con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going to use this law to study coll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6840" y="7201080"/>
            <a:ext cx="170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9.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D062-65CD-493D-A55A-8A833E0676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50400" y="507600"/>
            <a:ext cx="4838760" cy="104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istinguish between two cas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5257800" y="4521240"/>
            <a:ext cx="4616280" cy="30481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5613480" y="317520"/>
            <a:ext cx="4118040" cy="380988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88920" y="2031840"/>
            <a:ext cx="51814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35040" indent="-317520">
              <a:lnSpc>
                <a:spcPct val="100000"/>
              </a:lnSpc>
              <a:spcBef>
                <a:spcPts val="38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elas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lisions, where energy is lost in the collis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"/>
          <p:cNvSpPr/>
          <p:nvPr/>
        </p:nvSpPr>
        <p:spPr>
          <a:xfrm>
            <a:off x="88920" y="5041800"/>
            <a:ext cx="51814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35040" indent="-317520">
              <a:lnSpc>
                <a:spcPct val="100000"/>
              </a:lnSpc>
              <a:spcBef>
                <a:spcPts val="38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as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lisions, where energy is not lost in the collis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9758-7C6C-401F-9D73-7C00AB8D40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Elastic and Plastic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95000" y="1511280"/>
            <a:ext cx="91947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at an object deformed by an external force rapidly returns to its original shape when the force is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done deforming the object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ver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or no thermal energy generated. e.g. rubber band, steel spring, super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ela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eans that an object deformed by an external force is permanently deformed even after the force is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done deforming the object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rrever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ll or most of work done is converted to thermal energy. e.g. wet clay, plast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substances will stretch or bend elastically until they reach their "elastic limit", beyond that they deform plastically (or just break!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11A9-0EDA-4571-8115-0E6D6BE908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Inelastic Collisions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83920" y="1383840"/>
            <a:ext cx="925812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inetic energy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 not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served during the collis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i.e. some KE converted to heat, or sound, or deformation).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omentum is conserved during colli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∴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only one equation to solv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perfectly inelastic collis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, objects stick together after collision → treat the two objects as a single object after collis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llisions are inela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Perfectly inelastic collisions" usually involve easily deformed objects e.g. wet cl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318520" y="7086600"/>
            <a:ext cx="170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9.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02DA-BF3C-48E6-A405-3F24EB983D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1760" y="44280"/>
            <a:ext cx="8636040" cy="151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Inelastic Collision Examples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96880" y="4800600"/>
            <a:ext cx="9182160" cy="224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otions are along x-axis on frictionless surface + to the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092240" y="2330280"/>
            <a:ext cx="3986280" cy="2019240"/>
            <a:chOff x="1092240" y="2330280"/>
            <a:chExt cx="3986280" cy="2019240"/>
          </a:xfrm>
        </p:grpSpPr>
        <p:grpSp>
          <p:nvGrpSpPr>
            <p:cNvPr id="824" name=""/>
            <p:cNvGrpSpPr/>
            <p:nvPr/>
          </p:nvGrpSpPr>
          <p:grpSpPr>
            <a:xfrm>
              <a:off x="1663920" y="3011400"/>
              <a:ext cx="939600" cy="914040"/>
              <a:chOff x="1663920" y="3011400"/>
              <a:chExt cx="939600" cy="914040"/>
            </a:xfrm>
          </p:grpSpPr>
          <p:sp>
            <p:nvSpPr>
              <p:cNvPr id="825" name=""/>
              <p:cNvSpPr/>
              <p:nvPr/>
            </p:nvSpPr>
            <p:spPr>
              <a:xfrm>
                <a:off x="1663920" y="3033720"/>
                <a:ext cx="939600" cy="863640"/>
              </a:xfrm>
              <a:prstGeom prst="rect">
                <a:avLst/>
              </a:prstGeom>
              <a:solidFill>
                <a:srgbClr val="c0ffbb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66800" y="3011400"/>
                <a:ext cx="93204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 =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kg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3305160" y="3011400"/>
              <a:ext cx="1244520" cy="914040"/>
              <a:chOff x="3305160" y="3011400"/>
              <a:chExt cx="1244520" cy="914040"/>
            </a:xfrm>
          </p:grpSpPr>
          <p:sp>
            <p:nvSpPr>
              <p:cNvPr id="828" name=""/>
              <p:cNvSpPr/>
              <p:nvPr/>
            </p:nvSpPr>
            <p:spPr>
              <a:xfrm>
                <a:off x="3305160" y="3033720"/>
                <a:ext cx="1244520" cy="863640"/>
              </a:xfrm>
              <a:prstGeom prst="rect">
                <a:avLst/>
              </a:prstGeom>
              <a:solidFill>
                <a:srgbClr val="ffdfa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463560" y="3011400"/>
                <a:ext cx="93204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 =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kg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1698840" y="3892320"/>
              <a:ext cx="25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fore collision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741680" y="2793960"/>
              <a:ext cx="863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376800" y="2793960"/>
              <a:ext cx="1015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76280" y="2330280"/>
              <a:ext cx="1600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0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s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49640" y="2330280"/>
              <a:ext cx="15238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0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s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92240" y="3886200"/>
              <a:ext cx="3986280" cy="1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36" name=""/>
          <p:cNvSpPr/>
          <p:nvPr/>
        </p:nvSpPr>
        <p:spPr>
          <a:xfrm flipH="1">
            <a:off x="6019920" y="2793960"/>
            <a:ext cx="8618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549760" y="2292480"/>
            <a:ext cx="3987720" cy="2057400"/>
            <a:chOff x="5549760" y="2292480"/>
            <a:chExt cx="3987720" cy="2057400"/>
          </a:xfrm>
        </p:grpSpPr>
        <p:sp>
          <p:nvSpPr>
            <p:cNvPr id="838" name=""/>
            <p:cNvSpPr/>
            <p:nvPr/>
          </p:nvSpPr>
          <p:spPr>
            <a:xfrm>
              <a:off x="6265080" y="3892680"/>
              <a:ext cx="226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collision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5941800" y="3035520"/>
              <a:ext cx="939600" cy="863640"/>
              <a:chOff x="5941800" y="3035520"/>
              <a:chExt cx="939600" cy="863640"/>
            </a:xfrm>
          </p:grpSpPr>
          <p:sp>
            <p:nvSpPr>
              <p:cNvPr id="840" name=""/>
              <p:cNvSpPr/>
              <p:nvPr/>
            </p:nvSpPr>
            <p:spPr>
              <a:xfrm>
                <a:off x="5941800" y="3035520"/>
                <a:ext cx="939600" cy="863640"/>
              </a:xfrm>
              <a:prstGeom prst="rect">
                <a:avLst/>
              </a:prstGeom>
              <a:solidFill>
                <a:srgbClr val="c0ffbb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944680" y="3235680"/>
                <a:ext cx="932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kg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8017920" y="3035520"/>
              <a:ext cx="1244520" cy="863640"/>
              <a:chOff x="8017920" y="3035520"/>
              <a:chExt cx="1244520" cy="863640"/>
            </a:xfrm>
          </p:grpSpPr>
          <p:sp>
            <p:nvSpPr>
              <p:cNvPr id="843" name=""/>
              <p:cNvSpPr/>
              <p:nvPr/>
            </p:nvSpPr>
            <p:spPr>
              <a:xfrm>
                <a:off x="8017920" y="3035520"/>
                <a:ext cx="1244520" cy="863640"/>
              </a:xfrm>
              <a:prstGeom prst="rect">
                <a:avLst/>
              </a:prstGeom>
              <a:solidFill>
                <a:srgbClr val="ffdfa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176320" y="3235680"/>
                <a:ext cx="932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kg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5729040" y="2330640"/>
              <a:ext cx="15116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5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s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862040" y="2292480"/>
              <a:ext cx="14608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</a:t>
              </a:r>
              <a:r>
                <a:rPr b="0" i="1" lang="en-US" sz="3000" spc="-1" strike="noStrike" baseline="-21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 baseline="-21000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?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7056360" y="2641680"/>
              <a:ext cx="775080" cy="1166760"/>
              <a:chOff x="7056360" y="2641680"/>
              <a:chExt cx="775080" cy="1166760"/>
            </a:xfrm>
          </p:grpSpPr>
          <p:sp>
            <p:nvSpPr>
              <p:cNvPr id="848" name=""/>
              <p:cNvSpPr/>
              <p:nvPr/>
            </p:nvSpPr>
            <p:spPr>
              <a:xfrm flipH="1" flipV="1">
                <a:off x="7056360" y="2793600"/>
                <a:ext cx="228600" cy="304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7447320" y="2641680"/>
                <a:ext cx="1440" cy="379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7602120" y="2793600"/>
                <a:ext cx="228600" cy="304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056360" y="3340080"/>
                <a:ext cx="228600" cy="304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447320" y="3429000"/>
                <a:ext cx="1440" cy="379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02840" y="3340080"/>
                <a:ext cx="228600" cy="304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5549760" y="3886200"/>
              <a:ext cx="3987720" cy="1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6196320" y="6620400"/>
            <a:ext cx="3857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3920" tIns="0" bIns="0" anchor="ctr">
            <a:spAutoFit/>
          </a:bodyPr>
          <a:p>
            <a:pPr marL="423720" indent="-380880" algn="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2577960"/>
                <a:tab algn="ctr" pos="5143680"/>
                <a:tab algn="l" pos="6146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2.0 ms</a:t>
            </a:r>
            <a:r>
              <a:rPr b="0" lang="en-US" sz="3000" spc="-1" strike="noStrike" baseline="30000">
                <a:solidFill>
                  <a:srgbClr val="ff00ff"/>
                </a:solidFill>
                <a:latin typeface="Times New Roman"/>
                <a:ea typeface="Times New Roman"/>
              </a:rPr>
              <a:t>-1</a:t>
            </a:r>
            <a:r>
              <a:rPr b="0" lang="en-US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to the left]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104C-564A-4EE7-863E-508F9D145D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1760" y="16488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Perfectly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Inelastic Collis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4672080" y="2266920"/>
            <a:ext cx="5308560" cy="2120760"/>
            <a:chOff x="4672080" y="2266920"/>
            <a:chExt cx="5308560" cy="2120760"/>
          </a:xfrm>
        </p:grpSpPr>
        <p:sp>
          <p:nvSpPr>
            <p:cNvPr id="858" name=""/>
            <p:cNvSpPr/>
            <p:nvPr/>
          </p:nvSpPr>
          <p:spPr>
            <a:xfrm>
              <a:off x="4672080" y="3828960"/>
              <a:ext cx="53085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collision, stuck together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539040" y="3009960"/>
              <a:ext cx="939960" cy="863640"/>
              <a:chOff x="6539040" y="3009960"/>
              <a:chExt cx="939960" cy="863640"/>
            </a:xfrm>
          </p:grpSpPr>
          <p:sp>
            <p:nvSpPr>
              <p:cNvPr id="860" name=""/>
              <p:cNvSpPr/>
              <p:nvPr/>
            </p:nvSpPr>
            <p:spPr>
              <a:xfrm>
                <a:off x="6539040" y="3009960"/>
                <a:ext cx="939960" cy="863640"/>
              </a:xfrm>
              <a:prstGeom prst="rect">
                <a:avLst/>
              </a:prstGeom>
              <a:solidFill>
                <a:srgbClr val="c0ffbb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545160" y="3216240"/>
                <a:ext cx="932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kg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478640" y="3009960"/>
              <a:ext cx="1244520" cy="863640"/>
              <a:chOff x="7478640" y="3009960"/>
              <a:chExt cx="1244520" cy="863640"/>
            </a:xfrm>
          </p:grpSpPr>
          <p:sp>
            <p:nvSpPr>
              <p:cNvPr id="863" name=""/>
              <p:cNvSpPr/>
              <p:nvPr/>
            </p:nvSpPr>
            <p:spPr>
              <a:xfrm>
                <a:off x="7478640" y="3009960"/>
                <a:ext cx="1244520" cy="863640"/>
              </a:xfrm>
              <a:prstGeom prst="rect">
                <a:avLst/>
              </a:prstGeom>
              <a:solidFill>
                <a:srgbClr val="ffdfa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8120" y="3216240"/>
                <a:ext cx="932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kg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6878880" y="2266920"/>
              <a:ext cx="146016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</a:t>
              </a:r>
              <a:r>
                <a:rPr b="0" i="1" lang="en-US" sz="3000" spc="-1" strike="noStrike" baseline="-21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 baseline="-21000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?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99080" y="3873600"/>
              <a:ext cx="3988080" cy="1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6247080" y="6436440"/>
            <a:ext cx="3857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3920" tIns="0" bIns="0" anchor="ctr">
            <a:spAutoFit/>
          </a:bodyPr>
          <a:p>
            <a:pPr marL="423720" indent="-38088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2577960"/>
                <a:tab algn="ctr" pos="5143680"/>
                <a:tab algn="r" pos="10007640"/>
                <a:tab algn="l" pos="1019808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[2.6 ms</a:t>
            </a:r>
            <a:r>
              <a:rPr b="0" lang="en-US" sz="3000" spc="-1" strike="noStrike" baseline="30000">
                <a:solidFill>
                  <a:srgbClr val="ff00ff"/>
                </a:solidFill>
                <a:latin typeface="Times New Roman"/>
                <a:ea typeface="Times New Roman"/>
              </a:rPr>
              <a:t>-1</a:t>
            </a:r>
            <a:r>
              <a:rPr b="0" lang="en-US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to the left]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092240" y="2330280"/>
            <a:ext cx="3986280" cy="2019240"/>
            <a:chOff x="1092240" y="2330280"/>
            <a:chExt cx="3986280" cy="2019240"/>
          </a:xfrm>
        </p:grpSpPr>
        <p:grpSp>
          <p:nvGrpSpPr>
            <p:cNvPr id="869" name=""/>
            <p:cNvGrpSpPr/>
            <p:nvPr/>
          </p:nvGrpSpPr>
          <p:grpSpPr>
            <a:xfrm>
              <a:off x="1663920" y="3011400"/>
              <a:ext cx="939600" cy="914040"/>
              <a:chOff x="1663920" y="3011400"/>
              <a:chExt cx="939600" cy="914040"/>
            </a:xfrm>
          </p:grpSpPr>
          <p:sp>
            <p:nvSpPr>
              <p:cNvPr id="870" name=""/>
              <p:cNvSpPr/>
              <p:nvPr/>
            </p:nvSpPr>
            <p:spPr>
              <a:xfrm>
                <a:off x="1663920" y="3033720"/>
                <a:ext cx="939600" cy="863640"/>
              </a:xfrm>
              <a:prstGeom prst="rect">
                <a:avLst/>
              </a:prstGeom>
              <a:solidFill>
                <a:srgbClr val="c0ffbb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666800" y="3011400"/>
                <a:ext cx="93204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 =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kg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3305160" y="3011400"/>
              <a:ext cx="1244520" cy="914040"/>
              <a:chOff x="3305160" y="3011400"/>
              <a:chExt cx="1244520" cy="914040"/>
            </a:xfrm>
          </p:grpSpPr>
          <p:sp>
            <p:nvSpPr>
              <p:cNvPr id="873" name=""/>
              <p:cNvSpPr/>
              <p:nvPr/>
            </p:nvSpPr>
            <p:spPr>
              <a:xfrm>
                <a:off x="3305160" y="3033720"/>
                <a:ext cx="1244520" cy="863640"/>
              </a:xfrm>
              <a:prstGeom prst="rect">
                <a:avLst/>
              </a:prstGeom>
              <a:solidFill>
                <a:srgbClr val="ffdfa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463560" y="3011400"/>
                <a:ext cx="93204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 =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kg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1698840" y="3892320"/>
              <a:ext cx="25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fore collision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41680" y="2793960"/>
              <a:ext cx="863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376800" y="2793960"/>
              <a:ext cx="1015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76280" y="2330280"/>
              <a:ext cx="1600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0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s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49640" y="2330280"/>
              <a:ext cx="15238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0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s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92240" y="3886200"/>
              <a:ext cx="3986280" cy="1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596880" y="4800600"/>
            <a:ext cx="918216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otions are along x-axis on frictionless surface + to the righ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8A8F-0ABB-4BAF-B205-B39C1CF259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